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7725-D2BC-4DEF-86FF-82AD12596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11654-D558-44ED-86E4-F65082BB3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1ABD-217A-4D8F-AEA1-1FA0DCCEA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ACCF-C7B9-413D-99F6-DFF956A68B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A9E59-0247-4B3B-9AFB-CC2E96253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9C666-6DC8-4ACF-9D9C-EE89F381FF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C4DD-533F-4CD3-9AB1-143BD513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3C5F-1466-4604-84D8-4FAE5D9D0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3FFA-4CC8-45F2-8C98-F88FCE95D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B8A0-2218-49B2-A079-7E3BB49FE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E2CE-EDCE-4394-9014-3E7B4F840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88BBF-44BC-4816-AC66-FB4D3649D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E90AA-DD1F-4048-8C99-2EB1D9A82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DC0D-3A8E-44B7-B4A0-8EA2B6081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4B2F1-DCB6-430A-9C0C-1EC177DFC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FFAC-03D3-4052-A727-F58290932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2CE8E-22E0-42F8-9ED4-C419D9F77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10A3-04FF-453E-9386-F8634AA06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BEF0E-9BC2-488C-8ADA-891421A1A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0B2F-4491-4B86-AED3-C1B473691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9435-9E8B-4BD8-BDF2-6F1B7BAD26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A461E-AF2C-4F1D-A5D3-ACED07C19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E11A-971A-4317-BE83-2D0955ACD0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143000" y="685800"/>
            <a:ext cx="6858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COLORS ARE MISSING FROM THESE BOOK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38080" y="762120"/>
            <a:ext cx="74678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URP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419040" y="762120"/>
            <a:ext cx="8305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ARL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71680" y="762120"/>
            <a:ext cx="8001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484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47640" y="754200"/>
            <a:ext cx="78487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628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1066680" y="4876920"/>
            <a:ext cx="70106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Y / GR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533520" y="762120"/>
            <a:ext cx="80769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257480" y="762120"/>
            <a:ext cx="6629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7621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COLOR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ICE WALKER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ROLD AND THE ____ CRAY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ROCKETT JOHNSON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98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IL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92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ROME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LDOUS HUXLE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LF OF A ____ SU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HIMAMANDA NGOZI ADICHIE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0" y="762120"/>
            <a:ext cx="91440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BU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DGAR ALLAN PO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OL’S 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MARO DOUKA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647640" y="7617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LETTER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ATHANIEL HAWTHORN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IMPERNEL (EMMUSKA ORCZY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47640" y="762120"/>
            <a:ext cx="784872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OLEANDE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NET FITCH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FANG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CK LONDON)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71320" y="7621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MI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STEPHEN KING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NE OF ____ G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L. M. MONTGOMERY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PICTURE OF DORIAN ____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OSCAR WILD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IFTY SHADES OF ____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E. L. JAM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DAHL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AMES ELLROY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WAT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YCE CAROL OATES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PON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JOHN STEINBECK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T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ANITA DIAMANT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____ CHAI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C. S. LEWI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R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____ NUTME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(NORAH LOFTS)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8:57:58Z</dcterms:created>
  <dc:creator>Jennifer Budzinski</dc:creator>
  <dc:description/>
  <dc:language>en-US</dc:language>
  <cp:lastModifiedBy>Erich Friedman</cp:lastModifiedBy>
  <dcterms:modified xsi:type="dcterms:W3CDTF">2020-09-01T18:38:53Z</dcterms:modified>
  <cp:revision>350</cp:revision>
  <dc:subject/>
  <dc:title>Slide 1</dc:title>
</cp:coreProperties>
</file>