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BA31-E3E1-4226-8EBC-1248B94D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7CFD-3D40-4F1D-8A16-DC301D047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F948-9526-4590-9D7B-98F1510A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ECBE-705C-4FEA-A00F-614FF252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6BF1-3CDB-4438-B421-1E5B98E24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506A-A675-4E64-B6AB-4142C387D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76AA-2496-4B7C-8A92-526B0060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628-1AFE-4012-A99C-65170B45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E21-9E5E-4B96-8BAC-2975480A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0DE-E9E8-4A9A-A233-B27572F0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C80C-4B5E-4417-A6AB-248353065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9D27-5AC1-48BA-95CE-CE2E22BE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459-3891-43CC-BBCF-31EC9780E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B3B-563D-4178-9701-9DC86120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63D6-881B-454A-AB9B-E8A5A0FD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7495-08D7-4621-A42A-3BB7F8BB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F10-7FDB-4922-97CF-6785B86E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3660-DCD2-410E-AB3A-02A69CFC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4634-1A38-4284-9E0F-31B7C995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541-0024-473E-9460-6C165AE6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1EEF-6FF1-4573-BE60-4EEE6FACB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6224-5FE6-4618-97AC-00390037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284D-F3CE-4C8D-9D46-9289AF84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ORS ARE MISSING FROM THESE BOOK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5420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Y /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92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8:57:58Z</dcterms:created>
  <dc:creator>Jennifer Budzinski</dc:creator>
  <dc:description/>
  <dc:language>en-US</dc:language>
  <cp:lastModifiedBy>Erich Friedman</cp:lastModifiedBy>
  <dcterms:modified xsi:type="dcterms:W3CDTF">2020-09-01T18:38:53Z</dcterms:modified>
  <cp:revision>350</cp:revision>
  <dc:subject/>
  <dc:title>Slide 1</dc:title>
</cp:coreProperties>
</file>