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1A98-22A9-4C12-B50A-6BC1C39D1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D775-41BD-4190-ADCC-DAACDA23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A4C2-888A-4520-9229-83D0A9E9F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B263-55DC-4B3D-8E9F-3483D3CB7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DB2E-E6E9-48FF-A735-2C00FA13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3FDC-1CF0-4BFB-BB78-F4DD5BBA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D99D-CC5A-4A72-BFB2-F7CCC4E82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9565-2632-4880-89B2-995A046F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1B5E-87E8-43FA-9AEE-D8D61A07B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35BC-39C3-4311-B8A2-504C3F00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C470-26B4-47D1-AB88-540D9F2DB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42D1-B6A9-4931-A70C-603E33E74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0664-E470-40CD-A8D5-807DF0BD8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B29C-3774-4219-9C8B-D77F4B054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4AEC-994E-45A3-9BDC-9DA2D1455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71F0-CCEA-47A3-9476-9CAC47F63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9D68-AA4C-43EA-8BC8-A1E4063D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76C0-30AE-4C92-9CB4-1DD01D51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1E7D-576A-4EC2-85F3-9B39F279A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8822-1B48-4DA8-959F-C0BCC3DAA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5F99-26F4-412E-A02D-8E195B2A3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6737-D818-44EF-8C48-90D83D8A7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71A2-23C8-48B7-8C49-D9E62E1FE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TOURISTY "RING OF KER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"RINGING IN THE E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WROTE THE SONG "RING OF FIRE" WITH MERLE KILG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104840" y="4419720"/>
            <a:ext cx="6934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,  YELLOW,  BLACK,  GREEN  &amp;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COLORS OF  THE 5 OLYMPIC R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CONTINENT   IS THE RING-NECKED DOVE MOST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VERM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E FAMOUS PAINTING "GIRL WITH A PEARL EARR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 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NGTH OF        THE SIDE OF A STANDARD PROFESSIONAL BOXING RING?  16 FEET, 20 FEET, OR 24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Z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YDROCARBON RING HAS CHEMICAL FORMULA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Y  TOM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FAMOUS FOR SAYING "ONE RINGY DINGY, TWO RINGY DING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WROTE THE SONG "RING OF FIRE" WITH MERLE KILG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DUCT SUPPOSEDLY PREVENTED "RING AROUND THE COLL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TOURISTY "RING OF KER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NI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"RINGING IN THE EA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COLORS OF THE 5 OLYMPIC R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CONTINENT   IS THE RING-NECKED DOVE MOST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E FAMOUS PAINTING "GIRL WITH A PEARL EARR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NGTH OF       THE SIDE OF A STANDARD PROFESSIONAL BOXING RING? 16 FEET, 20 FEET, OR 24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09800" y="762120"/>
            <a:ext cx="7124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YDROCARBON RING HAS CHEMICAL FORMULA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04880" y="723960"/>
            <a:ext cx="7734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FAMOUS FOR SAYING "ONE RINGY DINGY, TWO RINGY DING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DUCT SUPPOSEDLY PREVENTED "RING AROUND THE COLL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03:01:38Z</dcterms:created>
  <dc:creator>Jennifer Budzinski</dc:creator>
  <dc:description/>
  <dc:language>en-US</dc:language>
  <cp:lastModifiedBy>Erich Friedman</cp:lastModifiedBy>
  <dcterms:modified xsi:type="dcterms:W3CDTF">2020-09-04T12:20:38Z</dcterms:modified>
  <cp:revision>258</cp:revision>
  <dc:subject/>
  <dc:title>Slide 1</dc:title>
</cp:coreProperties>
</file>