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E8D5-47A6-43F4-8F61-41FAF6C97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DDF4-D247-4E48-AC05-6F51EC76E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338E-5575-4604-9F0C-2063E15F2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6888-498F-40B3-B9CF-F88A1CC4C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D26C-D55B-45A4-B0E2-EEED15E00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5BFF-FDCD-470C-841C-500422A1A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E99A-A8DF-4317-9BC8-7E936A1F9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DC2B-310B-4758-8BA9-9FC7E6DD9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534E-D90A-4841-9DCA-97F112CB2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8E81-A64D-45B9-A323-E97F40F82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2BAC-7FD4-4540-BD67-31B05FB5F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8B2C-0808-4A40-BA0A-E38AAB45E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9CC5-870A-4CA6-A04D-E1F304EDF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9B69-3FB0-4A56-B7ED-1E4135C49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7E98-9D51-40CB-B92E-51AA57F06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326E-9087-4F28-BF7D-F7BECEA5C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6724-6B90-4E1B-BB73-77D36380F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B5BF-04C0-4BEE-AF80-04E60D1A1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E781-6D81-44CB-8EAB-167730803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A728-2C6C-4FCC-AE8E-FDDDA79A1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46CE-B37E-4F0E-BD44-9A0EE4FE1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380F-5C17-4A31-8902-1F1FD1A32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C4E5-0CFA-4EC3-97EA-8C0F0CE5E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IN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CONTAINS THE TOURISTY "RING OF KER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DICAL TERM FOR "RINGING IN THE EA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NE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WROTE THE SONG "RING OF FIRE" WITH MERLE KILG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104840" y="4419720"/>
            <a:ext cx="693432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,  YELLOW,  BLACK,  GREEN  &amp;  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COLORS OF  THE 5 OLYMPIC R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62120"/>
            <a:ext cx="6705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ICH CONTINENT   IS THE RING-NECKED DOVE MOST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952880"/>
            <a:ext cx="8229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ES  VERM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THE FAMOUS PAINTING "GIRL WITH A PEARL EARR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 F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ENGTH OF        THE SIDE OF A STANDARD PROFESSIONAL BOXING RING?  16 FEET, 20 FEET, OR 24 F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Z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85760" y="762120"/>
            <a:ext cx="6972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YDROCARBON RING HAS CHEMICAL FORMULA 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LY  TOM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IS FAMOUS FOR SAYING "ONE RINGY DINGY, TWO RINGY DING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WROTE THE SONG "RING OF FIRE" WITH MERLE KILGO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DUCT SUPPOSEDLY PREVENTED "RING AROUND THE COLL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CONTAINS THE TOURISTY "RING OF KER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NI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DICAL TERM FOR "RINGING IN THE EA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COLORS OF THE 5 OLYMPIC R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ICH CONTINENT   IS THE RING-NECKED DOVE MOST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THE FAMOUS PAINTING "GIRL WITH A PEARL EARR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ENGTH OF       THE SIDE OF A STANDARD PROFESSIONAL BOXING RING? 16 FEET, 20 FEET, OR 24 F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09800" y="762120"/>
            <a:ext cx="7124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YDROCARBON RING HAS CHEMICAL FORMULA C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04880" y="723960"/>
            <a:ext cx="7734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IS FAMOUS FOR SAYING "ONE RINGY DINGY, TWO RINGY DING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DUCT SUPPOSEDLY PREVENTED "RING AROUND THE COLL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9T03:01:38Z</dcterms:created>
  <dc:creator>Jennifer Budzinski</dc:creator>
  <dc:description/>
  <dc:language>en-US</dc:language>
  <cp:lastModifiedBy>Erich Friedman</cp:lastModifiedBy>
  <dcterms:modified xsi:type="dcterms:W3CDTF">2020-09-04T12:20:38Z</dcterms:modified>
  <cp:revision>258</cp:revision>
  <dc:subject/>
  <dc:title>Slide 1</dc:title>
</cp:coreProperties>
</file>