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17BC-A0ED-4970-974A-E209B9EFC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4372-A937-4FF0-8E9D-5DE248BC7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6C04-1AD5-4DC3-A27C-52158BE8E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0CE7-CEB0-4E58-BC15-A11B4970E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7F9C-ACE2-48CA-9EF1-F4732C0E5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29DB-CEBD-43C5-8118-8320182E8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FCAE-60B9-4BB9-AC5A-EB2761366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422D-7606-4627-BF6B-E7D3286A3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C47C-C691-4AD5-BC48-EF26CAF90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C305-C13D-49BB-86ED-94A6BA5AB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A0D1-6CBD-4D05-99EB-E2947F4A0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6FF0-32DC-4A14-8C96-3F9D80302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84F7-D669-407E-9542-5581802B7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0472-1D8A-4405-B2E1-A71E5EFA4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E472-460A-4142-9188-A4768D547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1FD6-20C3-4D32-AE9C-1BEE311A0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6444-91B4-4590-BD55-0325114BC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2730-0CE5-45F2-B7F8-B2F5D11E7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9D95-9695-437D-A5A3-BAB68C0DF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D413-CD37-457E-A048-5259EC367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272E-607E-4DD1-BE3E-43F78F7AA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5724-E1D8-4201-9416-D46ECAAF2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77F2-A23D-4207-8AB3-0E800FCA1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BEEN DOMINANT IN WOMEN'S WATER POLO EVER SINCE 2000, WHEN IT WAS ADDED AS AN OLYMPIC 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4 LARGEST WATER PARK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 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GER WATERS WAS THE LEAD SINGER FOR WHAT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NIOTIC  FLU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A PREGNANT WOMAN'S "WATER" BREAKS, WHAT IS THE LIQUID INVOL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WATER", THE B-SIDE TO THEIR HIT SONG "5:15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DROGEN  AND 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ELEMENTS COMBINE TO MAK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  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TWO UTILITIES IN MONOPOLY IS "WATER WORKS".  WHAT IS THE OTHER UTILIT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600200" y="800280"/>
            <a:ext cx="5943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ATER BUFFALO IS NATIVE TO WHAT CONTIN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HAPE  OF 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WHOSE TITLE CONTAINS THE WORD "WATER" WON THE ACADEMY AWARD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GER WATERS WAS THE LEAD SINGER FOR WHAT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.  NIGHT  SHYAM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PRODUCED, DIRECTED, AND APPEARED IN THE FANTASY FILM "LADY IN THE WA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NITED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BEEN DOMINANT IN WOMEN'S WATER POLO EVER SINCE 2000, WHEN IT WAS ADDED AS AN OLYMPIC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19320" y="762120"/>
            <a:ext cx="6705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4 LARGEST WATER PARK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A PREGNANT WOMAN'S "WATER" BREAKS, WHAT IS THE LIQUID INVOL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WATER", THE B-SIDE TO THEIR HIT SONG "5:15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ELEMENTS COMBINE TO MAKE W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TWO UTILITIES IN MONOPOLY IS "WATER WORKS".  WHAT IS THE OTHER UTILIT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ATER BUFFALO IS NATIVE TO WHAT CONTIN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WHOSE TITLE CONTAINS THE WORD "WATER" WON THE ACADEMY AWARD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PRODUCED, DIRECTED, AND APPEARED IN THE FANTASY FILM "LADY IN THE WA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7T22:26:08Z</dcterms:created>
  <dc:creator>Jennifer Budzinski</dc:creator>
  <dc:description/>
  <dc:language>en-US</dc:language>
  <cp:lastModifiedBy>Erich Friedman</cp:lastModifiedBy>
  <dcterms:modified xsi:type="dcterms:W3CDTF">2020-09-04T16:44:33Z</dcterms:modified>
  <cp:revision>331</cp:revision>
  <dc:subject/>
  <dc:title>Slide 1</dc:title>
</cp:coreProperties>
</file>