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0A58-26ED-4A22-9BAA-CFB3567B5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C6E4-6209-4224-A9F9-45824418E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AA8C-F109-4BB8-A449-C1E31430E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4D42-7ECB-4431-80E6-2F0A9F325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DBE5-2829-403F-B167-46F0CF82A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89F0-A9D3-4D68-914D-52D8E754F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8B17-F031-414C-9D51-323E04B4E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8C2F-66BC-4BAD-B76A-790401BFD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1CA3-FF8D-4CB9-8047-E7E3DE3CB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1861-9D59-4825-B21E-D5A72E18D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2E38-5F4B-4C75-8491-E85EBF4CB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AE3E-D06E-45E2-A93E-90164AF71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71E5-1F00-43F2-BB1D-62EFC860F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8049E-297C-41E3-8956-4FC18258B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8F43-449A-43D0-87AC-9B1FB72AB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FE7C-D49B-4D76-91C3-6F1FE0257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C65A-D524-4D8B-8E1D-AB77BA8C7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55D1-AD73-4151-980A-146E0842F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B546-6B2F-4A13-9C3D-72976F983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D356-800C-4A2F-BECD-E9749FFDE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D8D8-8B8B-4426-A575-83C0F9189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CE89-C063-4206-93D8-1CBBCB801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0293-05F1-49AB-B6CE-F45B66EF9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BEEN DOMINANT IN WOMEN'S WATER POLO EVER SINCE 2000, WHEN IT WAS ADDED AS AN OLYMPIC S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4 LARGEST WATER PARK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  FL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GER WATERS WAS THE LEAD SINGER FOR WHAT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NIOTIC  FLU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A PREGNANT WOMAN'S "WATER" BREAKS, WHAT IS THE LIQUID INVOL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WATER", THE B-SIDE TO THEIR HIT SONG "5:15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DROGEN  AND 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ELEMENTS COMBINE TO MAK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  COMP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THE TWO UTILITIES IN MONOPOLY IS "WATER WORKS".  WHAT IS THE OTHER UTILIT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600200" y="800280"/>
            <a:ext cx="5943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ATER BUFFALO IS NATIVE TO WHAT CONTIN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HAPE  OF 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WHOSE TITLE CONTAINS THE WORD "WATER" WON THE ACADEMY AWARD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GER WATERS WAS THE LEAD SINGER FOR WHAT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.  NIGHT  SHYAM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PRODUCED, DIRECTED, AND APPEARED IN THE FANTASY FILM "LADY IN THE WA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NITED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BEEN DOMINANT IN WOMEN'S WATER POLO EVER SINCE 2000, WHEN IT WAS ADDED AS AN OLYMPIC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L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19320" y="762120"/>
            <a:ext cx="6705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4 LARGEST WATER PARK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A PREGNANT WOMAN'S "WATER" BREAKS, WHAT IS THE LIQUID INVOLV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WATER", THE B-SIDE TO THEIR HIT SONG "5:15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ELEMENTS COMBINE TO MAKE W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OF THE TWO UTILITIES IN MONOPOLY IS "WATER WORKS".  WHAT IS THE OTHER UTILIT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ATER BUFFALO IS NATIVE TO WHAT CONTIN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WHOSE TITLE CONTAINS THE WORD "WATER" WON THE ACADEMY AWARD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PRODUCED, DIRECTED, AND APPEARED IN THE FANTASY FILM "LADY IN THE WA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7T22:26:08Z</dcterms:created>
  <dc:creator>Jennifer Budzinski</dc:creator>
  <dc:description/>
  <dc:language>en-US</dc:language>
  <cp:lastModifiedBy>Erich Friedman</cp:lastModifiedBy>
  <dcterms:modified xsi:type="dcterms:W3CDTF">2020-09-04T16:44:33Z</dcterms:modified>
  <cp:revision>331</cp:revision>
  <dc:subject/>
  <dc:title>Slide 1</dc:title>
</cp:coreProperties>
</file>