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9D6-534A-4185-87CB-EACE5E9EE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DEFD-C302-4E2A-ACB4-C92C1117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253-C30E-48C2-9E79-D880069F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314-DBC3-473C-8EEB-8826CB33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D58-15FA-4B81-9F2D-59024AF9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62A6-835E-4600-B2DB-8966FEDC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CAB6-A9B2-4A6A-804E-40F150B6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E1A9-EEB9-43DF-9429-3EED95A0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3DB0-4EB7-4A50-9823-E2578FA7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7E54-790D-4034-8CEB-C6CF89C4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3163-F61F-428A-9890-B3CC329E1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0AA3-AC26-4236-A7D9-43F6AE0A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5DB-2A1C-473E-8636-AA5C1FB7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871-0DDC-463D-BB45-7E915B00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E28-4BB4-4FA0-AF1A-B1992CF2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E1D-54D6-48F6-B248-873C742B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6BE-3D36-451D-BCAC-69C4345E2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07F1-90F4-42E0-90B2-A1A37A58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11D-E0E6-4E48-8DDD-704CF8F7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828F-ACE1-4D6E-A7C1-6684283C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A0D6-A84C-4B39-901D-0DEC2E950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045F-5A69-4209-8559-B8932AEA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DCB-7178-49C5-AAFB-18648511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EEN DOMINANT IN WOMEN'S WATER POLO EVER SINCE 2000, WHEN IT WAS ADDED AS AN OLYMPIC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LARGEST WATER PARK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WATERS WAS THE LEAD SINGER FOR WHA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NIOTIC  FLU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 PREGNANT WOMAN'S "WATER" BREAKS, WHAT IS THE LIQUID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TER", THE B-SIDE TO THEIR HIT SONG 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  AND 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ELEMENTS COMBINE TO MAK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TWO UTILITIES IN MONOPOLY IS "WATER WORKS".  WHAT IS THE OTHER UTILIT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800280"/>
            <a:ext cx="5943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ATER BUFFALO IS NATIVE TO WHAT CONTIN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PE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HOSE TITLE CONTAINS THE WORD "WATER" WON THE ACADEMY AWAR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WATERS WAS THE LEAD SINGER FOR WHA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  NIGHT  SHYAM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DIRECTED, AND APPEARED IN THE FANTASY FILM "LADY IN THE WA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EEN DOMINANT IN WOMEN'S WATER POLO EVER SINCE 2000, WHEN IT WAS ADDED AS AN OLYMPIC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19320" y="762120"/>
            <a:ext cx="67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LARGEST WATER PARK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 PREGNANT WOMAN'S "WATER" BREAKS, WHAT IS THE LIQUID INVOL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TER", THE B-SIDE TO THEIR HIT SONG 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ELEMENTS COMBINE TO MAKE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TWO UTILITIES IN MONOPOLY IS "WATER WORKS".  WHAT IS THE OTHER UTILIT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ATER BUFFALO IS NATIVE TO WHAT CONTIN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HOSE TITLE CONTAINS THE WORD "WATER" WON THE ACADEMY AWAR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DIRECTED, AND APPEARED IN THE FANTASY FILM "LADY IN THE WA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22:26:08Z</dcterms:created>
  <dc:creator>Jennifer Budzinski</dc:creator>
  <dc:description/>
  <dc:language>en-US</dc:language>
  <cp:lastModifiedBy>Erich Friedman</cp:lastModifiedBy>
  <dcterms:modified xsi:type="dcterms:W3CDTF">2020-09-04T16:44:33Z</dcterms:modified>
  <cp:revision>331</cp:revision>
  <dc:subject/>
  <dc:title>Slide 1</dc:title>
</cp:coreProperties>
</file>