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C68-3364-4731-8248-170A97BA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440-E0B9-44B9-8C81-CF24D307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346E-3D84-436F-88C9-295E4634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289C-FAC8-4604-B695-B995AEC9A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3516-BEF7-4653-9E57-97321DE01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6E0-A837-451C-A1FE-7808E5E36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22B0-3B18-45FC-A844-2B0A3BEB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CC9-F6C3-4CE3-B341-08F8B9B3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8793-A019-44E2-B3D2-F772AF22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1CDD-0D3A-4D18-86EE-2288CDB3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9400-FC7D-4A48-B483-6E8E0602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FEE5-6009-4FB5-9658-C5618225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E04B-EFA9-4F26-8EAB-A6D56036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871-42E7-4952-9208-86F2109D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6D9-6317-43B1-B64C-A2073AB9C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E5C-6CB3-49EE-887E-FC67E7B8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B47F-5CD1-4B09-8F90-D8CB9041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A55B-52EC-4D78-B372-EDCF2938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749-3863-4200-B1F8-9679F421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6C8-B6D5-46B6-9C6F-C840D6F2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B09-A8A1-40BC-AC74-768DC0190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11FD-FF47-41FC-AB69-A2290575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B1A-DE67-4354-80ED-81091882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85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CK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3434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OFFICIALLY  CONTAINS   ISLANDS  AROUND  THE 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68580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DONA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HERS  (1 LB GOLD = 12 OZ, 1 LB FEATHERS = 16 O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267080"/>
            <a:ext cx="792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(ACCORDING  TO OUR  GREGORIAN  CALEND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343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  (THE  EARTH  BULGES  AROUND  THE  EQU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THE MOUNTAIN PEAK FARTHEST FROM THE CENTER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BRUNSWICK  (QUEBEC'S OFFICIAL  LANGUAGE  IS  FREN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  (SOME  PARTS  ARE  SO FAR  WEST,  THEY  ARE  EA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23960"/>
            <a:ext cx="6172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 THE MOUNTAIN PEAK FARTHEST FROM THE CENTER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22:21:42Z</dcterms:created>
  <dc:creator>Jennifer Budzinski</dc:creator>
  <dc:description/>
  <dc:language>en-US</dc:language>
  <cp:lastModifiedBy>Erich Friedman</cp:lastModifiedBy>
  <dcterms:modified xsi:type="dcterms:W3CDTF">2020-09-04T16:46:29Z</dcterms:modified>
  <cp:revision>346</cp:revision>
  <dc:subject/>
  <dc:title>Slide 1</dc:title>
</cp:coreProperties>
</file>