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EC9C9-8A67-4450-8E47-C5A67730A0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380CC-255E-431D-9F59-86847561B2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B0D9A-5385-4D3C-834E-7C87E5E9F8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3C4BA-6C8A-4D4E-81D2-94E980C459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A96E3-3CC4-41C3-8F0D-DAA96E17B8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23874-BB78-4B3A-B69B-5016AD16D4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177A5-8770-4ED7-9694-D11CA0FAC6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B2FA4-F43A-4B43-A632-3CC5971509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5CA29-B227-426D-BFE3-A245CA57FD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2E8ED-725E-40EA-B30F-FD445F4F63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70B76-507C-4853-99B9-B5E740CBF7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53600-1151-4C98-8CEA-45B203C75F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FE198-F1E0-4135-957E-7BFD29D61F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A9441-B81A-431E-8F00-4CA0802A8A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62B50-062B-4E98-9D67-D7F8083E97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E0127-0CDB-49F6-97FE-05BB819B99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F1C50-C826-48E4-A7A0-57A86DEDFF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264B0-1F69-4AB8-928D-702A62E0FB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6A58A-3643-4FBB-8904-EA495B5B9F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65001-DA74-46D0-BE76-5A7E01C750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0F1D6-F73B-4D73-9A48-DB9A0966C4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CFF3F-E992-4549-848D-18097219BA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7CA66-08B4-4B6A-AD92-E80FA83DBE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143000" y="1485720"/>
            <a:ext cx="6858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ICK QUES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143000" y="761760"/>
            <a:ext cx="6858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URING A RACE, IF YOU PASS THE RUNNER IN 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PLACE, WHAT PLACE ARE YOU NOW I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1486080" y="762120"/>
            <a:ext cx="61722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U.S. STATE IS THE FARTHEST EA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380880" y="434340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ANCE  (OFFICIALLY  CONTAINS   ISLANDS  AROUND  THE  WORLD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990720" y="685800"/>
            <a:ext cx="716256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IN EUROPE CONTAINS LAND THE FARTHEST SOUT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TARCT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838080" y="762120"/>
            <a:ext cx="74678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ONTINENT CONTAINS THE LARGEST DESERT IN THE WORL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0060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CDONAL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028880" y="762120"/>
            <a:ext cx="7086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PANY IS THE WORLD'S LARGEST DISTRIBUTOR OF TOY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914400" y="4267080"/>
            <a:ext cx="73152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EATHERS  (1 LB GOLD = 12 OZ, 1 LB FEATHERS = 16 OZ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990720" y="762120"/>
            <a:ext cx="7162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WEIGHS MORE, A POUND OF GOLD OR A POUND OF FEATH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609480" y="4267080"/>
            <a:ext cx="79250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6000"/>
          </a:bodyPr>
          <a:p>
            <a:pPr marL="191880" indent="-191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OVEMBER  (ACCORDING  TO OUR  GREGORIAN  CALENDA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104840" y="762120"/>
            <a:ext cx="69343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MONTH DID THE "OCTOBER REVOLUTION" TAKE PLA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EG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066680" y="762120"/>
            <a:ext cx="70106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PANY HAS MADE THE MOST TIR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685800" y="434340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CUADOR  (THE  EARTH  BULGES  AROUND  THE  EQUATO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028880" y="762120"/>
            <a:ext cx="7086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COUNTRY IS    THE MOUNTAIN PEAK FARTHEST FROM THE CENTER OF THE EART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IN EUROPE CONTAINS LAND THE FARTHEST SOUTH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343400"/>
            <a:ext cx="84582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marL="188640" indent="-188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EW  BRUNSWICK  (QUEBEC'S OFFICIAL  LANGUAGE  IS  FRENCH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800280" y="762120"/>
            <a:ext cx="75438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OFFICIALLY BILINGUAL PROVINCE IN CANAD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2362320" y="4876920"/>
            <a:ext cx="44956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PL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143000" y="762120"/>
            <a:ext cx="68580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URING A RACE, IF YOU PASS THE RUNNER IN 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PLACE, WHAT PLACE ARE YOU NOW I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343400"/>
            <a:ext cx="82296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0000"/>
          </a:bodyPr>
          <a:p>
            <a:pPr marL="205560" indent="-2055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ASKA  (SOME  PARTS  ARE  SO FAR  WEST,  THEY  ARE  EAS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1486080" y="723960"/>
            <a:ext cx="6172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U.S. STATE IS THE FARTHEST EA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ONTINENT CONTAINS THE LARGEST DESERT IN THE WORL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028880" y="762120"/>
            <a:ext cx="7086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PANY IS THE WORLD'S LARGEST DISTRIBUTOR OF TOY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WEIGHS MORE, A POUND OF GOLD OR A POUND OF FEATHE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990720" y="762120"/>
            <a:ext cx="71625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MONTH DID THE "OCTOBER REVOLUTION" TAKE PLAC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066680" y="761760"/>
            <a:ext cx="70106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PANY HAS MADE THE MOST TIR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952560" y="761760"/>
            <a:ext cx="72388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COUNTRY IS     THE MOUNTAIN PEAK FARTHEST FROM THE CENTER OF THE EARTH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OFFICIALLY BILINGUAL PROVINCE IN CANAD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19T22:21:42Z</dcterms:created>
  <dc:creator>Jennifer Budzinski</dc:creator>
  <dc:description/>
  <dc:language>en-US</dc:language>
  <cp:lastModifiedBy>Erich Friedman</cp:lastModifiedBy>
  <dcterms:modified xsi:type="dcterms:W3CDTF">2020-09-04T16:46:29Z</dcterms:modified>
  <cp:revision>346</cp:revision>
  <dc:subject/>
  <dc:title>Slide 1</dc:title>
</cp:coreProperties>
</file>