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47E2D-52F2-4FC9-B7F5-79D9918D0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0E7A-1336-4AF6-9841-60AD0327F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61D7-54C7-434C-909F-266A9B95A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0ADD-F758-4638-9936-00CE1F15D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7D5F-548D-4402-8650-A3640A0C2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66C7-0462-4021-9906-3D4CE8C5B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AB74-859B-4ED7-9145-6187C8F75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23BC-9813-44FA-B5D4-63E8B4961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9D80-A66C-4BF3-8B30-DD5F8FFCB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BC1B-EA58-4199-A5E2-3240F3526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B37D-25EC-40EB-AB9D-E1E1587FC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C48D-2D2B-4E0E-8AD7-8945FF31C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00A5-4091-4605-BD10-21F777FB9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C8D0-3E50-4DCC-B650-C93542C2B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A4BB-D8EA-4A85-835A-FFF33D61C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5921-97A0-4470-98D2-1246ED954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2424-FF10-41D6-8D88-2BC0A56E0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8C8B-7946-4CD3-94CC-D9B4A2F21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6091-2012-4FFC-A80C-80F634631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CC7F-700C-4BED-8043-EC2F2F0BB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F46A-570C-4089-ADFF-643E4DC7F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477A-C981-4D73-9CE6-D35794702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BDCD-5FFC-4D61-B8E9-5E5C734AB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8572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CK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A RACE, IF YOU PASS THE RUNNER IN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, WHAT PLACE ARE YOU NOW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486080" y="762120"/>
            <a:ext cx="6172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S THE FARTHEST 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80880" y="43434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  (OFFICIALLY  CONTAINS   ISLANDS  AROUND  THE  WOR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68580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N EUROPE CONTAINS LAND THE FARTHEST 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ARC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NTINENT CONTAINS THE LARGEST DESERT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DONA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IS THE WORLD'S LARGEST DISTRIBUTOR OF T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914400" y="42670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THERS  (1 LB GOLD = 12 OZ, 1 LB FEATHERS = 16 OZ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IGHS MORE, A POUND OF GOLD OR A POUND OF FEAT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609480" y="4267080"/>
            <a:ext cx="7925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VEMBER  (ACCORDING  TO OUR  GREGORIAN  CALENDA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NTH DID THE "OCTOBER REVOLUTION"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MADE THE MOST TI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85800" y="4343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CUADOR  (THE  EARTH  BULGES  AROUND  THE  EQUAT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IS    THE MOUNTAIN PEAK FARTHEST FROM THE CENTER OF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N EUROPE CONTAINS LAND THE FARTHEST SOU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3434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BRUNSWICK  (QUEBEC'S OFFICIAL  LANGUAGE  IS  FRENCH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FFICIALLY BILINGUAL PROVINCE IN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362320" y="4876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A RACE, IF YOU PASS THE RUNNER IN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LACE, WHAT PLACE ARE YOU NOW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  (SOME  PARTS  ARE  SO FAR  WEST,  THEY  ARE  EA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486080" y="723960"/>
            <a:ext cx="6172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IS THE FARTHEST 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NTINENT CONTAINS THE LARGEST DESERT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IS THE WORLD'S LARGEST DISTRIBUTOR OF T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IGHS MORE, A POUND OF GOLD OR A POUND OF FEA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MONTH DID THE "OCTOBER REVOLUTION" TAKE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MADE THE MOST TI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IS     THE MOUNTAIN PEAK FARTHEST FROM THE CENTER OF THE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FFICIALLY BILINGUAL PROVINCE IN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22:21:42Z</dcterms:created>
  <dc:creator>Jennifer Budzinski</dc:creator>
  <dc:description/>
  <dc:language>en-US</dc:language>
  <cp:lastModifiedBy>Erich Friedman</cp:lastModifiedBy>
  <dcterms:modified xsi:type="dcterms:W3CDTF">2020-09-04T16:46:29Z</dcterms:modified>
  <cp:revision>346</cp:revision>
  <dc:subject/>
  <dc:title>Slide 1</dc:title>
</cp:coreProperties>
</file>