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D195F-F6B9-4DCD-BFCB-F41C39C262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2DEC2-CB50-4166-A18C-2FD93BC81A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798DA-DB08-45EE-B4C8-140FB0BB9F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33F4E-BAC0-4203-8301-67AFACD8EA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D0603-1086-46D3-8BC3-0DC19E0548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FA3D5-A085-4A2D-BE9D-EB502ED671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A3A17-6B27-4D76-BDE6-BBF91702F2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BABBB-982F-4488-825C-3106B93D0A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C3A45-5206-4090-8875-9FD9F4C6F0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61D20-453A-4F2D-8059-8238A907A7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8A2F0-78FB-42C0-B7CE-06421A11D1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70C5D-4D55-409B-A15F-853DC9DDDB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4C0CA-84AE-4EE5-8E33-06218A8160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D73A2-35E7-4726-A3AC-589308EFC8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0A889-41B9-4607-9819-DC606663C6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A4994-15CC-4BB4-B0BA-E9A247E113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87A0B-85E7-4BC5-B5B1-FCAA4B2669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D175D-D0EF-4AA0-A2AF-49E9B05E6D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CEA54-FE2D-4AA8-B34B-ADCA2C2B43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9F6D2-A355-43BE-9F56-4B4690F629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55A50-EB4E-4179-8D2C-3A27B0370C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3B2FE-98BD-45F9-8789-D3FFCDD815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AEB24-C86D-440B-BAEE-B2A4E82447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723960" y="1485720"/>
            <a:ext cx="76960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ISCELLANEOU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228600" y="76176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RUIT IS NATURALLY RADIOACTIVE BECAUSE THEY ARE HIGH IN POTASSIUM-40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723960" y="762120"/>
            <a:ext cx="76960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ONLY U.S. STATE THAT CAN BE TYPED USING A SINGLE ROW OF KEYS ON A KEYBOAR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IBR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838080" y="762120"/>
            <a:ext cx="746784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ONLY ZODIAC SIGN THAT IS INANIMAT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ASSION  OF  THE  CHRI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990720" y="762120"/>
            <a:ext cx="71625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R-RATED MOVIE MADE THE MOST MONE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43080" y="4862520"/>
            <a:ext cx="8458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FGHANISTAN  &amp;  AZERBAIJ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838080" y="762120"/>
            <a:ext cx="74678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E THE ONLY 2 COUNTRIES WHOSE NAMES BEGIN WITH "A" BUT DO NOT END WITH "A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86280"/>
            <a:ext cx="84582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EZ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723960" y="762120"/>
            <a:ext cx="7696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ANDY'S NAME COMES FROM THE GERMAN WORD FOR PEPPERMINT: "PFEFFERMINZ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90440" y="4876920"/>
            <a:ext cx="87631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QUOTATIONS  FROM  MAO  TSE–TU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819000" y="762120"/>
            <a:ext cx="75060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OOK BESIDES THE BIBLE HAS OVER A BILLION COPIES DISTRIBUT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OLIS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380880" y="762120"/>
            <a:ext cx="838224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MMON WORD CHANGES ITS PRONUNCIATION WHEN THE FIRST LETTER IS CAPITALIZ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838080" y="4876920"/>
            <a:ext cx="73915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LAY–DO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914400" y="762120"/>
            <a:ext cx="73152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HILDREN'S ARTS &amp; CRAFTS MATERIAL WAS INITIALLY SOLD AS WALLPAPER CLEAN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838080" y="762120"/>
            <a:ext cx="74678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ONLY ZODIAC SIGN THAT IS INANIMAT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457200" y="4876920"/>
            <a:ext cx="8229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EAVER  COLLE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647640" y="762120"/>
            <a:ext cx="784872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LLEGE CHANGED ITS NAME TO ARCADIA COLLEGE IN 2001 BECAUSE PORN FILTERS WERE BLOCKING ACCESS TO THEIR WEBSIT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1333440" y="4876920"/>
            <a:ext cx="64771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5000"/>
          </a:bodyPr>
          <a:p>
            <a:pPr marL="222840" indent="-2228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ANAN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533520" y="762120"/>
            <a:ext cx="80769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RUIT IS NATURALLY RADIOACTIVE BECAUSE THEY ARE HIGH IN POTASSIUM-40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1943280" y="4876920"/>
            <a:ext cx="5257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LASK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762120" y="762120"/>
            <a:ext cx="76197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ONLY U.S. STATE THAT CAN BE TYPED USING A SINGLE ROW OF KEYS ON A KEYBOAR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952560" y="761760"/>
            <a:ext cx="72388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R-RATED MOVIE MADE THE MOST MONE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857160" y="762120"/>
            <a:ext cx="74296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E THE ONLY 2 COUNTRIES WHOSE NAMES BEGIN WITH "A" BUT DO NOT END WITH "A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743040" y="762120"/>
            <a:ext cx="76579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ANDY'S NAME COMES FROM THE GERMAN WORD FOR PEPPERMINT: "PFEFFERMINZ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838080" y="761760"/>
            <a:ext cx="74678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OOK BESIDES THE BIBLE HAS OVER A BILLION COPIES DISTRIBUT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380880" y="761760"/>
            <a:ext cx="83822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MMON WORD CHANGES ITS PRONUNCIATION WHEN THE FIRST LETTER IS CAPITALIZ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876240" y="761760"/>
            <a:ext cx="73915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HILDREN'S ARTS &amp; CRAFTS MATERIAL WAS INITIALLY SOLD AS WALLPAPER CLEAN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609480" y="762120"/>
            <a:ext cx="792504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LLEGE CHANGED ITS NAME TO ARCADIA COLLEGE IN 2001 BECAUSE PORN FILTERS WERE BLOCKING ACCESS TO THEIR WEBSIT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20T15:30:06Z</dcterms:created>
  <dc:creator>Jennifer Budzinski</dc:creator>
  <dc:description/>
  <dc:language>en-US</dc:language>
  <cp:lastModifiedBy>Erich Friedman</cp:lastModifiedBy>
  <dcterms:modified xsi:type="dcterms:W3CDTF">2021-03-09T18:13:08Z</dcterms:modified>
  <cp:revision>357</cp:revision>
  <dc:subject/>
  <dc:title>Slide 1</dc:title>
</cp:coreProperties>
</file>