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0279-70C6-4483-89B9-D758FE5CD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39C7-3157-45C4-A988-F8680DFC0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7986-B27D-4ADF-B8F0-5BEE0C001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7291-AB40-42CC-BBCD-0909720D3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E7EC-CDB0-4B0A-A073-0F25349B0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EF69-3807-4F9C-836B-812CCEFE3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ECEF-7866-4DF3-B018-E69E00278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C1B-B923-4ED0-A6B6-B43830D65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5BDF-B2E4-4C10-986B-1944AC44C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0113-5F07-46FA-A90C-0BFCC5BAE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9D5B-2314-43A7-9068-A449FE91C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CC00-28CE-44E6-B3C7-92E621F73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6CBF-9F6B-4171-A588-002682898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F57C-1CA4-4AA7-97C5-257E484F8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0D88-118B-453A-8FD8-BB946FF6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A48E-3AFA-4C32-807E-1761901A6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1303-5154-493A-8EA9-2F8CF07F7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ADDB-6E65-40DD-90C3-204C905D7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E5CE-3CDF-410A-BE23-16D2C871C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70A2-9FEC-433F-B6A0-75634FF70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7C40-0C1D-4DAC-BE5E-0C5FC37C7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730E-9DB2-4A27-ADFD-E7191C523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52EB-58D5-478B-8136-D466BF3A1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485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NATURALLY RADIOACTIVE BECAUSE THEY ARE HIGH IN POTASSIUM-4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CAN BE TYPED USING A SINGLE ROW OF KEYS ON A KEY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ZODIAC SIGN THAT IS INAN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ION  OF  THE 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-RATED MOVIE MADE THE MOST M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43080" y="48625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GHANISTAN  &amp;  AZERBAIJ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2 COUNTRIES WHOSE NAMES BEGIN WITH "A" BUT DO NOT END WITH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DY'S NAME COMES FROM THE GERMAN WORD FOR PEPPERMINT: "PFEFFERMIN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90440" y="4876920"/>
            <a:ext cx="8763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OTATIONS  FROM  MAO  TSE–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BESIDES THE BIBLE HAS OVER A BILLION COPIES DISTRIBU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WORD CHANGES ITS PRONUNCIATION WHEN THE FIRST LETTER IS CAPITALIZ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3808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–D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ARTS &amp; CRAFTS MATERIAL WAS INITIALLY SOLD AS WALLPAPER CLEA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ZODIAC SIGN THAT IS INANIM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VER  COL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GE CHANGED ITS NAME TO ARCADIA COLLEGE IN 2001 BECAUSE PORN FILTERS WERE BLOCKING ACCESS TO THEIR WEB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A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NATURALLY RADIOACTIVE BECAUSE THEY ARE HIGH IN POTASSIUM-4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43280" y="4876920"/>
            <a:ext cx="525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CAN BE TYPED USING A SINGLE ROW OF KEYS ON A KEY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-RATED MOVIE MADE THE MOST M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2 COUNTRIES WHOSE NAMES BEGIN WITH "A" BUT DO NOT END WITH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DY'S NAME COMES FROM THE GERMAN WORD FOR PEPPERMINT: "PFEFFERMIN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BESIDES THE BIBLE HAS OVER A BILLION COPIES DISTRIBU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WORD CHANGES ITS PRONUNCIATION WHEN THE FIRST LETTER IS CAPITALIZ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ARTS &amp; CRAFTS MATERIAL WAS INITIALLY SOLD AS WALLPAPER CLEA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GE CHANGED ITS NAME TO ARCADIA COLLEGE IN 2001 BECAUSE PORN FILTERS WERE BLOCKING ACCESS TO THEIR WEBS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0T15:30:06Z</dcterms:created>
  <dc:creator>Jennifer Budzinski</dc:creator>
  <dc:description/>
  <dc:language>en-US</dc:language>
  <cp:lastModifiedBy>Erich Friedman</cp:lastModifiedBy>
  <dcterms:modified xsi:type="dcterms:W3CDTF">2021-03-09T18:13:08Z</dcterms:modified>
  <cp:revision>357</cp:revision>
  <dc:subject/>
  <dc:title>Slide 1</dc:title>
</cp:coreProperties>
</file>