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5C7D1-A436-4DE9-9A54-9DE53B21EC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F147-4310-490C-AC18-64CF68BAF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43FF-928B-4ED0-A98B-B9F4779CC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BE46A-F9B5-45CB-AEA2-F7B99B7C0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8B3C-B417-49EA-87DF-552296C85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AC95C-13DC-481B-BAD3-D7BC10D2F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F9DE-B535-4C12-91A9-2FA69B9FF5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C6E1-8925-4A7E-9EE2-0B2F4E8E55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9A3AA-5969-466F-AFC5-6B531534D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7715-2AEB-485C-8C62-A524C5599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03AC-6BD0-4355-92EC-E78E9AD136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B944E-A29A-4DD5-A9F9-0B283572E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1A39B-4621-4B81-B4B1-1B44C3752A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F91E-E3CF-4BCF-9272-7D860E7097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71F1-0D83-4439-81F4-9ADA99C23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1922-87EB-4C91-B852-2FC54036D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D6BD3-E0E8-46C0-9A7A-4AAD76516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65C6-4A8F-4DBA-8032-289C1BDC3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FE5C-2D2F-407A-877C-08E0CE2F8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E078-C274-4429-99C1-4D5D6CB8E4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8F82-447F-40E5-AD0E-6D22D8B3E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8048-1F99-4C0C-BBB2-9B3D66CE6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61356-91E6-45E2-BD60-EC7B2A2EE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485720" y="1523880"/>
            <a:ext cx="6172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ISCELLANEO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66680" y="76176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TEFANI JOANNE ANGELINA GERMANOTTA BETTER KNOWN 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990720" y="762120"/>
            <a:ext cx="7162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TWILIGHT" MOVIES WERE BASED ON NOVELS BY WHAT AUTH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888  (MDCCCLXXXV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181160" y="762120"/>
            <a:ext cx="67816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EAR THAT HAS ALREADY OCCURRED HAS THE LONGEST ROMAN NUME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00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RAN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952560" y="762120"/>
            <a:ext cx="72388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PLANET DISCOVERED WITH A TELESC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19040" y="4800600"/>
            <a:ext cx="8305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181160" y="762120"/>
            <a:ext cx="67816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U.S. STATES BORDER THE GULF OF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0060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OMAS  EDI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533520" y="762120"/>
            <a:ext cx="8076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VENTOR AVERAGED ONE PATENT EVERY THREE WEEKS OF HIS ENTIRE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19040" y="4800600"/>
            <a:ext cx="8305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000  MI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104840" y="762120"/>
            <a:ext cx="69343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IAMETER OF THE EARTH, TO THE NEAREST 1000 MI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685800" y="4267080"/>
            <a:ext cx="77724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LASGOW,  NEWCASTLE, LONDON,  AND  LIVERPOOL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1219320" y="762120"/>
            <a:ext cx="670536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BRITISH CITIES HAVE UNDERGROUND RAIL SYSTE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2280" y="4267080"/>
            <a:ext cx="883944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TH  ATLANTIC  TREATY 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562040" y="762120"/>
            <a:ext cx="60199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NATO" STAND F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257120" y="762120"/>
            <a:ext cx="6629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YEAR THAT HAS ALREADY OCCURRED HAS THE LONGEST ROMAN NUMERAL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228600" y="4800600"/>
            <a:ext cx="8686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AUGH  TRACK  WAS  REMOV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"M*A*S*H" WAS BROADCAST IN THE U.K., WHAT CHANGE WAS MAD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0060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ADY  GA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43000" y="762120"/>
            <a:ext cx="68580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STEFANI JOANNE ANGELINA GERMANOTTA BETTER KNOWN 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PHENIE  MEY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990720" y="762120"/>
            <a:ext cx="71625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"TWILIGHT" MOVIES WERE BASED ON NOVELS BY WHAT AUTHO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WAS THE FIRST PLANET DISCOVERED WITH A TELESC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66680" y="762120"/>
            <a:ext cx="7010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W MANY U.S. STATES BORDER THE GULF OF MEXI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NVENTOR AVERAGED ONE PATENT EVERY THREE WEEKS OF HIS ENTIRE L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1104840" y="761760"/>
            <a:ext cx="69343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THE DIAMETER OF THE EARTH, TO THE NEAREST 1000 MIL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4 BRITISH CITIES HAVE UNDERGROUND RAIL SYSTE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1143000" y="761760"/>
            <a:ext cx="68580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"NATO" STAND FO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723960" y="762120"/>
            <a:ext cx="76960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EN "M*A*S*H" WAS BROADCAST IN THE U.K., WHAT CHANGE WAS MAD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2T14:49:04Z</dcterms:created>
  <dc:creator>Jennifer Budzinski</dc:creator>
  <dc:description/>
  <dc:language>en-US</dc:language>
  <cp:lastModifiedBy>Erich Friedman</cp:lastModifiedBy>
  <dcterms:modified xsi:type="dcterms:W3CDTF">2020-09-04T17:25:28Z</dcterms:modified>
  <cp:revision>349</cp:revision>
  <dc:subject/>
  <dc:title>Slide 1</dc:title>
</cp:coreProperties>
</file>