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DBF4-6B50-4FE6-995B-11C2C4B5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5E05-F28D-408D-9133-D33591960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F69B-C87C-4AEA-8597-A420A48BF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E084-0BB6-4002-8635-A0CB9E608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1C37-8599-40EF-9540-C36DBD4E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6C10-296A-421D-B5BF-6BBE23D7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5BC6-820F-47A3-9B6E-E3916E75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DD02-7A47-45A4-AA84-CC265D36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C5E9-7F76-4715-AFA8-ED43A783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36C-AA4C-4BB3-9B85-5AB7D237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E7C5-A42E-4BC0-A784-D77F6A5B1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7616-4085-44BD-BB6B-6418F8D3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F0A3-3AC3-4922-91A4-58CA75BD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B974-9978-41E0-B1CA-4F7B0721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D62D-5AA9-459E-B564-DD324094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5709-CA2A-4A36-A4A7-53753EC2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90B6-40CF-4E7E-AA11-E7F48325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306-8901-4C35-AD4B-D3BAC6DC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524-09CB-474E-9C2B-F34A70DF7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DC9C-17F3-4AF6-86CE-140BB60D8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3227-A36B-471D-AA0D-4323D1EC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FC85-2445-47E2-8358-E61DE7C0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3F03-9288-4661-93D2-9615FB4A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FANI JOANNE ANGELINA GERMANOTTA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WILIGHT" MOVIES WERE BASED ON NOVELS BY WHAT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88  (MDCCCLXXX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AR THAT HAS ALREADY OCCURRED HAS THE LONGEST ROMAN NUM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T DISCOVERED WITH A TELE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STATES BORDER THE GULF OF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AVERAGED ONE PATENT EVERY THREE WEEKS OF HIS ENTIRE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00 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AMETER OF THE EARTH, TO THE NEAREST 1000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685800" y="42670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GOW,  NEWCASTLE, LONDON,  AND  LIVERPOOL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BRITISH CITIES HAVE UNDERGROUND RAIL SYST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2670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ATLANTIC  TREATY 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62040" y="762120"/>
            <a:ext cx="60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T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AR THAT HAS ALREADY OCCURRED HAS THE LONGEST ROMAN NUME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UGH  TRACK  WAS 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"M*A*S*H" WAS BROADCAST IN THE U.K., WHAT CHANGE WAS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FANI JOANNE ANGELINA GERMANOTT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IE  ME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WILIGHT" MOVIES WERE BASED ON NOVELS BY WHAT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T DISCOVERED WITH A TELE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STATES BORDER THE GULF OF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AVERAGED ONE PATENT EVERY THREE WEEKS OF HIS ENTIRE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AMETER OF THE EARTH, TO THE NEAREST 1000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BRITISH CITIES HAVE UNDERGROUND RAIL SYSTE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T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"M*A*S*H" WAS BROADCAST IN THE U.K., WHAT CHANGE WAS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4:49:04Z</dcterms:created>
  <dc:creator>Jennifer Budzinski</dc:creator>
  <dc:description/>
  <dc:language>en-US</dc:language>
  <cp:lastModifiedBy>Erich Friedman</cp:lastModifiedBy>
  <dcterms:modified xsi:type="dcterms:W3CDTF">2020-09-04T17:25:28Z</dcterms:modified>
  <cp:revision>349</cp:revision>
  <dc:subject/>
  <dc:title>Slide 1</dc:title>
</cp:coreProperties>
</file>