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14D-134A-4416-99AA-DF7F307ED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015-008B-43FE-BB26-242DE88A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F4E-2E13-46D6-8515-AD11CEBEC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4A62-5695-4872-8D24-EFCFD98B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19E1-97D0-4CD1-8AA5-86B74EC1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00E-990D-4B29-B2C5-CF726BC1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41C-BC56-4754-9A57-196E59265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6279-2C68-4DAE-85EB-5FA6EC97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8813-6D74-43FB-816D-1CE47FB99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ACA2-6997-400F-9168-83ABC8FD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4B6-3730-4F78-9E4B-7CC80EE9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F672-42F4-4D8F-8FE7-246AC2F5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3F49-DBED-44C5-BEAE-1BB097C1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51F5-CE70-4B2A-9DBB-BAB87408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FBB-65C3-49B8-9D81-3FB7E7CA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5FD-6E5B-48E8-AD83-F5FB34D8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A60-0E0F-4D7A-B4F5-0AA463581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61A-1079-4F17-A1B2-F4D0A9A0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C64-B1CF-4300-811A-4280E6BF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A1E-95C8-48C6-877F-F2E023AD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150-88AA-4AE5-B282-83BBA699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1C9-F8B3-4E59-ADFE-23DB4BBB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BDD-E82E-4C76-9704-E7E9A5C8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88  (MDCCCLXXX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0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85800" y="42670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GOW,  NEWCASTLE, LONDON,  AND  LIVERPOOL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2670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ATLANTIC  TREATY 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62040" y="7621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UGH  TRACK  WAS 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IE  ME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4:49:04Z</dcterms:created>
  <dc:creator>Jennifer Budzinski</dc:creator>
  <dc:description/>
  <dc:language>en-US</dc:language>
  <cp:lastModifiedBy>Erich Friedman</cp:lastModifiedBy>
  <dcterms:modified xsi:type="dcterms:W3CDTF">2020-09-04T17:25:28Z</dcterms:modified>
  <cp:revision>349</cp:revision>
  <dc:subject/>
  <dc:title>Slide 1</dc:title>
</cp:coreProperties>
</file>