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CAF3-997F-408C-93C3-CD19AF335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5296-7EF0-4992-902A-40A8477F1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703A-9E02-49F1-AFA5-CC6306836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7404-77D5-420E-B403-F07484DA6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170E-CA7A-4059-9F91-13B476656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8BC3-B454-42BD-8E7F-085F7BDB9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B3A6-FB40-4233-88DA-27C23EA78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CF29-3B7B-413E-B4CA-6C2B9B240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0FB0-54DF-4ED8-883F-589A2DADA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0477-F67A-4C90-A9CF-5774909EB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42BA-DCE9-4974-B05C-BF39BB149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0091-D095-4768-B7AA-513AA5FB8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AF6C-3F7D-4311-BF43-C056F4A8F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0792-749C-4E57-8B1B-81BE9E224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2DEA-3A31-45E0-A005-CD2375B22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8626-B227-4050-AC51-1DB989883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83A6-0814-4342-B719-E1BB4C576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6C26-C040-4ADE-8EDE-7553A245F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E853-1E3F-42FE-AA4B-BDB6913D0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A213-A258-40C6-81DA-AB822B38D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395A-6B35-4DAB-8027-919BBC780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191E-9F48-4DBD-A2B6-AE1EDDB56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F7F3-4AAE-4881-9975-E6E7B77C7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R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RONALD REAGAN WAS SHOT, WHO FAMOUSLY SAID "I'M IN CHARGE HE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ARLES ON THE 1984-1990 TV SERIES "CHARLES IN CHAR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NER'S  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CHARGE C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RED,  LORD TENN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84080"/>
            <a:ext cx="723888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OEM "THE CHARGE OF THE LIGHT BRIGA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LINT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ARTOON DID WILMA AND BETTY OFTEN YELL "CHARGE IT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KE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356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IS THE FOUL OF CHARGING OFTEN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228600" y="48769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YING  A  CONCEALED  WEAP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AL CAPONE SERVED 11 YEARS FOR TAX EVASION, WHAT WAS HE CHARGED AND CONVICTED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ICLE IN PHYSICS CARRIES A NEGATIVE ELECTRIC CHAR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AN DIEGO CHARGERS RECENTLY MOVED TO WHAT OTHER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CHARGE C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DOES IT COST TO COMPLETELY CHARGE AN ELECTRIC CAR?  $1, $2, OR $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  HA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RONALD REAGAN WAS SHOT, WHO FAMOUSLY SAID "I'M IN CHARGE H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  BA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ARLES ON THE 1984-1990 TV SERIES "CHARLES IN CHAR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POEM "THE CHARGE OF THE LIGHT BRIGA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ARTOON DID WILMA AND BETTY OFTEN YELL "CHARGE IT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IS THE FOUL OF CHARGING OFTEN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AL CAPONE SERVED 11 YEARS FOR TAX EVASION, WHAT WAS HE CHARGED AND CONVICTED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ICLE IN PHYSICS CARRIES A NEGATIVE ELECTRIC CHAR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AN DIEGO CHARGERS RECENTLY MOVED TO WHAT OTHER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DOES IT COST TO COMPLETELY CHARGE AN ELECTRIC CAR?  $1, $2, OR $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3T12:56:57Z</dcterms:created>
  <dc:creator>Jennifer Budzinski</dc:creator>
  <dc:description/>
  <dc:language>en-US</dc:language>
  <cp:lastModifiedBy>Erich Friedman</cp:lastModifiedBy>
  <dcterms:modified xsi:type="dcterms:W3CDTF">2020-09-04T17:34:24Z</dcterms:modified>
  <cp:revision>349</cp:revision>
  <dc:subject/>
  <dc:title>Slide 1</dc:title>
</cp:coreProperties>
</file>