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0D22-799D-488A-8CE5-ADD42C943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BAE0-D0B7-41E8-BBBB-B5CEF6237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6FBE-2298-4283-B9FE-790A91C09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EF03-2B13-4F88-B628-9D7638754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28FB-DA04-4C6F-A2D0-43DF31574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9AF4-84BD-4418-BC11-F1902AD53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C6CD-A77A-4B2D-9A58-337416D1B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683D-8EFA-4FB3-9510-1B8E4308D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E897-013D-4778-A2A6-AA78A27E3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924A-8E6F-448F-A396-ACEB08F43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B47C-F368-46BF-A75B-D8D0ECA4E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8BE9-3A68-4D29-922B-626E8460D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FF11-A601-4805-B9EA-0C651858C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B7F6-C490-4D99-B6BF-ACB4B7D47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E681-E431-4146-893B-5A0BB9722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E3E6-C268-482C-8DF5-8C8C13C51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8405-B585-4662-84EE-DF146FBDA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5530-7545-4FF9-A3B9-2B9203A7B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2623-EF9A-4D35-8D1F-4920237A7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2DB6-7A09-44BC-B224-A1C31C2F2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F824-E8B4-4A3C-A563-A1C97C1C5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1204-FD25-424E-B5B5-5B37240E2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6E1E-72EB-4158-BCEF-23EC1EB7E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R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RONALD REAGAN WAS SHOT, WHO FAMOUSLY SAID "I'M IN CHARGE HE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066680" y="762120"/>
            <a:ext cx="70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HARLES ON THE 1984-1990 TV SERIES "CHARLES IN CHARG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NER'S  CLU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66680" y="762120"/>
            <a:ext cx="70106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CHARGE C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FRED,  LORD TENNY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52560" y="784080"/>
            <a:ext cx="723888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POEM "THE CHARGE OF THE LIGHT BRIGAD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LINTST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ARTOON DID WILMA AND BETTY OFTEN YELL "CHARGE IT!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KET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356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PORT IS THE FOUL OF CHARGING OFTEN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228600" y="48769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RYING  A  CONCEALED  WEAP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AL CAPONE SERVED 11 YEARS FOR TAX EVASION, WHAT WAS HE CHARGED AND CONVICTED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CT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TICLE IN PHYSICS CARRIES A NEGATIVE ELECTRIC CHAR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S  ANGE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AN DIEGO CHARGERS RECENTLY MOVED TO WHAT OTHER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CHARGE C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$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UCH DOES IT COST TO COMPLETELY CHARGE AN ELECTRIC CAR?  $1, $2, OR $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ANDER  HA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RONALD REAGAN WAS SHOT, WHO FAMOUSLY SAID "I'M IN CHARGE HE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TT  BA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52560" y="762120"/>
            <a:ext cx="723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HARLES ON THE 1984-1990 TV SERIES "CHARLES IN CHARG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POEM "THE CHARGE OF THE LIGHT BRIGAD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ARTOON DID WILMA AND BETTY OFTEN YELL "CHARGE IT!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PORT IS THE FOUL OF CHARGING OFTEN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AL CAPONE SERVED 11 YEARS FOR TAX EVASION, WHAT WAS HE CHARGED AND CONVICTED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TICLE IN PHYSICS CARRIES A NEGATIVE ELECTRIC CHAR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AN DIEGO CHARGERS RECENTLY MOVED TO WHAT OTHER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UCH DOES IT COST TO COMPLETELY CHARGE AN ELECTRIC CAR?  $1, $2, OR $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3T12:56:57Z</dcterms:created>
  <dc:creator>Jennifer Budzinski</dc:creator>
  <dc:description/>
  <dc:language>en-US</dc:language>
  <cp:lastModifiedBy>Erich Friedman</cp:lastModifiedBy>
  <dcterms:modified xsi:type="dcterms:W3CDTF">2020-09-04T17:34:24Z</dcterms:modified>
  <cp:revision>349</cp:revision>
  <dc:subject/>
  <dc:title>Slide 1</dc:title>
</cp:coreProperties>
</file>