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97E1A-D1C4-460E-A574-FD66D2067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B4D9-35B5-4B99-8E6C-F55AFD08F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D0A6-82E6-462F-BBBF-92E23942B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0A6D-3080-4961-98E4-23A743566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0D7B-07B2-4337-B15E-0DCB0BA58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CB37-A150-4337-BA79-32E85CB38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409D-D1B2-41B4-A526-47EF5C00A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101A-0F73-4670-8397-952B22C1F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B81B-4A1F-41DF-8717-DD617165B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5F59-5AA4-4FF0-8CBC-718EE51C6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321E-0614-475A-AB4A-D13FF5DC0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E6BD-D341-4301-88FD-C99DC42A4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EC63-4DB8-4EAA-BE5A-BA75825A6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BECF-C1C6-43C9-9387-D7F038710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038C-852F-4725-8C4C-0C3F151F0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5A59-E8DF-4A43-A040-70FFED459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540F-897A-4549-9D26-BC7044F57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0525-5121-4CFD-BB0A-D99293CF4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9B79-3DC8-4572-ACB4-3CE5BB541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87A0-C8FF-4F09-BE14-9863158D8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1881-81D8-4307-867E-316D3D274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306A-F9ED-47CD-8F20-C41AEF115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A5D2-2A81-4C9E-87A1-AC3F1A12B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GGING ANIMAL'S DEN, CONSISTING OF A NETWORK OF TUNNELS, IS KNOWN AS A S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T WAS AN ANCIENT DEITY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LLEY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752480" y="762120"/>
            <a:ext cx="5715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   DOES "SET" MEAN "PENULTIMATE H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(IN  THE  TIEBREAK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NNIS, WHAT IS THE MINIMUM NUMBER OF POINTS YOU HAVE TO WIN ON YOUR OPPONENT'S SERVE TO WIN A S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E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DOES "SET" MEAN "PREPARING TO THROW THE B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95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ARD GAME DOES "SETTING" THE OPPONENTS EARN 50 POINTS PER TRICK (OR 100 IF THEY HAPPEN TO BE VULNERABL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–OF–A–K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"SET" IN PO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SE  T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AGRAM OF "SET SET" IS A TYPE OF 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D 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GAME OF SET A BOARD GAME, CARD GAME, OR A ROLE-PLAYING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676520" y="762120"/>
            <a:ext cx="5790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   DOES "SET" MEAN "PENULTIMATE H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PSON  TW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WHOSE ONLY HIT SONG WAS "HOLD ME NOW" HAD AN ALBUM TITLED "S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GGING ANIMAL'S DEN, CONSISTING OF A NETWORK OF TUNNELS, IS KNOWN AS A S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Y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T WAS AN ANCIENT DEITY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NNIS, WHAT IS THE MINIMUM NUMBER OF POINTS YOU HAVE TO WIN ON YOUR OPPONENT'S SERVE TO WIN A S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DOES "SET" MEAN "PREPARING TO THROW THE B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ARD GAME DOES "SETTING" THE OPPONENTS EARN 50 POINTS PER TRICK (OR 100 IF THEY HAPPEN TO BE VULNERABL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"SET" IN PO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AGRAM OF "SET SET" IS A TYPE OF F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GAME OF SET A BOARD GAME, CARD GAME, OR A ROLE-PLAYING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ROUP WHOSE ONLY HIT SONG WAS "HOLD ME NOW" HAD AN ALBUM TITLED "S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1T17:18:17Z</dcterms:created>
  <dc:creator>Jennifer Budzinski</dc:creator>
  <dc:description/>
  <dc:language>en-US</dc:language>
  <cp:lastModifiedBy>Erich Friedman</cp:lastModifiedBy>
  <dcterms:modified xsi:type="dcterms:W3CDTF">2020-09-04T18:09:06Z</dcterms:modified>
  <cp:revision>351</cp:revision>
  <dc:subject/>
  <dc:title>Slide 1</dc:title>
</cp:coreProperties>
</file>