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77E-D03C-4805-8799-4F9191012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18A-4AA2-4B11-AB96-A556F934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1977-8698-44F3-909D-1D0AD81D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880E-BDBC-4B59-BDBA-838E38C4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FF2-AD11-45A1-9358-0A40A3E98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4EC-88E0-4FBA-BB5C-1564CD94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90B2-1710-415F-A05E-006A10A8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702D-8523-43BE-A3D1-40CAC75B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75C7-E6C5-412B-9C6D-83E72D35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669F-4335-4363-84E4-54B86F55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697-D4A3-4AE3-96DD-3FD8DF7A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393-D36B-4C3B-882A-9AAC55CA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ABB-01B5-4781-A8EF-A3D208C0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4FD-456E-44FB-ABFD-EDC3AD75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AC8-4DE4-41FE-9178-F5B14D4F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4EB-33C1-41D3-86D2-5E5EB9D4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8B8-D659-4E3D-A926-60FEAFC2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25A-ED5D-4A21-9024-5214799C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891A-C47E-4516-9B42-6B13573E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FA64-E250-4410-BC38-DC58C9D9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A7D-7324-4703-902F-34DFF701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C208-D642-430A-B73B-0CC5DAE5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751-7280-4F61-B72A-E7E9640C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GGING ANIMAL'S DEN, CONSISTING OF A NETWORK OF TUNNELS, IS KNOWN AS A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WAS AN ANCIENT DEITY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52480" y="76212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   DOES "SET" MEAN "PENULTIMATE H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(IN  THE  TIEBRE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NNIS, WHAT IS THE MINIMUM NUMBER OF POINTS YOU HAVE TO WIN ON YOUR OPPONENT'S SERVE TO WIN A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"SET" MEAN "PREPARING TO THROW THE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D GAME DOES "SETTING" THE OPPONENTS EARN 50 POINTS PER TRICK (OR 100 IF THEY HAPPEN TO BE VULNERAB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–OF–A–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SET"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SE  T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SET SET" IS A TYPE OF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 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GAME OF SET A BOARD GAME, CARD GAME, OR A ROLE-PLAYING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   DOES "SET" MEAN "PENULTIMATE H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PSON  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WHOSE ONLY HIT SONG WAS "HOLD ME NOW" HAD AN ALBUM TITLED "S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GGING ANIMAL'S DEN, CONSISTING OF A NETWORK OF TUNNELS, IS KNOWN AS A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WAS AN ANCIENT DEITY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NNIS, WHAT IS THE MINIMUM NUMBER OF POINTS YOU HAVE TO WIN ON YOUR OPPONENT'S SERVE TO WIN A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"SET" MEAN "PREPARING TO THROW THE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D GAME DOES "SETTING" THE OPPONENTS EARN 50 POINTS PER TRICK (OR 100 IF THEY HAPPEN TO BE VULNERABL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SET"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SET SET" IS A TYPE OF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GAME OF SET A BOARD GAME, CARD GAME, OR A ROLE-PLAYING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WHOSE ONLY HIT SONG WAS "HOLD ME NOW" HAD AN ALBUM TITLED "S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0-09-04T18:09:06Z</dcterms:modified>
  <cp:revision>351</cp:revision>
  <dc:subject/>
  <dc:title>Slide 1</dc:title>
</cp:coreProperties>
</file>