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5781-37CC-4FF1-A9F5-A535E5310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95AF-6C1C-4D45-982D-1849676BD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E61E-D211-459B-AB3C-137D22276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E5E8-9FE6-4E65-B7E7-DE58813B8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2F04-8F1E-4A05-B3D0-5EEF60AF0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8B40-A89B-4D25-ABAA-4A8171E3B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CD45-1113-467E-B1DD-721FC253B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8B1D-EA8C-4A04-85E3-8938B0992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07BF-8F85-4365-83AC-6E7576FF7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D2A6-F576-41C2-A898-B59841B3F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9D1C-95AF-4BB7-B173-A9933D89D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394D-A67A-4E02-BB66-D66891541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483F-50E6-429D-98B1-A6B6630C4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6704-3801-4F4D-9344-D6E267052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EF48-2C6A-4B47-8D2A-A55C0BF3D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CF37-84EB-446E-A224-41D0C1CCF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59F1-3F00-46E9-B037-CC7094997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A5F1-3FDD-497E-B49A-71D45CEC6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3E6E-D079-4C89-98D8-62078FCE8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94AB-4BB2-4A08-A3AA-D19C2CF66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47D1-1124-4E78-B834-8A0241097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BF12-63E1-44E8-94FA-218A19CB8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F19F-72F9-4254-94DC-8D01364F7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BEST-SELLING BOOK DID FANNIE FARMER WRI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 STARRED IN THE 1988 FILM "FUNNY FAR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09–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FARMVILLE THE TOP GAME ON FACEBOOK DURING 2009-2010,   2011-2012, OR 2013-20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11160" y="434340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KE  A  GOOD  NEIGHBOR,  STATE  FARM  IS  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TATE FARM INSURANCE'S SLO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TTSBURGH  PI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NDIANAPOLIS INDIANS ARE THE FARM TEAM FOR WHAT MLB TEAM, LOCATED 350 MILES E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51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U.S. LAND IS FARMLAND?  20%, 30%, OR 40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50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DECADE WAS THE TERM "ANT-FARM" FIRST TRADEMARKED?  1930'S, 1940'S OR 195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990720" y="43434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PEAKER  OF  THE  HOUSE  OF  COMM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409760" y="763560"/>
            <a:ext cx="6324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ANADA, WHO LIVES IN A RESIDENCE CALLED "THE FAR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UNIVERSITY IS COLLOQUIALLY KNOWN AS "THE FAR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FARMVILLE THE TOP GAME ON FACEBOOK DURING 2009-2010,   2011-2012, OR 2013-20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. K. SIMM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ADEMY AWARD WINNER IS THE SPOKESMAN FOR FARMERS INSU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OK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BEST-SELLING BOOK DID FANNIE FARMER WR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VY  CH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 STARRED IN THE 1988 FILM "FUNNY FAR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TATE FARM INSURANCE'S SLOG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NDIANAPOLIS INDIANS ARE THE FARM TEAM FOR WHAT MLB TEAM, LOCATED 350 MILES E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U.S. LAND IS FARMLAND?  20%, 30%, OR 40%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DECADE WAS THE TERM "ANT-FARM" FIRST TRADEMARKED?  1930'S, 1940'S OR 195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ANADA, WHO LIVES IN A RESIDENCE CALLED "THE FAR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UNIVERSITY IS COLLOQUIALLY KNOWN AS "THE FAR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ADEMY AWARD WINNER IS THE SPOKESMAN FOR FARMERS INSUR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7:57:00Z</dcterms:created>
  <dc:creator>Jennifer Budzinski</dc:creator>
  <dc:description/>
  <dc:language>en-US</dc:language>
  <cp:lastModifiedBy>Erich Friedman</cp:lastModifiedBy>
  <dcterms:modified xsi:type="dcterms:W3CDTF">2020-09-04T18:37:49Z</dcterms:modified>
  <cp:revision>354</cp:revision>
  <dc:subject/>
  <dc:title>Slide 1</dc:title>
</cp:coreProperties>
</file>