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23DE-EBF8-4E11-AF4A-C85C2DA48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3980-7CFC-4EE7-BA65-7EB37A6A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A176-E5D8-4805-93B4-3E57F2099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A981-BCC2-41AF-B765-5ADDC5132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88C1-B96F-4058-81E8-914D18FC5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ED75-1D94-4AFC-9B9E-738C883F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D298-54A0-46EF-9EE7-D0DB92E48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F0A5-B7A8-4894-8F0A-AC0BA1980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D3E06-8F36-468E-AF39-320A33345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C4D6-9F63-48CD-9C0D-7460B46D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3231-09B3-498D-8195-9099AE4B5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4CC5-E99A-4B4A-A121-5BF29ADD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2184-05A4-47C9-AC8C-DF4BDF337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3A76-6AEF-41D0-AAF2-5A8DE342B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063A-2B53-4CD8-A036-867A171D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EF8D-F854-465F-A84D-DC8A9C331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0B56-41C1-4B95-B85C-407E9425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4FF9-F1D8-466D-84D7-21E5563BB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071C-15FC-48A7-94EC-5E5790138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B3A0-0A0E-43AA-8243-329330D99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F7E0-BBD3-494F-9702-B6967B944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B596-E975-4F7D-A46B-2211EF878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4A1C-A26F-4168-8A4C-3C8989397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R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ST-SELLING BOOK DID FANNIE FARMER WR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STARRED IN THE 1988 FILM "FUNNY F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9–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FARMVILLE THE TOP GAME ON FACEBOOK DURING 2009-2010,   2011-2012, OR 2013-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11160" y="434340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GOOD  NEIGHBOR,  STATE  FARM  IS  T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072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ATE FARM INSURANCE'S SLO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TSBURGH  PI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DIANAPOLIS INDIANS ARE THE FARM TEAM FOR WHAT MLB TEAM, LOCATED 350 MILES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51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U.S. LAND IS FARMLAND?  20%, 30%, OR 4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50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43000" y="7621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ECADE WAS THE TERM "ANT-FARM" FIRST TRADEMARKED?  1930'S, 1940'S OR 195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990720" y="434340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PEAKER  OF  THE  HOUSE  OF  CO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409760" y="763560"/>
            <a:ext cx="63244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ANADA, WHO LIVES IN A RESIDENCE CALLED "THE F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N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UNIVERSITY IS COLLOQUIALLY KNOWN AS "THE F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FARMVILLE THE TOP GAME ON FACEBOOK DURING 2009-2010,   2011-2012, OR 2013-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K. SI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Y AWARD WINNER IS THE SPOKESMAN FOR FARMERS INSU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K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BEST-SELLING BOOK DID FANNIE FARMER WR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VY  CH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STARRED IN THE 1988 FILM "FUNNY FAR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ATE FARM INSURANCE'S SLO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NDIANAPOLIS INDIANS ARE THE FARM TEAM FOR WHAT MLB TEAM, LOCATED 350 MILES E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U.S. LAND IS FARMLAND?  20%, 30%, OR 4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DECADE WAS THE TERM "ANT-FARM" FIRST TRADEMARKED?  1930'S, 1940'S OR 195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CANADA, WHO LIVES IN A RESIDENCE CALLED "THE FA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LIFORNIA UNIVERSITY IS COLLOQUIALLY KNOWN AS "THE FAR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ADEMY AWARD WINNER IS THE SPOKESMAN FOR FARMERS INSU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7:57:00Z</dcterms:created>
  <dc:creator>Jennifer Budzinski</dc:creator>
  <dc:description/>
  <dc:language>en-US</dc:language>
  <cp:lastModifiedBy>Erich Friedman</cp:lastModifiedBy>
  <dcterms:modified xsi:type="dcterms:W3CDTF">2020-09-04T18:37:49Z</dcterms:modified>
  <cp:revision>354</cp:revision>
  <dc:subject/>
  <dc:title>Slide 1</dc:title>
</cp:coreProperties>
</file>