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E5EA-1F0A-4BCE-A7E5-BBB7B80A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212-52E4-49F3-A136-5A670B65C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DFD-1526-41B7-BC50-DA53E0EE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4A8E-B0F2-436F-9B4A-ADE547CE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EBEC-3754-408F-969F-BDC3EB28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D76-2C3B-40C6-9277-B265102D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656-4EDB-40F6-9A02-C47E08EC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F9DC-6262-4483-A9F8-09707F50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6FC-E1D2-4932-A33D-D64BF20A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DDBB-29FB-4E4B-869C-E27CE4B9D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AD6F-CA1A-4553-86BE-2BDFC0B80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9FC-4C45-4B1C-809E-779B26D5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E2A-03D7-4C7A-8FE5-FD8918B6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5B31-77B3-4E4A-9B00-B36FBBB5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105-B83A-48B9-A224-614C2695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7A87-9897-413D-8D70-3D86D71F6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9B2-7E88-4EE6-A688-B4C4CD30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BCD-45D6-4382-B7DF-200AD175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630F-5EC3-4D64-A30E-F92CC457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287A-C6B2-47D8-AABF-63FA0D1A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9182-08D0-4E3F-A0AB-56774851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2BB-420A-4CAB-B10F-FF2E192D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D37-206E-452C-BB82-CC8069BC7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ICAL CHARACTER DERIVED UNNATURAL STRENGTH FROM HI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OUND FOR POUND, HUMAN HAIR IS AS STRONG AS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ARGE SIMPSON'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HOW MANY INCHES PER YEAR DOES HAIR GROW?  4, 6, OR 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S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VER OF THE SONG "HAIR" FROM THE MUSICAL WENT TO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724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BY,  STILLS,  NASH  &amp;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83808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MOST CUT MY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GREECE, WHAT COLOR HAIR WAS ASSOCIATED WITH PRO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HAVING STIMULATES HAIR AND MAKES IT GROW BACK THIC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006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MEN ARE BALD?  10%, 20%, OR 3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ARGE SIMPSON'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  M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ISSUE IN THE HUMAN BODY THAT GROWS FASTER THAN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ICAL CHARACTER DERIVED UNNATURAL STRENGTH FROM HI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OUND FOR POUND, HUMAN HAIR IS AS STRONG AS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HOW MANY INCHES PER YEAR DOES HAIR GROW?  4, 6, OR 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VER OF THE SONG "HAIR" FROM THE MUSICAL WENT TO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MOST CUT MY H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GREECE, WHAT COLOR HAIR WAS ASSOCIATED WITH PRO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HAVING STIMULATES HAIR AND MAKES IT GROW BACK THIC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MEN ARE BALD?  10%, 20%, OR 3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ISSUE IN THE HUMAN BODY THAT GROWS FASTER THAN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01:44:40Z</dcterms:created>
  <dc:creator>Jennifer Budzinski</dc:creator>
  <dc:description/>
  <dc:language>en-US</dc:language>
  <cp:lastModifiedBy>Erich Friedman</cp:lastModifiedBy>
  <dcterms:modified xsi:type="dcterms:W3CDTF">2020-09-04T18:38:42Z</dcterms:modified>
  <cp:revision>349</cp:revision>
  <dc:subject/>
  <dc:title>Slide 1</dc:title>
</cp:coreProperties>
</file>