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64FE-DEC6-4FA9-9B9E-34FA95DD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4F98-B5B4-4D57-83FA-C5B5F01F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D384-A694-4FA7-B3A6-E8729EB7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73F-AC6D-41A3-A76C-2B371BE43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8C2E-F746-4F93-B720-D0229CDD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06FC-27C9-4A20-B70F-01E6DCD1B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5553-D9C9-4F31-8668-D5244365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D951-F1C0-4F3E-A918-F0DBA27C0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DC5F-3D57-4330-AC54-4636E180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7651-B67A-4BE4-9C6C-5336C0346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F277-DCF1-45EB-8AA7-D709FB9F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2711-1AB3-4678-B805-2805D3CD9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9019-19E8-4C8D-88FE-644F49B5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D540-ABB5-4811-A8ED-7AA8E43AB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E3C2-1CC2-4BA0-9C3E-E9E55F43D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71B0-06E3-45DF-A0A7-0769977C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7966-9C74-4672-9904-E9B17CF7D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2EEF-6D12-472C-B23F-1B9FD1CBC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6012-AE6B-42DC-8E50-26250D1B8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FFE3-989F-4C20-B435-937451F4A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FBEE-68C8-47E1-A427-15C72980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263A-A2B4-41A1-85D8-3F32E8D88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1C7-46C4-4FC6-A33D-52488D922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ICAL CHARACTER DERIVED UNNATURAL STRENGTH FROM HIS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OUND FOR POUND, HUMAN HAIR IS AS STRONG AS I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ARGE SIMPSON'S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HOW MANY INCHES PER YEAR DOES HAIR GROW?  4, 6, OR 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WS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VER OF THE SONG "HAIR" FROM THE MUSICAL WENT TO #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724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BY,  STILLS,  NASH  &amp;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83808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MOST CUT MY 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GREECE, WHAT COLOR HAIR WAS ASSOCIATED WITH PRO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HAVING STIMULATES HAIR AND MAKES IT GROW BACK THIC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006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MEN ARE BALD?  10%, 20%, OR 3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ARGE SIMPSON'S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E  M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ISSUE IN THE HUMAN BODY THAT GROWS FASTER THAN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ICAL CHARACTER DERIVED UNNATURAL STRENGTH FROM HIS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OUND FOR POUND, HUMAN HAIR IS AS STRONG AS I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HOW MANY INCHES PER YEAR DOES HAIR GROW?  4, 6, OR 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VER OF THE SONG "HAIR" FROM THE MUSICAL WENT TO #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MOST CUT MY H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GREECE, WHAT COLOR HAIR WAS ASSOCIATED WITH PROSTIT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HAVING STIMULATES HAIR AND MAKES IT GROW BACK THIC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MEN ARE BALD?  10%, 20%, OR 3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ISSUE IN THE HUMAN BODY THAT GROWS FASTER THAN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01:44:40Z</dcterms:created>
  <dc:creator>Jennifer Budzinski</dc:creator>
  <dc:description/>
  <dc:language>en-US</dc:language>
  <cp:lastModifiedBy>Erich Friedman</cp:lastModifiedBy>
  <dcterms:modified xsi:type="dcterms:W3CDTF">2020-09-04T18:38:42Z</dcterms:modified>
  <cp:revision>349</cp:revision>
  <dc:subject/>
  <dc:title>Slide 1</dc:title>
</cp:coreProperties>
</file>