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843F-6D82-4713-A30C-B09C4C26F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27C0-B6B0-4D99-A448-FB0034F9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AC0C-2482-41B3-9AC8-D684B72B6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147-1906-4D72-AAF0-FE4C3267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D628-81CB-4CA6-A014-95CB2A67F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DD7E-41B4-458A-9183-28CD2142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BCA0-BEB7-434C-8C0D-4FC65DD0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2F23-7028-48CA-A088-22162AD4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AA64-194A-4914-99E2-F71BFBE11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6C4-DE6E-4551-B029-15B702823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509B-F521-4CF6-8E3C-10269C3D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E24D-0976-4692-8105-FAB58B69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AC55-9B30-4BA5-B5E2-95803BE6C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7EFA-8315-4FA0-BFAC-815EF7273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ED23-3A73-4944-BBE0-685FD273F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E4AE-6AE7-467A-8B2A-0BE2D8D58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BF772-C4A4-4052-A699-DE7A581F6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B768-F5DC-41A8-8BDE-FA40BE30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CEC-048B-4455-AEE0-44C19D16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F8A-E745-4C34-B4DB-CD744F2B4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232-2ABE-467F-AE6A-5F907F6D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FF87-8825-40AB-991D-547B93BB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4C79-17A5-41BF-B37C-5755AF6D1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ICAL CHARACTER DERIVED UNNATURAL STRENGTH FROM HI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OUND FOR POUND, HUMAN HAIR IS AS STRONG AS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ARGE SIMPSON'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HOW MANY INCHES PER YEAR DOES HAIR GROW?  4, 6, OR 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S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VER OF THE SONG "HAIR" FROM THE MUSICAL WENT TO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7242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BY,  STILLS,  NASH  &amp;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523880" y="838080"/>
            <a:ext cx="609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MOST CUT MY HAI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GREECE, WHAT COLOR HAIR WAS ASSOCIATED WITH PRO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HAVING STIMULATES HAIR AND MAKES IT GROW BACK THIC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0060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MEN ARE BALD?  10%, 20%, OR 3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ARGE SIMPSON'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  MA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ISSUE IN THE HUMAN BODY THAT GROWS FASTER THAN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BLICAL CHARACTER DERIVED UNNATURAL STRENGTH FROM HI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OUND FOR POUND, HUMAN HAIR IS AS STRONG AS I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HOW MANY INCHES PER YEAR DOES HAIR GROW?  4, 6, OR 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COVER OF THE SONG "HAIR" FROM THE MUSICAL WENT TO #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LMOST CUT MY HAI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GREECE, WHAT COLOR HAIR WAS ASSOCIATED WITH PRO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HAVING STIMULATES HAIR AND MAKES IT GROW BACK THIC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MEN ARE BALD?  10%, 20%, OR 3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ISSUE IN THE HUMAN BODY THAT GROWS FASTER THAN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01:44:40Z</dcterms:created>
  <dc:creator>Jennifer Budzinski</dc:creator>
  <dc:description/>
  <dc:language>en-US</dc:language>
  <cp:lastModifiedBy>Erich Friedman</cp:lastModifiedBy>
  <dcterms:modified xsi:type="dcterms:W3CDTF">2020-09-04T18:38:42Z</dcterms:modified>
  <cp:revision>349</cp:revision>
  <dc:subject/>
  <dc:title>Slide 1</dc:title>
</cp:coreProperties>
</file>