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D761-71EF-4596-A630-64337A7FC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327F-5090-4223-AA9B-64956D817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3E8E-75C9-486E-B957-5737305AF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8E06-7E72-452B-AECB-AB4B3CBB0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F101-8BB4-4639-90C4-ACB6C5780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1D16-FA59-4697-AA60-588BEE0EE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C144-74E0-47E3-ACE9-EF4D5CFCF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0303-5868-400A-9CCF-DBC3062DA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47F9-CCDE-45C7-8188-D135009A9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8D0A-721D-4935-A4C4-3D9D56D58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A45E-9952-46C3-967A-8B322BBDD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8468-DE30-461D-882C-A49CD136B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B751-7CA5-40AF-ABA6-68EFADE89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9408-BCA1-4B34-A10D-8A7653535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A5B0-FB3D-4E30-A3BE-AD42832C2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82BB-A37D-4E44-8B1F-42E3069CE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A6E7-682F-4391-9369-E02049C53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D88E-2594-4490-83F4-DC33ADABD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BE7D-4A02-41C7-9A40-39B1BCF0E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36A3-5ED5-418D-9964-B39DC099B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6A22-56A8-4D4B-A1EA-76E18F5C3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44AB-FE33-48A5-9623-1E4F9CF86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F66F-6E7B-4951-8AAB-F3764F560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47640" y="13716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E THESE NAMES OF A BAND, DANCE, OR DRINK? (THANKS MARGIE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LCOHOLOCAU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AST WOR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09480" y="762120"/>
            <a:ext cx="79250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ABBAGE PATC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CCIDENTAL SUICID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95288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UNDER CLA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I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ROUCHING TIG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53352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I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ELEPHANT SHAK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600200" y="762120"/>
            <a:ext cx="5943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UBRICATED GOA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43080" y="762120"/>
            <a:ext cx="84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RUNKEN  CAME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BBAGE PATC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RANK THA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LCOHOLOCAU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I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AST WOR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CCIDENTAL SUICID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UNDER CLA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ROUCHING TIG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ELEPHANT SHAK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600200" y="761760"/>
            <a:ext cx="5943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UBRICATED GOA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RUNKEN CAME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RANK THA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0T12:30:01Z</dcterms:created>
  <dc:creator>Jennifer Budzinski</dc:creator>
  <dc:description/>
  <dc:language>en-US</dc:language>
  <cp:lastModifiedBy>Erich Friedman</cp:lastModifiedBy>
  <dcterms:modified xsi:type="dcterms:W3CDTF">2020-09-04T18:39:21Z</dcterms:modified>
  <cp:revision>334</cp:revision>
  <dc:subject/>
  <dc:title>Slide 1</dc:title>
</cp:coreProperties>
</file>