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513A-6D62-4C0E-8AC8-501066C92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CE27-94D9-4117-B68E-D64E120E0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85C-9B11-4626-AADD-E0CB605A6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FCEE-A943-4539-AFAB-13B57026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644F-4C2C-45EC-BFC4-4CE18BFE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D896-0745-4A51-8C88-76364C01F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8713-90F7-468C-9B4C-507BC1D2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E93E-2F09-4A99-A7F9-C1B1AF1B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B209-34E6-464F-B66C-4358524F2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D500-90BD-4759-AA83-280120F1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6353-7FB7-4E04-ACDA-DE17BB3A1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CAE9-8B88-463F-B81A-8C79BDC6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5FC1-83C0-45FD-B3F4-344B923C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F583-24F3-4785-BB6A-BBF2B8A4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84F5-D7D4-4221-ADED-A5F7FA01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8570-B722-4746-99AF-75EAC498A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1CA7-A00A-41C8-A0E9-FBA2B94F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EC05-395D-4F31-A7E5-39CCE5BAC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B314-04DA-4FD1-82C9-F6C9D7E9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3225-44E3-4A4A-8B9D-BC3BB3160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1D3D-F5C5-4BD3-9A40-E5D03B7F7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BC02-96F1-4CFD-8043-A1CBE676F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C790-C0C2-4DEC-8859-AF9A9D04A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47640" y="13716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THESE NAMES OF A BAND, DANCE, OR DRINK? (THANKS MARGIE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COHOLOCA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AST WO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BBAGE PA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CCIDENTAL SUIC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UNDER CLA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OUCHING TI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LEPHANT SHA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0200" y="762120"/>
            <a:ext cx="5943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UBRICATED G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RUNKEN  CAM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BBAGE PA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ANK TH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COHOLOCA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AST WO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CCIDENTAL SUIC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UNDER CLA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OUCHING TI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LEPHANT SHA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UBRICATED G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RUNKEN CAM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ANK TH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12:30:01Z</dcterms:created>
  <dc:creator>Jennifer Budzinski</dc:creator>
  <dc:description/>
  <dc:language>en-US</dc:language>
  <cp:lastModifiedBy>Erich Friedman</cp:lastModifiedBy>
  <dcterms:modified xsi:type="dcterms:W3CDTF">2020-09-04T18:39:21Z</dcterms:modified>
  <cp:revision>334</cp:revision>
  <dc:subject/>
  <dc:title>Slide 1</dc:title>
</cp:coreProperties>
</file>