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90AD-5F6F-47AB-979A-FAA9ED4EC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702A-59CD-4460-8770-3377D7DF4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3AB2-5A82-4098-818B-37ADABE8E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8CF6-F989-4F1B-AA91-A4B8E62FA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EB95-BFC5-48BB-8DAE-CCC251C1B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09AE-9D46-4193-AFB2-F4235ADB5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D346-59F6-4529-BB63-EDC0A6127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BF92-79A0-450E-B41D-29244320B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B8A7-AF4F-42D4-9EEE-ED35C32B3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06FA-45A3-4BB1-99B6-BD8843FE1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E73F-6B69-47E8-98A6-996B56172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7313-30EA-4227-9460-5F43BAA4A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D890-2F16-4978-9760-42058CDC6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3FE7-A953-4FD2-83A9-DAF996559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ADC8-5E20-4B03-9B1C-4AF217D26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BC5A-BE5C-4E33-83AB-22BB4EE25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BCA4-2EF6-44F7-82E5-56A6B267C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ED13-C5B6-4E42-B471-BECE39E66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0A6B-8D91-4BDD-A812-5BECF4387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D887-DC12-4957-88AB-7C3821E35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80E7-C2B7-4E06-AE3B-A215BE0CC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B7BD-C8B1-4650-90A0-1441B83CD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87C2-51CD-468A-BD14-B9B48450E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23920" y="1523880"/>
            <a:ext cx="6896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IPLES     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E THE 3 MEMBERS OF THE HOLY TRIN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066680" y="762120"/>
            <a:ext cx="70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DOMAINS IN BIOLOGIC TAXONOM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0" y="4876920"/>
            <a:ext cx="914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MINGO,  CARRERAS  &amp;  PAVAROT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LAST NAMES OF THE 3 TEN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MANY,  ITALY  &amp;  JA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WII, WHICH 3 COUNTRIES FORMED THE AXIS PO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409760" y="4343400"/>
            <a:ext cx="6324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DIMENTARY,  IGNEOUS  &amp;  METAMORPH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81160" y="762120"/>
            <a:ext cx="67816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MAIN TYPES OF ROC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3434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TUCKY  DERBY,  PREAKNESS  STAKES  &amp;  BELMONT  STAK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HORSE RACES MAKE UP THE TRIPLE CR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HIO,  OKLAHOMA  &amp;  ORE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95280" y="762120"/>
            <a:ext cx="6553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U.S. STATES BEGIN WITH "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THOS,  ARAMIS  &amp;  PORTH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43000" y="762120"/>
            <a:ext cx="6858000" cy="30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NAMES OF THE 3 MUSKETE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E,  LARRY  &amp;  SHE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81160" y="762120"/>
            <a:ext cx="6781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THE FIRST NAMES OF THE ORIGINAL 3 STOO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LAST NAMES OF THE 3 TENO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YAN,  MAGENTA  &amp;  YE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COLORS OF INK ARE REQUIRED FOR MOST COLOR PRIN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THER,  SON  &amp;  HOLY  SPI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66680" y="762120"/>
            <a:ext cx="70106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E THE 3 MEMBERS OF THE HOLY TRIN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CHAEA,  BACTERIA  &amp;  EUKARY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52560" y="762120"/>
            <a:ext cx="723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DOMAINS IN BIOLOGIC TAXONOM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WII, WHICH 3 COUNTRIES FORMED THE AXIS POW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MAIN TYPES OF ROC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HORSE RACES MAKE UP THE TRIPLE CR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76200" y="761760"/>
            <a:ext cx="6591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U.S. STATES BEGIN WITH "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NAMES OF THE 3 MUSKETE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THE FIRST NAMES OF THE ORIGINAL 3 STOOG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COLORS OF INK ARE REQUIRED FOR MOST COLOR PRIN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7:45:44Z</dcterms:created>
  <dc:creator>Jennifer Budzinski</dc:creator>
  <dc:description/>
  <dc:language>en-US</dc:language>
  <cp:lastModifiedBy>Erich Friedman</cp:lastModifiedBy>
  <dcterms:modified xsi:type="dcterms:W3CDTF">2020-09-04T18:42:35Z</dcterms:modified>
  <cp:revision>350</cp:revision>
  <dc:subject/>
  <dc:title>Slide 1</dc:title>
</cp:coreProperties>
</file>