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8974-2010-4232-9DC3-96CF5251A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281F-7E74-47D8-B1CD-9DB30D9A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C6C-A5DC-48D7-A2FD-70F1FEAE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F75F-9638-45F3-B961-A6288291B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1D2F-2C58-45AB-A3CE-39EC1B58E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7744-6B4E-4413-9F7B-C7BE60B39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4EA5-31DF-4843-9A60-0BEEA64FE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CCD1-E3F5-4BE0-A28A-DE67E7833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33B-15A4-4129-80B9-E35246EF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27E1-B6BB-4C6D-B36B-564F8C384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3B51-BAB2-445D-8872-570C173F6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BBBA-8A5A-489C-8E2A-1C450CC2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E8F3-6621-41DA-BC3E-1E2BA1E6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7E5E-4A6B-4250-B4FE-E133A9DB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5EAF-C713-4BA7-B052-8A6C836CD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8C54-5C2A-4830-9628-D51A069C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C48A-66D2-4337-AA1E-AA5F2223E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ABD3-44BB-487B-8C1C-8654E0D0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BDB1-0327-47DA-8C14-4741219A6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5F114-4E25-48AF-B3D8-D8A0B4DEA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8FCF-1B9E-4A61-B470-43CBCBF97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EC91-32B4-422C-8465-0A857C5E4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380D-1C7D-4DA0-8938-CFAB067B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23920" y="1523880"/>
            <a:ext cx="6896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IPLES                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3 MEMBERS OF THE HOLY TRIN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DOMAINS IN BIOLOGIC TAX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INGO,  CARRERAS  &amp;  PAVARO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NAMES OF THE 3 TEN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,  ITALY  &amp;  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ICH 3 COUNTRIES FORMED THE AXIS 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409760" y="4343400"/>
            <a:ext cx="63244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DIMENTARY,  IGNEOUS  &amp;  METAMORPH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MAIN TYPE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3434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  DERBY,  PREAKNESS  STAKES  &amp;  BELMONT  ST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 RACES MAKE UP THE TRIPLE CR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,  OKLAHOMA  &amp;  ORE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95280" y="762120"/>
            <a:ext cx="6553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U.S. STATES BEGIN WITH "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HOS,  ARAMIS  &amp;  PORT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3 MUSKETE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E,  LARRY  &amp;  SHE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NAMES OF THE ORIGINAL 3 STOOG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LAST NAMES OF THE 3 TENO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AN,  MAGENTA  &amp;  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OF INK ARE REQUIRED FOR MOST COLOR PRIN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HER,  SON  &amp;  HOLY  SPI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RE THE 3 MEMBERS OF THE HOLY TRI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CHAEA,  BACTERIA  &amp;  EUKARY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52560" y="762120"/>
            <a:ext cx="7238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DOMAINS IN BIOLOGIC TAXONO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WII, WHICH 3 COUNTRIES FORMED THE AXIS 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MAIN TYPES OF ROC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HORSE RACES MAKE UP THE TRIPLE CR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U.S. STATES BEGIN WITH "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NAMES OF THE 3 MUSKETE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ERE THE FIRST NAMES OF THE ORIGINAL 3 STOOG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LORS OF INK ARE REQUIRED FOR MOST COLOR PRIN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7:45:44Z</dcterms:created>
  <dc:creator>Jennifer Budzinski</dc:creator>
  <dc:description/>
  <dc:language>en-US</dc:language>
  <cp:lastModifiedBy>Erich Friedman</cp:lastModifiedBy>
  <dcterms:modified xsi:type="dcterms:W3CDTF">2020-09-04T18:42:35Z</dcterms:modified>
  <cp:revision>350</cp:revision>
  <dc:subject/>
  <dc:title>Slide 1</dc:title>
</cp:coreProperties>
</file>