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D718-B8AC-40A1-9206-B2FD0BEC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14CB-F970-47C1-8806-EDBC3F23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10D9-F6CC-404D-8E76-2AE18D966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7F48-7794-4354-A1E3-1FB2BD29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F90E1-EAB5-49F6-A505-71EFB5FE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5F95-83A8-427F-A0E6-4B16877A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8BC7-B5DE-472F-A498-96C6E20CB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E412-5E8F-4E82-A1C8-4910D48CE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FD2C-C16F-4721-8E16-3E6F8E021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B3DB-727F-4132-8DE0-E992A414A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8B4-AF53-41D7-A533-1ACA992E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5393-8A16-4B6E-ACAD-C437E6553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1112-BD8F-4C82-89C4-FB1C12F5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E901-2390-48D1-B446-747C94D9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10E3-1F05-45D6-823D-5DA5944AD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BC4A-450E-4DB5-899C-AC673AED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B5F6-5152-41E1-905A-BCEEB31FE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6B51-C626-4412-B3CF-E4FC34365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E06D9-7C00-4DCE-BD04-EA9AA4DDB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7D65-FCDC-4281-BBF7-DB0D6F34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63C-405B-4387-8F8A-4E24C98E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55DC-7172-4195-A125-835513E62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E7F4-DD1B-441E-99F2-3FFC49D1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&amp;  HANDS  (64  &gt;  6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Y  DES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TIPLICATION  &amp;  D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OREST  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THERE MORE HUMAN BONES IN THE ARMS &amp; HANDS, OR THE LEGS &amp;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NE CHINA IS MADE ALMOST EXCLUSIVELY IN WHAT COUNTRY?  CHINA, ENGLAND, OR THE U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HORO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82 HIT SONG "BAD TO THE B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2005-2017 TV SERIES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"NAPIER'S BONES" US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BOUT 7000 YEARS AGO, THE ANKLE BONES OF OXEN AND SHEEP WERE USED BY SHAMANS FOR DIVINATION.  WHAT WOULD WE CALL THESE OBJECTS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BONES" ON THE ORIGINAL STAR TREK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ECES OF WHAT POPULAR MATCHING GAME ARE KNOWN AS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FICTION NOVEL "BAG OF BONES"?  DEAN KOONTZ, STEPHEN KING, OR ANNE 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ACTOR STARRED WITH ANGELINA JOLIE IN THE 1999 MOVIE "THE BONE COLLEC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9T18:06:54Z</dcterms:created>
  <dc:creator>Jennifer Budzinski</dc:creator>
  <dc:description/>
  <dc:language>en-US</dc:language>
  <cp:lastModifiedBy>Erich Friedman</cp:lastModifiedBy>
  <dcterms:modified xsi:type="dcterms:W3CDTF">2020-09-04T12:50:28Z</dcterms:modified>
  <cp:revision>309</cp:revision>
  <dc:subject/>
  <dc:title>Slide 1</dc:title>
</cp:coreProperties>
</file>