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DAD5-7A3B-467F-BC99-D18585AE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3E88-D2FA-4E50-B73A-CCDC363F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7CCD-592C-40D5-840E-8D9F4F1E3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6BC9-5EE7-41C7-B31B-240A45842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F21-14E3-4DF2-BE4E-38857433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B52-F8E0-4AD2-8349-517B355C1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755D-F731-4BF1-A7CB-2201A7D0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F507-7D61-4A6F-A3CA-956B0E77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90E7-5AF2-4DB0-A919-5A18CBF7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664-B142-467F-B13F-A1083BC8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1EC9-B452-44ED-A458-2950794F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ED68-0E34-4DC8-B4CB-F815278B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CBF-9166-4E3F-B4A6-FC2D0D5F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D536-83F1-4C7E-A213-0BD2CA17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5787-8D1F-49A5-B99C-BA6E9720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3C1E-F2E4-4510-B9DA-7250634A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635-D79A-4671-A296-D85FE40E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E99-0081-45F7-AFFC-55EFF16BD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D51E-C408-47F5-AF02-61602CC8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44CF-1CB8-407D-A638-14897C04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20F-3196-4A1D-A5D2-43D02374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89D2-9F4F-4DC4-9887-1669F0F4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6A7F-89AC-44F6-B243-C38FB2C6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NE CHINA IS MADE ALMOST EXCLUSIVELY IN WHAT COUNTRY?  CHINA, ENGLAND, OR THE U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82 HIT SONG "BAD TO THE B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  &amp;  HANDS  (64  &gt;  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 HUMAN BONES IN THE ARMS &amp; HANDS, OR THE LEGS &amp;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2005-2017 TV SERIES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LTIPLICATION  &amp; 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"NAPIER'S BONES" US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7000 YEARS AGO, THE ANKLE BONES OF OXEN AND SHEEP WERE USED BY SHAMANS FOR DIVINATION.  WHAT WOULD WE CALL THESE OBJECT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OREST 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ORIGINAL STAR TREK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ECES OF WHAT POPULAR MATCHING GAME ARE KNOWN AS B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FICTION NOVEL "BAG OF BONES"?  DEAN KOONTZ, STEPHEN KING, OR ANNE 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 HUMAN BONES IN THE ARMS &amp; HANDS, OR THE LEGS &amp;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ACTOR STARRED WITH ANGELINA JOLIE IN THE 1999 MOVIE "THE BONE COLLEC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NE CHINA IS MADE ALMOST EXCLUSIVELY IN WHAT COUNTRY?  CHINA, ENGLAND, OR THE U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THORO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82 HIT SONG "BAD TO THE B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2005-2017 TV SERIES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"NAPIER'S BONES" US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7000 YEARS AGO, THE ANKLE BONES OF OXEN AND SHEEP WERE USED BY SHAMANS FOR DIVINATION.  WHAT WOULD WE CALL THESE OBJECTS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ORIGINAL STAR TREK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ECES OF WHAT POPULAR MATCHING GAME ARE KNOWN AS B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FICTION NOVEL "BAG OF BONES"?  DEAN KOONTZ, STEPHEN KING, OR ANNE 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ACTOR STARRED WITH ANGELINA JOLIE IN THE 1999 MOVIE "THE BONE COLLEC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9T18:06:54Z</dcterms:created>
  <dc:creator>Jennifer Budzinski</dc:creator>
  <dc:description/>
  <dc:language>en-US</dc:language>
  <cp:lastModifiedBy>Erich Friedman</cp:lastModifiedBy>
  <dcterms:modified xsi:type="dcterms:W3CDTF">2020-09-04T12:50:28Z</dcterms:modified>
  <cp:revision>309</cp:revision>
  <dc:subject/>
  <dc:title>Slide 1</dc:title>
</cp:coreProperties>
</file>