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202-B49A-46F5-9A29-3C19FA6AE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4F5-BC39-4698-9749-4D4025BF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F87-185A-4417-B382-398B2839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830A-385A-4AA2-AD3B-5EB858FD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D60-40C4-4272-9E09-2743289D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3B8-D3B8-4F9E-9BFA-06027C0B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07FA-2F67-43F0-98EB-3C29BB97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21F-20F0-4656-A7EA-0F42E2ED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C94-BD1B-4AA9-B285-30016FF6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2F6-0C44-47F9-B039-6A5B84110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694-4071-4492-ABA8-BE3100D6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A671-165E-49BE-B6C0-474376D74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D6D-15E0-4905-AEBA-7FA05625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4E5D-9F97-4F2D-BFC4-257310D14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33F8-16E2-4AED-A113-6DB2B391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88A-E411-439C-89B5-FD8F39AE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013-8E07-4F17-BE2A-7132B9C1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BE8-AF4D-4AD6-868C-8648CE23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42F-4DCD-492F-8C65-EE10DCFF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DEDA-0255-4F5E-BDED-817F8241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967D-2AC8-4593-89BE-DC1AA7A9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495-68E2-4C0C-A3B7-F8C77DFE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4E6-93CC-496D-ADD9-25855581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NE CHINA IS MADE ALMOST EXCLUSIVELY IN WHAT COUNTRY?  CHINA, ENGLAND, OR THE U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82 HIT SONG "BAD TO THE B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  &amp;  HANDS  (64  &gt;  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 HUMAN BONES IN THE ARMS &amp; HANDS, OR THE LEGS &amp;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2005-2017 TV SERIES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TIPLICATION  &amp; 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"NAPIER'S BONES"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7000 YEARS AGO, THE ANKLE BONES OF OXEN AND SHEEP WERE USED BY SHAMANS FOR DIVINATION.  WHAT WOULD WE CALL THESE OBJECT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OREST 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ORIGINAL STAR TREK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ECES OF WHAT POPULAR MATCHING GAME ARE KNOWN AS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FICTION NOVEL "BAG OF BONES"?  DEAN KOONTZ, STEPHEN KING, OR ANNE 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 HUMAN BONES IN THE ARMS &amp; HANDS, OR THE LEGS &amp;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ACTOR STARRED WITH ANGELINA JOLIE IN THE 1999 MOVIE "THE BONE COLLEC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NE CHINA IS MADE ALMOST EXCLUSIVELY IN WHAT COUNTRY?  CHINA, ENGLAND, OR THE U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THORO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82 HIT SONG "BAD TO THE B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2005-2017 TV SERIES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"NAPIER'S BONES"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7000 YEARS AGO, THE ANKLE BONES OF OXEN AND SHEEP WERE USED BY SHAMANS FOR DIVINATION.  WHAT WOULD WE CALL THESE OBJECTS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ORIGINAL STAR TREK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ECES OF WHAT POPULAR MATCHING GAME ARE KNOWN AS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FICTION NOVEL "BAG OF BONES"?  DEAN KOONTZ, STEPHEN KING, OR ANNE 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ACTOR STARRED WITH ANGELINA JOLIE IN THE 1999 MOVIE "THE BONE COLLEC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9T18:06:54Z</dcterms:created>
  <dc:creator>Jennifer Budzinski</dc:creator>
  <dc:description/>
  <dc:language>en-US</dc:language>
  <cp:lastModifiedBy>Erich Friedman</cp:lastModifiedBy>
  <dcterms:modified xsi:type="dcterms:W3CDTF">2020-09-04T12:50:28Z</dcterms:modified>
  <cp:revision>309</cp:revision>
  <dc:subject/>
  <dc:title>Slide 1</dc:title>
</cp:coreProperties>
</file>