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1F57-143D-4C9B-8E03-C51C24628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2B48-ABE5-4E4F-A9A2-37F501E62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28F-A6E2-4083-9C27-5A35D0476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75E3-56D8-4907-94B6-9C5C3D79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6BB3-456D-4570-A8CF-4426DADE6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3522-270E-41D3-833E-B355AD78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4314-67E4-4D7E-A4EA-AB6B120D8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0154-2A75-418B-BA72-D63BB8548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D0C5-1A37-4678-9ED5-BCA435602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E6A8-F3E3-4A85-AA4B-C5B6540AE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22D-6591-4FD3-82AB-60FD975F0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3EDB-288D-4EBB-9B0C-8F354872A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BE6A-B762-4F73-824E-86D310791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AED6-23FB-4CFF-A7C0-05016F18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831F-B667-455F-BB45-8B2244BC5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0ED1-EF2F-404F-827E-253C9076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6C8F-A7DE-4D32-A5CE-9863D4D15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3279-9DBD-4A9A-9405-93974E4FA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4313-65F5-4C77-8001-5812040D7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2C2D-8EC0-4660-A5E0-8CB461AD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71E-C437-4BE3-9B7B-C685BC5AA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E01F-2E10-4CF8-9890-3F53B2D14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F0B5-73BC-4434-98F1-D316FF185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ANA THE ROMAN GODDESS OF? (THERE ARE SEVERAL CORRECT ANSWE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RTY 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1957 #1 SONG "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INCESS DIANA'S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95280" y="488160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UPRE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 ROSS WAS THE LEAD SINGER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SPORT DID DIANA TAURASI WIN 4 OLYMPIC GOLD MED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PEEL  (ON  "THE  AVENGERS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IGG PLAYED OLENNA TYRELL ON "GAME OF THRONES", BUT WHAT ROLE IS SHE FAMOUS FOR PLAYING IN THE 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BA  TO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NYAD WAS THE FIRST PERSON TO SWIM WHAT 110 MILE JOURNEY WITHOUT THE USE OF A SHARK C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NA",            A LOVE SONG FOR PRINCESS DIANA, WHOM HE HAD AN AFFAIR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1957 #1 SONG "DI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LA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HISTORICAL TIME TRAVEL BOOKS, WHICH HAS BEEN MADE INTO A TV SERIES, IS DIANA GABALDON KNOWN FOR WRI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343400"/>
            <a:ext cx="83822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NT,  MOON,  NATURE,  CHILDBIRTH,  OR  WOM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DIANA THE ROMAN GODDESS OF? (THERE ARE SEVERAL CORRECT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RTY DI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RINCESS DIANA'S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WAS THE LEAD SINGER OF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ICH SPORT DID DIANA TAURASI WIN 4 OLYMPIC GOLD MED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IGG PLAYED OLENNA TYRELL ON "GAME OF THRONES", BUT WHAT ROLE IS SHE FAMOUS FOR PLAYING IN THE 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NYAD WAS THE FIRST PERSON TO SWIM WHAT 110 MILE JOURNEY WITHOUT THE USE OF A SHARK C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ANA",           A LOVE SONG FOR PRINCESS DIANA, WHOM HE HAD AN AFFAIR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OF HISTORICAL TIME TRAVEL BOOKS, WHICH HAS BEEN MADE INTO A TV SERIES, IS DIANA GABALDON KNOWN FOR WRI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0:23:27Z</dcterms:created>
  <dc:creator>Jennifer Budzinski</dc:creator>
  <dc:description/>
  <dc:language>en-US</dc:language>
  <cp:lastModifiedBy>Erich Friedman</cp:lastModifiedBy>
  <dcterms:modified xsi:type="dcterms:W3CDTF">2020-09-04T20:35:07Z</dcterms:modified>
  <cp:revision>347</cp:revision>
  <dc:subject/>
  <dc:title>Slide 1</dc:title>
</cp:coreProperties>
</file>