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3ECC-6C96-43CA-A591-51FE3500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72EE-1DE7-464D-962C-56D3D3F7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3794-95CA-4EA6-B474-B47CE75D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15A-E991-48E9-BC58-77DB6F635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823E-DF28-4D6D-AD0D-8F27241EA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1B26-5258-4C02-AF04-F2FBC043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F9E0-6C81-4DF0-B2A4-34DEA44D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9CE0-53D3-4730-ACB3-BD7E09E1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3AD-78DC-45C1-A8E6-828EB90E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4A8-A60C-4F0C-BDE4-FDD7515D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BBC2-22D5-40B6-8E41-085531A9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D42C-01D3-4217-8080-3243DF6A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C863-DDED-428C-94BD-A1FF1472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A5FC-E180-42C2-9348-E7CE01074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3F2-0AC6-4B4D-BB2B-30906B64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D34-8FC4-42C4-9EC9-DC44C4F2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02B-5206-43CF-BB58-64540E06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B4D6-4DAC-40D2-9D78-3034F467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4292-3354-4DB4-956F-87C803A8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BBF9-E7F9-4AB0-BB2E-2663DE1AE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746-C95C-4929-BA32-336932D1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00EC-8327-4524-906B-E0C2B51A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13F-7367-4866-8507-BF556818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ANA THE ROMAN GODDESS OF? (THERE ARE SEVERAL CORRECT ANSWE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RTY 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1957 #1 SONG "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INCESS DIANA'S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95280" y="4881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PR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 ROSS WAS THE LEAD SINGER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SPORT DID DIANA TAURASI WIN 4 OLYMPIC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PEEL  (ON  "THE  AVENGE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IGG PLAYED OLENNA TYRELL ON "GAME OF THRONES", BUT WHAT ROLE IS SHE FAMOUS FOR PLAYING IN THE 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BA  TO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NYAD WAS THE FIRST PERSON TO SWIM WHAT 110 MILE JOURNEY WITHOUT THE USE OF A SHARK C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NA",            A LOVE SONG FOR PRINCESS DIANA, WHOM HE HAD AN AFFAIR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1957 #1 SONG "DI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L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HISTORICAL TIME TRAVEL BOOKS, WHICH HAS BEEN MADE INTO A TV SERIES, IS DIANA GABALDON KNOWN FOR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3434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,  MOON,  NATURE,  CHILDBIRTH,  OR  WO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ANA THE ROMAN GODDESS OF? (THERE ARE SEVERAL CORRECT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RTY 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INCESS DIANA'S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WAS THE LEAD SINGER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SPORT DID DIANA TAURASI WIN 4 OLYMPIC GOLD MED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IGG PLAYED OLENNA TYRELL ON "GAME OF THRONES", BUT WHAT ROLE IS SHE FAMOUS FOR PLAYING IN THE 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NYAD WAS THE FIRST PERSON TO SWIM WHAT 110 MILE JOURNEY WITHOUT THE USE OF A SHARK C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NA",           A LOVE SONG FOR PRINCESS DIANA, WHOM HE HAD AN AFFAIR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HISTORICAL TIME TRAVEL BOOKS, WHICH HAS BEEN MADE INTO A TV SERIES, IS DIANA GABALDON KNOWN FOR WR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0:23:27Z</dcterms:created>
  <dc:creator>Jennifer Budzinski</dc:creator>
  <dc:description/>
  <dc:language>en-US</dc:language>
  <cp:lastModifiedBy>Erich Friedman</cp:lastModifiedBy>
  <dcterms:modified xsi:type="dcterms:W3CDTF">2020-09-04T20:35:07Z</dcterms:modified>
  <cp:revision>347</cp:revision>
  <dc:subject/>
  <dc:title>Slide 1</dc:title>
</cp:coreProperties>
</file>