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1A52-0053-41A9-9C2B-0377AC06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476-8DB7-4342-82E8-5F7263F9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BF1-0A0D-4B03-8F32-87B55F96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E894-E7F8-4B12-9F50-DF81E0D3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7920-F6FD-4194-9A20-60A8DA24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F4E-18E2-424F-9F86-549D594D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1D52-1CA6-4B94-B33D-EF9DCE65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AFC-810F-4E28-A1EA-64B84753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7307-4121-4E42-96D1-8AEBDDBC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C4F3-55C5-4DA3-8BED-029B550B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351-8804-487F-A2DD-F937732D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6D8-1952-4CBD-91F4-96637335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C3D6-B723-463A-B908-6734335E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6172-1297-469B-A4DC-2D5F0797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D2A-8869-4F92-BA6A-A33C70B5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ED65-4362-4A2D-8E01-F97C1B07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5EF4-876B-4B26-B8BF-1FA378A5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70D-3161-44C9-945C-25EFAFFF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B621-C60E-464B-8F45-A085FEA0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302-88A5-40D9-B844-0B6545BB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537-46C9-4B2F-8C55-DBF02D27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4EE7-FFE1-4568-A613-50052AAF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BDFD-C459-4991-AF59-AEB14E69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81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PR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  (ON  "THE  AVENG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BA  TO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 A LOVE SONG FOR PRINCESS DIANA, WHOM HE HAD AN AFFAIR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,  MOON,  NATURE,  CHILDBIRTH,  OR  WO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A LOVE SONG FOR PRINCESS DIANA, WHOM HE HAD AN AFFAIR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0:23:27Z</dcterms:created>
  <dc:creator>Jennifer Budzinski</dc:creator>
  <dc:description/>
  <dc:language>en-US</dc:language>
  <cp:lastModifiedBy>Erich Friedman</cp:lastModifiedBy>
  <dcterms:modified xsi:type="dcterms:W3CDTF">2020-09-04T20:35:07Z</dcterms:modified>
  <cp:revision>347</cp:revision>
  <dc:subject/>
  <dc:title>Slide 1</dc:title>
</cp:coreProperties>
</file>