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1FD4-ED45-4F23-A86C-98C857256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FA7-0C56-4D32-9DCA-0D2C0B13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C44-5F4A-4983-85EE-802B5FA7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0CE8-F3E4-4CA9-93BE-F93CD350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3615-F4F7-45CC-AD9C-C20D218E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C4B4-B143-484E-BCD3-32FBE20C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443-2AB6-4002-8566-DAB73CA8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2CC-8A86-4E7B-A216-9B2DB00A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A8E-422A-4476-A0BA-3861C963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182-77B6-400B-B6F1-3392FFBE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534-77C9-4A30-96F9-05F4B937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38A-F618-4CB7-937C-79D497A0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6D34-CC7A-4B49-AD59-DD7C53B9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4C3F-A73C-42BC-91D8-055BC8FC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3AD-702E-4084-B902-9FF1A207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87B-36A6-482E-9913-F877E399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51B-0737-41E9-A4CC-85E0D938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C07-47E8-46B9-91C1-26F9E939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92C-9EB1-429E-BAEC-E6D8A2EA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A50-C823-48F3-9F09-599429DD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BC67-A40C-47BA-82FA-92FCEA32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93D-B0F1-437D-A7D3-3763A47F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43F-BB5F-459B-A5CC-8AD602D87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FESSION OF PHILLIP GL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PPROXIMATELY WHAT TEMPERATURE DOES SOLID GLASS BECOME A LIQUID?  1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5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2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  LEN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BROKEN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CAR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ROUGH THE LOOKING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AMERICAN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PR SHOW DOES IRA GLASS PRODUCE AND H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LASS ON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90640" y="487692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 GLASS PLAYED DETECTIVE RON HARRIS ON WHAT 1975-1982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OXYGEN, WHAT IS THE OTHER ELEMENT THAT IS A MAIN INGREDIENT IN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GLASS MENAGE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BROKEN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ALLN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ON NOVEMBER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938, BY WHAT GERMAN NAME IS "THE NIGHT OF BROKEN GLASS"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FESSION OF PHILLIP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PPROXIMATELY WHAT TEMPERATURE DOES SOLID GLASS BECOME A LIQUID?  1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5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2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ROUGH THE LOOKING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PR SHOW DOES IRA GLASS PRODUCE AND H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LASS ON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 GLASS PLAYED DETECTIVE RON HARRIS ON WHAT 1975-1982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OXYGEN, WHAT IS THE OTHER ELEMENT THAT IS A MAIN INGREDIENT IN GL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GLASS MENAGE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ON NOVEMBER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938, BY WHAT GERMAN NAME IS "THE NIGHT OF BROKEN GLASS"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16:40:26Z</dcterms:created>
  <dc:creator>Jennifer Budzinski</dc:creator>
  <dc:description/>
  <dc:language>en-US</dc:language>
  <cp:lastModifiedBy>Erich Friedman</cp:lastModifiedBy>
  <dcterms:modified xsi:type="dcterms:W3CDTF">2020-09-04T20:41:50Z</dcterms:modified>
  <cp:revision>337</cp:revision>
  <dc:subject/>
  <dc:title>Slide 1</dc:title>
</cp:coreProperties>
</file>