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C28F-492E-4B78-BD7D-B0E916C20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4A92-DAA3-42E8-90B8-53FFEC2D1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09D4-447C-4C3A-B648-6382C614C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8722-E990-47B0-BFC6-760A7845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3165-03AD-42FB-9AFC-26F07A005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257-DDC1-4F7C-AA44-1F31BC2DE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8E101-2EC3-4865-B425-118AF0A3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51B0-8281-41FD-A854-98B5AC61B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010E-EDCC-4ABD-8DE8-5DAF49BCF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9BF9-ECAA-4661-A977-E017C936E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1D43-90AA-445E-8F0F-F5F618884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0E9C-A5B1-4890-86AE-FEA9D576B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634A-18AA-43CD-BB8B-9479F9A72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1AEE-830D-4D8C-AA1C-5527ADE47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450B-AE70-4110-9F98-C2AAFEDE7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6166-A17F-4865-B806-A3A74CE17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8DF9-9CF8-48A9-BAAB-4B10C622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C976-BFD4-4D2D-9B68-C2B865B57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6804-5DDE-415F-8D6A-CE3A495B1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B81C-AEFA-40AF-A01F-C393829D4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83C5-63F3-443C-823D-6045F2FE7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2F95-138E-4DAF-AE11-4308D47F7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E3A1-1CC7-4DDF-9ED3-BF90BBEC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FESSION OF PHILLIP GL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PPROXIMATELY WHAT TEMPERATURE DOES SOLID GLASS BECOME A LIQUID?  10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5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20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IE  LEN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BROKEN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WIS  CAR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ROUGH THE LOOKING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 AMERICAN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PR SHOW DOES IRA GLASS PRODUCE AND H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LASS ON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90640" y="4876920"/>
            <a:ext cx="556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EY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N GLASS PLAYED DETECTIVE RON HARRIS ON WHAT 1975-1982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I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OXYGEN, WHAT IS THE OTHER ELEMENT THAT IS A MAIN INGREDIENT IN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GLASS MENAGE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ING ON BROKEN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ALLNAC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ON NOVEMBER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938, BY WHAT GERMAN NAME IS "THE NIGHT OF BROKEN GLASS"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O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FESSION OF PHILLIP GL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0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PPROXIMATELY WHAT TEMPERATURE DOES SOLID GLASS BECOME A LIQUID?  10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5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20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ROUGH THE LOOKING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PR SHOW DOES IRA GLASS PRODUCE AND H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LASS ON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N GLASS PLAYED DETECTIVE RON HARRIS ON WHAT 1975-1982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OXYGEN, WHAT IS THE OTHER ELEMENT THAT IS A MAIN INGREDIENT IN GL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GLASS MENAGE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ON NOVEMBER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938, BY WHAT GERMAN NAME IS "THE NIGHT OF BROKEN GLASS"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16:40:26Z</dcterms:created>
  <dc:creator>Jennifer Budzinski</dc:creator>
  <dc:description/>
  <dc:language>en-US</dc:language>
  <cp:lastModifiedBy>Erich Friedman</cp:lastModifiedBy>
  <dcterms:modified xsi:type="dcterms:W3CDTF">2020-09-04T20:41:50Z</dcterms:modified>
  <cp:revision>337</cp:revision>
  <dc:subject/>
  <dc:title>Slide 1</dc:title>
</cp:coreProperties>
</file>