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3D05-26EC-44E0-BA8E-8F4E1AA32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3351-0988-4101-98FC-C54312599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5C3A-2B3E-41F4-AE1D-F0A4F6822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46275-DA94-46AC-8888-1E73A7B29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DB97-5A58-4455-89B2-4325E09F0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E419-2A0D-48C0-88A6-6F6F91F53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4654-ADE2-4980-A7E8-F1FCEA7BC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D217-7D9F-4836-98E1-A1AD1D753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D4BF-3065-46FD-87DC-887D8BECE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D8D0-1DD2-4CCA-8525-CBED1CC03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A8A1-6B5A-4A85-8C33-5AA6705E6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9E14-291F-44B0-9E60-FB676CCE8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B55D-D1E3-43A2-8275-E7C357E95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7B05-6972-4426-9A2D-F2877C590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969FC-D8B4-41CF-939E-6C86737C6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8612-CA85-4CE2-8FE7-D227C106E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3E24-6605-4A9D-AF2A-3496B7861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9E24-09A4-4F19-B62F-861FFE0A6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FA9C-1664-4DCE-B766-FEAFF03DE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E881-2B16-49EB-BD0E-8AE2166F8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3FB2-1DAD-425E-A849-834C376EA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0681-4828-4BCB-80BE-F6474E6A0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0726-2CAF-45C5-A6D7-398BE600B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CELLANEO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YEARS ELAPSED BETWEEN THE INVENTION OF THE CAN AND THE CAN OPENER?  3, 12, OR 4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URE MAKES THE LOUDEST SOU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WOMEN NEVER WEAR UNDERWEAR?  1%, 2%, OR 4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1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43000" y="762120"/>
            <a:ext cx="6858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PIZZA TOPPING IN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HAMM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IRST NAM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6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DOMESTICATED ANIMAL NOT MENTIONED IN THE B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066680" y="4343400"/>
            <a:ext cx="7010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,  PURPLE  &amp;  SILVER (1/3  CREDIT  FOR  EAC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LORS HAVE NO PERFECT RHY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DENOMINATION OF CURRENCY BILL EVER PRINTED IN THE U.S.?  3¢, 5¢, OR 10¢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57480" y="762120"/>
            <a:ext cx="66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HAS THE HIGHEST PERCENTAGE OF PEOPLE WHO WALK TO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WOMEN  NEVER WEAR UNDERWEAR?  1%, 2%, OR 4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EEN OF ENGLAND HAD 17 CHILDREN AND OUTLIVED THEM 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YEARS ELAPSED BETWEEN THE INVENTION OF THE CAN AND THE CAN OPENER?  3, 12, OR 4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PBACK  WH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URE MAKES THE LOUDEST SOU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PIZZA TOPPING IN AUSTRA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IRST NAM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DOMESTICATED ANIMAL NOT MENTIONED IN THE BI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LORS HAVE NO PERFECT RHY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DENOMINATION OF CURRENCY BILL EVER PRINTED IN THE U.S.?  3¢, 5¢, OR 10¢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HAS THE HIGHEST PERCENTAGE OF PEOPLE WHO WALK TO W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EEN OF ENGLAND HAD 17 CHILDREN AND OUTLIVED THEM 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1T13:09:59Z</dcterms:created>
  <dc:creator>Jennifer Budzinski</dc:creator>
  <dc:description/>
  <dc:language>en-US</dc:language>
  <cp:lastModifiedBy>Erich Friedman</cp:lastModifiedBy>
  <dcterms:modified xsi:type="dcterms:W3CDTF">2020-09-04T21:56:25Z</dcterms:modified>
  <cp:revision>346</cp:revision>
  <dc:subject/>
  <dc:title>Slide 1</dc:title>
</cp:coreProperties>
</file>