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A613-DDC1-4F35-8B43-F43FD8843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B408-0F39-4B41-BDDF-B273F0A57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6207-3055-4A59-B50E-D4193CF88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1122-988B-4A79-83C5-EC3119D93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BF8E-2986-4ECE-A9DC-1F1AE30AC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05A3-795B-4947-950C-B51E0BFF4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6F11-9349-42A4-A7B2-F99A0DA7D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2AC8-A60A-41D2-B7F1-AC915B9DB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9980-603D-400D-A277-5A77BEDC4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CD8A-1293-4FFD-9E7F-EFEF113C4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50E3-FF55-4602-ABA9-669F465C3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7920-EDFB-4E31-8935-DFEC7C9DE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9FEE-9C79-4CBB-8373-72E62BE18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1ACE-DDFD-42B0-A806-9F9401734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2375-139A-4C93-A2E5-D7505F87C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D8B1-C24F-4BDD-9BF1-5ADA09113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2F85-F14D-4B57-8DFD-6B39585F6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53A8-CF0F-4567-93EC-D4BB98449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2A4D-B883-42BF-8EE7-A592BD94A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2E1C-650A-4C16-94E1-704424B6E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D9C2-C342-4031-9405-F92D3DB66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7AA2-9AE2-43C7-A5A9-200F37E5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1DE6-24AA-4E39-A48D-D8E2486F1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CELLANEO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EARS ELAPSED BETWEEN THE INVENTION OF THE CAN AND THE CAN OPENER?  3, 12, OR 4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MAKES THE LOUDEST S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WOMEN NEVER WEAR UNDERWEAR?  1%, 2%, OR 4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1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43000" y="762120"/>
            <a:ext cx="6858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IZZA TOPPING IN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HAMM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NAM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6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DOMESTICATED ANIMAL NOT MENTIONED IN THE B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066680" y="4343400"/>
            <a:ext cx="7010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,  PURPLE  &amp;  SILVER (1/3  CREDIT  FOR  EAC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LORS HAVE NO PERFECT RHY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DENOMINATION OF CURRENCY BILL EVER PRINTED IN THE U.S.?  3¢, 5¢, OR 10¢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574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 HIGHEST PERCENTAGE OF PEOPLE WHO WALK TO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WOMEN  NEVER WEAR UNDERWEAR?  1%, 2%, OR 4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OF ENGLAND HAD 17 CHILDREN AND OUTLIVED THEM 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EARS ELAPSED BETWEEN THE INVENTION OF THE CAN AND THE CAN OPENER?  3, 12, OR 4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PBACK  WH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MAKES THE LOUDEST S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IZZA TOPPING IN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NAM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DOMESTICATED ANIMAL NOT MENTIONED IN THE BI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LORS HAVE NO PERFECT RHY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DENOMINATION OF CURRENCY BILL EVER PRINTED IN THE U.S.?  3¢, 5¢, OR 10¢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 HIGHEST PERCENTAGE OF PEOPLE WHO WALK TO 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OF ENGLAND HAD 17 CHILDREN AND OUTLIVED THEM 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13:09:59Z</dcterms:created>
  <dc:creator>Jennifer Budzinski</dc:creator>
  <dc:description/>
  <dc:language>en-US</dc:language>
  <cp:lastModifiedBy>Erich Friedman</cp:lastModifiedBy>
  <dcterms:modified xsi:type="dcterms:W3CDTF">2020-09-04T21:56:25Z</dcterms:modified>
  <cp:revision>346</cp:revision>
  <dc:subject/>
  <dc:title>Slide 1</dc:title>
</cp:coreProperties>
</file>