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8109-183B-4AA1-96B1-3A72A1990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9DA8-C372-4E7D-8434-740883E85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6032-892A-42D0-808A-3EA597BF1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BFF0-BBB7-4CEE-BAA3-31686639D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0B06-60CE-4484-BAA7-673A0CDC4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03E7-3B65-4E20-879E-F9B7447B6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A05A-D832-40B0-9FAA-95586B460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D3CA-016B-46B2-AF1A-7102DC470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802D-46C6-4968-B43B-411940300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848F-FE7B-402A-95E0-1FA855EDD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6C9F-4684-41DA-9656-1A70F43F6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293F-C671-43DB-A571-D4154A35E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50D5-B15D-4B14-B25C-9F5AB3259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13A9-A9F2-4987-B65A-967AD28F0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16F2-0C24-4743-8E99-E1C6BA3E3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D11F-7CE0-44B9-BC2C-A892B189D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E32D-EA30-40BC-AC09-60633A0C8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7F33-9D60-4765-803B-D7FC0D4FC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D30D-2609-4F74-8FE4-6DB0B85ED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B953-2866-43BC-9181-515224B6A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F0DF-2DCA-4911-8393-90C0795A6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43AD-79A4-4498-AFB9-FD1688E0E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5D0E-9FA7-4087-A05C-2A7779950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SCELLANEO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YEARS ELAPSED BETWEEN THE INVENTION OF THE CAN AND THE CAN OPENER?  3, 12, OR 4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EATURE MAKES THE LOUDEST SOU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 OF WOMEN NEVER WEAR UNDERWEAR?  1%, 2%, OR 4%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816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G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43000" y="762120"/>
            <a:ext cx="6858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PIZZA TOPPING IN AUSTRAL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HAMM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FIRST NAME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1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6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DOMESTICATED ANIMAL NOT MENTIONED IN THE BI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066680" y="4343400"/>
            <a:ext cx="70106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ANGE,  PURPLE  &amp;  SILVER (1/3  CREDIT  FOR  EACH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333440" y="762120"/>
            <a:ext cx="6477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COLORS HAVE NO PERFECT RHY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80880" y="762120"/>
            <a:ext cx="83822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MALLEST DENOMINATION OF CURRENCY BILL EVER PRINTED IN THE U.S.?  3¢, 5¢, OR 10¢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S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257480" y="762120"/>
            <a:ext cx="6629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HAS THE HIGHEST PERCENTAGE OF PEOPLE WHO WALK TO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 OF WOMEN  NEVER WEAR UNDERWEAR?  1%, 2%, OR 4%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EEN OF ENGLAND HAD 17 CHILDREN AND OUTLIVED THEM 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YEARS ELAPSED BETWEEN THE INVENTION OF THE CAN AND THE CAN OPENER?  3, 12, OR 4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MPBACK  WH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EATURE MAKES THE LOUDEST SOU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PIZZA TOPPING IN AUSTRAL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FIRST NAME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DOMESTICATED ANIMAL NOT MENTIONED IN THE BIB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COLORS HAVE NO PERFECT RHY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MALLEST DENOMINATION OF CURRENCY BILL EVER PRINTED IN THE U.S.?  3¢, 5¢, OR 10¢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HAS THE HIGHEST PERCENTAGE OF PEOPLE WHO WALK TO WO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EEN OF ENGLAND HAD 17 CHILDREN AND OUTLIVED THEM 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1T13:09:59Z</dcterms:created>
  <dc:creator>Jennifer Budzinski</dc:creator>
  <dc:description/>
  <dc:language>en-US</dc:language>
  <cp:lastModifiedBy>Erich Friedman</cp:lastModifiedBy>
  <dcterms:modified xsi:type="dcterms:W3CDTF">2020-09-04T21:56:25Z</dcterms:modified>
  <cp:revision>346</cp:revision>
  <dc:subject/>
  <dc:title>Slide 1</dc:title>
</cp:coreProperties>
</file>