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619E-E832-415E-8B8D-D1AC7EC39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5352-E9E2-4C92-8ADC-3CFECDBC6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F1E7-A49A-4177-8391-C73322C8F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B2EC-B887-494E-A49A-325855736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6243-37B0-4F4F-9B95-FEC1267C7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5DC7-02BE-4FF8-8ED6-2F22AA494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C6C2-FAD8-44C3-8DB7-39B6A561F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D4E4-2A1F-472F-80ED-97AA1893F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EE90-F038-4526-B98F-3E84CBEED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B495-1A4F-4920-869B-601371093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B80D-E9C5-4C95-8701-FF04454D1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C5EB-6492-479F-B2C3-1BC0A0497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D18A-8A80-4ACA-9E24-F274F9F63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67BB-B94E-4D33-8C84-626D319EC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6EB5-494F-4E8B-BEE6-2D3C11181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50AE-1369-4FDA-BCFF-D51C492F8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BB17-E77F-4CCB-B074-D246C165A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2580-0F58-4C7D-A8A3-E949AC90D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DA85-F01A-4B00-9125-2DE3BDADD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B04D-3FAD-4EBF-B27E-0851787B4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3BB3-871B-40F7-9B35-2ECA661E4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6DDE-C031-4605-970D-B9D122408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4E8C-054B-4056-A46A-651A58027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EVELOPED THE FIRST JET-POWERED FIGHTER P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THE H-4 HERCULES, THE LARGEST FLYING BOAT EVER, BUILT BY HOWARD HUG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OLA  G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33440" y="762120"/>
            <a:ext cx="6477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  OF THE PLANE THAT DROPPED THE ATOMIC BOMB ON HIROSHI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SS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19000" y="762120"/>
            <a:ext cx="750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BUILDS THE BEST-SELLING P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4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EING  7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 CAN SEAT 660 PASSENGERS AND HELD THE RECORD FOR LARGEST CIVILIAN PLANE 1970-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006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MARTIN  &amp;  JOHN  CA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COMEDIANS STARRED IN THE FILM "PLANES, TRAINS AND AUTOMOBIL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XAR  /  WALT–DIS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 STUDIO MADE THE FILM "PLANES", A SPIN-OFF OF "CA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MILLER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800280"/>
            <a:ext cx="73152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SONG "JET AIRLIN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RIT  OF  ST.  LO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PLANE THAT FLEW NONSTOP FROM NEW YORK TO PAR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  OF THE PLANE THAT DROPPED THE ATOMIC BOMB ON HIROSHI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  IS  INVI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UNUSUAL ABOUT WONDER WOMAN'S P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-468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EVELOPED THE FIRST JET-POWERED FIGHTER P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UCE  G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THE H-4 HERCULES, THE LARGEST FLYING BOAT EVER, BUILT BY HOWARD HUG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BUILDS THE BEST-SELLING P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 CAN SEAT 660 PASSENGERS AND HELD THE RECORD FOR LARGEST CIVILIAN PLANE 1970-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COMEDIANS STARRED IN THE FILM "PLANES, TRAINS AND AUTOMOBI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 STUDIO MADE THE FILM "PLANES", A SPIN-OFF OF "CA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SONG "JET AIRLIN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PLANE THAT FLEW NONSTOP FROM NEW YORK TO PAR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UNUSUAL ABOUT WONDER WOMAN'S P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7T17:07:52Z</dcterms:created>
  <dc:creator>Jennifer Budzinski</dc:creator>
  <dc:description/>
  <dc:language>en-US</dc:language>
  <cp:lastModifiedBy>Erich Friedman</cp:lastModifiedBy>
  <dcterms:modified xsi:type="dcterms:W3CDTF">2020-09-04T22:08:31Z</dcterms:modified>
  <cp:revision>351</cp:revision>
  <dc:subject/>
  <dc:title>Slide 1</dc:title>
</cp:coreProperties>
</file>