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73BB-7FDD-416A-87ED-69FAED1A3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1C91-C3BF-4362-A6E5-1C3E699B5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56AF-4D51-4E68-BB51-5A95E54AC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E2C8-2343-4FAC-881D-5BCF4233B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1FD0-7896-42A3-885A-782352AFE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00DE-7598-4C44-92D0-66A7C4387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0DCB-3AB5-4529-8580-F8DBA91C9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9F87-C991-4890-B5AB-9300490BD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4BE7-9E6E-4C9A-B16E-BC52DBB4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9F9E-8141-441C-9236-D2CF2883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08D27-54F5-4941-B594-0E2D37360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E5EE-1003-4DFB-80E3-1DAF65AF8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6D91-DC8D-455E-A214-09C836DAB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C03C-7392-4067-89E6-74376279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D8EC-AE76-4D09-B58D-02A722B72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765D-F745-469B-82FD-436A4EA5B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A18F-D4AE-4AC6-B9AD-D501F35DA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1A76-5C7E-4B3D-B447-512B4DDAA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E9A1-D2A3-4165-9CCD-EBC2A029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2668A-10E5-4E5D-963F-C4D31DE92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7EB3-770D-4456-8C9B-5BF8F779B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A560-69C4-4DD1-B7DF-90E9F347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B9DB-37A0-4D53-89AF-B9A88580E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EVELOPED THE FIRST JET-POWERED FIGHTER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H-4 HERCULES, THE LARGEST FLYING BOAT EVER, BUILT BY HOWARD HUG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LA  G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OF THE PLANE THAT DROPPED THE ATOMIC BOMB ON HIROSHI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SS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BUILDS THE BEST-SELLING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EING  7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CAN SEAT 660 PASSENGERS AND HELD THE RECORD FOR LARGEST CIVILIAN PLANE 1970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06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MARTIN  &amp;  JOHN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MEDIANS STARRED IN THE FILM "PLANES, TRAINS AND AUTOMOBI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XAR  /  WALT–DIS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STUDIO MADE THE FILM "PLANES", A SPIN-OFF OF "CA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MILLER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800280"/>
            <a:ext cx="7315200" cy="20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SONG "JET AIRLI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IT  OF  ST.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 THAT FLEW NONSTOP FROM NEW YORK TO PA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OF THE PLANE THAT DROPPED THE ATOMIC BOMB ON HIROSHI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IS  INVI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NUSUAL ABOUT WONDER WOMAN'S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-468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EVELOPED THE FIRST JET-POWERED FIGHTER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UCE  G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THE H-4 HERCULES, THE LARGEST FLYING BOAT EVER, BUILT BY HOWARD HUG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BUILDS THE BEST-SELLING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CAN SEAT 660 PASSENGERS AND HELD THE RECORD FOR LARGEST CIVILIAN PLANE 1970-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COMEDIANS STARRED IN THE FILM "PLANES, TRAINS AND AUTOMOBI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STUDIO MADE THE FILM "PLANES", A SPIN-OFF OF "C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SONG "JET AIRLIN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 THAT FLEW NONSTOP FROM NEW YORK TO PA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UNUSUAL ABOUT WONDER WOMAN'S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7T17:07:52Z</dcterms:created>
  <dc:creator>Jennifer Budzinski</dc:creator>
  <dc:description/>
  <dc:language>en-US</dc:language>
  <cp:lastModifiedBy>Erich Friedman</cp:lastModifiedBy>
  <dcterms:modified xsi:type="dcterms:W3CDTF">2020-09-04T22:08:31Z</dcterms:modified>
  <cp:revision>351</cp:revision>
  <dc:subject/>
  <dc:title>Slide 1</dc:title>
</cp:coreProperties>
</file>