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CFD-D1DD-4BD1-936E-44A13177C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26C-1242-4192-8C9F-9F87AE68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625-7E79-48AB-9FB0-96F891B8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5F9D-ADC1-4A7D-9DDA-91974924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F73-5B39-40D9-A7A6-A6107FAA2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9B0-AEFC-4F9D-893A-92DC70D9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0ED-05B8-4B7C-88AB-94FB5644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238-A1CA-41B8-90D2-4A13FAA0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5BD0-2299-4AB3-8AE5-A7963596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13B-7584-4C78-89FA-3376DC11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956-073E-4E9C-A63A-3446237E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A42-D70D-4D73-B852-27D64BB1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507-21BB-4A80-9D7F-59CA41E1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E33E-35C2-4904-A9F3-392F5D89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7B80-6605-45E8-A183-29EDADB7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CBF9-C4FA-44DA-96BC-74A6390B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5CE8-2E2C-403C-884E-087748C4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8D5D-026B-4FFF-9EA7-3FAAE16D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E672-DAD9-4D40-86F5-76DCED06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C383-2FAC-47AF-8C3B-ACFC783A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E1DD-78F1-465D-842D-B27FD3B1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F80-0FFD-47D4-AC7F-8843F834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A3E-9074-4521-8308-A039E9F5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S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EING  7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&amp;  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XAR  /  WALT–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800280"/>
            <a:ext cx="73152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IS  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-468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UCE  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7:07:52Z</dcterms:created>
  <dc:creator>Jennifer Budzinski</dc:creator>
  <dc:description/>
  <dc:language>en-US</dc:language>
  <cp:lastModifiedBy>Erich Friedman</cp:lastModifiedBy>
  <dcterms:modified xsi:type="dcterms:W3CDTF">2020-09-04T22:08:31Z</dcterms:modified>
  <cp:revision>351</cp:revision>
  <dc:subject/>
  <dc:title>Slide 1</dc:title>
</cp:coreProperties>
</file>