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4A7D-6E75-4B16-A902-A4135B3F6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12AF-3722-44E6-A574-414F5E33C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6B4A-B996-471C-8B99-5C0FA2D3D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09C8-BAF5-489F-8097-8A7E36105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5C3A-C5A5-4032-A558-86A56598D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A6BD-43DC-4470-9547-7FC09CAF7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0789-8B04-4AA0-8B75-83868790D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66B9-E73E-40C0-BB8B-E53C8D0DE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B2FC-47C7-4D36-B29D-FA1363146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B7D2-CC75-483B-BD68-F9A3D8916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FF4C-346B-4E0F-9EE2-54ECE04B8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410C-B62A-450F-9F1B-793A19730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8CC3-FA0E-4FC1-B327-397A6CF4B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C99D-DBB2-466C-A53B-9BBB08A7E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3A20-0E1D-4E30-9187-90EF2380D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721C-F43D-4B86-8F23-971F9E1DE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6170-0D8A-4B75-BB19-DA95CF7EC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9272-31C6-48EE-BF03-D082222A4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75BE-0732-4411-A735-473B98BB7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434D-CA50-4671-83B7-250BA3754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5F0B-E77B-4985-B770-337BE501B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101D-AD05-45E4-9520-E6AD85D39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4FF9-E1B4-430D-94F5-F1D105736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MODEL TRAIN SCALES G, HO, N, O, S, AND Z, WHICH IS THE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MAJOR SCALE IS EQUIVALENT TO F# MI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THE INTENSITY OF EARTHQU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ZODIAC SIGN IS REPRESENT BY SC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FIR–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CALE THAT SORTS TROPICAL DEPRESSIONS, STORMS, AND HURRICA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THE HARDNESS OF RO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U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WIND SPEEDS FOR BOA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–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43040" y="762120"/>
            <a:ext cx="7657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PER YEAR DO SNAKES SHED THEIR SCALES?  2-4, 4-6, OR 6-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LSIUS IS EQUAL TO HOW MANY DEGREES ON THE FAHRENHEIT SC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THE INTENSITY OF EARTHQUAK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GOES FROM 0 (PURELY HETEROSEXUAL) TO 6 (PURELY HOMOSEXUAL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MODEL TRAIN SCALES G, HO, N, O, S, AND Z, WHICH IS THE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MAJ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MAJOR SCALE IS EQUIVALENT TO F# MI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ZODIAC SIGN IS REPRESENT BY SC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CALE THAT SORTS TROPICAL DEPRESSIONS, STORMS, AND HURRICA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THE HARDNESS OF RO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MEASURES WIND SPEEDS FOR BOA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PER YEAR DO SNAKES SHED THEIR SCALES?  2-4, 4-6, OR 6-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LSIUS IS EQUAL TO HOW MANY DEGREES ON THE FAHRENHEIT SC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ALE GOES FROM 0 (PURELY HETEROSEXUAL) TO 6 (PURELY HOMOSEXUAL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5T12:19:02Z</dcterms:created>
  <dc:creator>Jennifer Budzinski</dc:creator>
  <dc:description/>
  <dc:language>en-US</dc:language>
  <cp:lastModifiedBy>Erich Friedman</cp:lastModifiedBy>
  <dcterms:modified xsi:type="dcterms:W3CDTF">2020-09-04T22:09:11Z</dcterms:modified>
  <cp:revision>337</cp:revision>
  <dc:subject/>
  <dc:title>Slide 1</dc:title>
</cp:coreProperties>
</file>