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4096-1A78-4A8D-AABB-345EE342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4625-CAD7-4653-9BFD-1601643CC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753C-3663-4C4A-8017-0E2FD93F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639A-924B-4351-A6D8-AE894C25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F7D-DBAE-4D37-B2ED-80FDA5AAE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1D3C-8B65-47A3-ABC6-DF220F01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B502-2ECC-42F6-AF3B-F887A7A45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9A33-14A6-40C8-889B-B64A0C29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7432-0156-44D3-91F2-3921CD02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036-2630-472A-8625-6BE1F1C9C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B174-835A-4402-8010-47D9A903F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55D-971C-463C-ADD2-6838580A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C783-D438-4F27-B5B3-CDF04475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DBAB-EFA3-4E99-A99A-2A94E6A2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36C5-FBCE-4F8B-B954-7FA42842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0B3C-160E-4319-A1B3-04C2883D5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CDBE-0EEE-403A-8D52-74A089720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5951-6B66-4153-AD8C-150F9A42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2377-EAF5-4FEA-985C-CBC5E1E8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0BF9-CD2D-4A6F-8132-AD54E219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091E-DDED-4D58-9B48-990484024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E76A-228F-4C75-AFF0-A8A66E61C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4503-D9AE-41FF-B61B-FA6FB66F6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MODEL TRAIN SCALES G, HO, N, O, S, AND Z, WHICH IS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MAJOR SCALE IS EQUIVALENT TO F# MI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INTENSITY OF EARTHQU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IS REPRESENT BY SC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FIR–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CALE THAT SORTS TROPICAL DEPRESSIONS, STORMS, AND HURRICA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HARDNESS OF RO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U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WIND SPEEDS FOR BOA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43040" y="762120"/>
            <a:ext cx="7657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YEAR DO SNAKES SHED THEIR SCALES?  2-4, 4-6, OR 6-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LSIUS IS EQUAL TO HOW MANY DEGREES ON THE FAHRENHEIT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INTENSITY OF EARTHQU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GOES FROM 0 (PURELY HETEROSEXUAL) TO 6 (PURELY HOMOSEXUA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MODEL TRAIN SCALES G, HO, N, O, S, AND Z, WHICH IS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MAJOR SCALE IS EQUIVALENT TO F# MI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IS REPRESENT BY SC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CALE THAT SORTS TROPICAL DEPRESSIONS, STORMS, AND HURRICA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HARDNESS OF RO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WIND SPEEDS FOR BOA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YEAR DO SNAKES SHED THEIR SCALES?  2-4, 4-6, OR 6-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LSIUS IS EQUAL TO HOW MANY DEGREES ON THE FAHRENHEIT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GOES FROM 0 (PURELY HETEROSEXUAL) TO 6 (PURELY HOMOSEXUA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12:19:02Z</dcterms:created>
  <dc:creator>Jennifer Budzinski</dc:creator>
  <dc:description/>
  <dc:language>en-US</dc:language>
  <cp:lastModifiedBy>Erich Friedman</cp:lastModifiedBy>
  <dcterms:modified xsi:type="dcterms:W3CDTF">2020-09-04T22:09:11Z</dcterms:modified>
  <cp:revision>337</cp:revision>
  <dc:subject/>
  <dc:title>Slide 1</dc:title>
</cp:coreProperties>
</file>