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839F-483C-404B-B6EE-3FCE3C53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ACB-D21B-4E48-A6E6-F2B4663C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3AB7-5793-4CB6-A8A3-D2B4D049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F765-EA22-48AE-94EC-E4B7D033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C13-B410-4121-98E3-92813465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CBF-C9F0-4862-B9DA-1E2A63E8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E93-4444-4E9D-80F2-1ECC81F9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705-1A11-4917-8CD0-2A1A7DAE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EF8-644B-4DD7-9FFC-4244C78E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E45A-96FC-4D17-ABB2-3B25111B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6B6-2174-4492-BBBF-BC633E92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74F4-A0C7-403D-AA68-F1BFC483D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135-8ED2-46EE-A99B-34EFE66B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9E6-F9DB-4899-AE97-879AA938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DCE1-508A-4055-9CAB-065CC855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A8FB-6272-4F30-ADC0-653C12EB9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59D3-E614-4D27-8ABE-6E23BA05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375-4EA7-4EB9-B638-DF227CF2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AA0D-566E-4E6B-A748-06CAAF3E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385B-73CD-43DD-8D9F-E281CE4F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199-488D-420F-8362-2CB0C048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E9F7-5DBB-4982-8148-26200CED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55CC-379D-455A-8E27-4EBDA5070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IR–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3040" y="762120"/>
            <a:ext cx="7657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2:19:02Z</dcterms:created>
  <dc:creator>Jennifer Budzinski</dc:creator>
  <dc:description/>
  <dc:language>en-US</dc:language>
  <cp:lastModifiedBy>Erich Friedman</cp:lastModifiedBy>
  <dcterms:modified xsi:type="dcterms:W3CDTF">2020-09-04T22:09:11Z</dcterms:modified>
  <cp:revision>337</cp:revision>
  <dc:subject/>
  <dc:title>Slide 1</dc:title>
</cp:coreProperties>
</file>