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E2A04-A7AA-4B83-9477-04E786E464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5CB0B-8C60-4F57-8C3B-D9EDACB609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FF2CF-B9D8-49A6-BF8D-3E62FF3EC8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7DC7F-632E-4D70-B0D7-09A3DD9ECE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9B257-64CC-4A85-9110-F650710F66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8CDD4-FAB0-4668-9865-BE10C52AFB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7D5F1-6351-4EAB-8188-6F58CB4392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EBD8C-4FD5-4169-BE1B-5A1840D1C4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F14AE-96F1-4130-8AFE-5C06613611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8E694-9B6F-4BF3-A41D-AC58F0F0E1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3853B-D6ED-4FE9-8F2C-53A7336F3D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3B259-B389-46A0-B41F-2E07ED9087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FA581-9F31-440E-B721-9388328F6A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B140D-B736-41EE-89E7-0693061232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185B4-41AE-4A15-9B79-16290DF314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3E3D9-D205-4488-80C7-259D5A6D4B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5CD05-558C-49DA-9B2E-3B44FF0A32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D54C1-EC34-49DB-ADA9-41E71943CE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D9FD6-B8F4-42B4-8CE0-E65FCDD6E1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F1DC1-9200-4C20-9A84-955124705A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C36E5-F99C-4680-9586-501459F95E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C3EAD-6FFF-4BBD-BE1C-91D671B492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2133D-8B3C-4CD1-A797-87B792A614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47920" y="1523880"/>
            <a:ext cx="62481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OUBLE D'S             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TWO AFRICAN COUNTRIES HAVE OFFICIAL NAMES THAT BEGIN WITH "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1066680" y="762120"/>
            <a:ext cx="70106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U.S., WHAT ARE THE TWO MOST COMMON FEMALE FIRST NAMES THAT BEGIN WITH "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295280" y="4876920"/>
            <a:ext cx="6553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UKE  &amp;  DARTMOU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914400" y="762120"/>
            <a:ext cx="7315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WO COLLEGES BEGINNING WITH "D" HAVE THE SMALLEST STUDENT-TEACHER RATI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LLAS  &amp;  DEN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380880" y="762120"/>
            <a:ext cx="83822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WO U.S. CITIES STARTING WITH "D" HAVE A POPULATION OVER 700,00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1085760" y="4343400"/>
            <a:ext cx="69724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IPLOMACY  &amp;        DUNGEONS  AND  DRAG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314360" y="762120"/>
            <a:ext cx="651528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WO GAMES THAT BEGIN WITH "D" ARE IN THE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GAMES MAGAZINE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HALL OF FA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G  &amp;  DRAG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380880" y="762120"/>
            <a:ext cx="8382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TWO CHINESE ZODIAC SIGNS START WITH "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PEY  &amp;  DO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028880" y="762120"/>
            <a:ext cx="70866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TWO OF THE SEVEN DWARFS HAVE NAMES THAT START WITH "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NIEL  &amp;  DEUTERONOM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028880" y="762120"/>
            <a:ext cx="708660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TWO BOOKS OF THE KING JAMES BIBLE START WITH "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ELINE  DION  &amp;  BOB  DYL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893880" y="762120"/>
            <a:ext cx="73562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WO MUSICAL ARTISTS WHOSE LAST NAMES START WITH "D" WON GRAMMYS FOR BEST ALBUM OF THE YE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952560" y="762120"/>
            <a:ext cx="7238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WO COLLEGES BEGINNING WITH "D" HAVE THE SMALLEST STUDENT-TEACHER RATI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53352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DGERS  &amp;  DIAMOND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066680" y="762120"/>
            <a:ext cx="70106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WO MAJOR LEAGUE BASEBALL TEAM NAMES START WITH "D"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419720"/>
            <a:ext cx="838224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 marL="222840" indent="-2228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JIBOUTI  &amp;  DEMOCRATIC  REPUBLIC  OF  THE  CONG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533520" y="762120"/>
            <a:ext cx="807696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TWO AFRICAN COUNTRIES HAVE OFFICIAL NAMES THAT BEGIN WITH "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380880" y="4876920"/>
            <a:ext cx="83822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ROTHY  &amp;  DON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866880" y="762120"/>
            <a:ext cx="74102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U.S., WHAT ARE THE TWO MOST COMMON FEMALE FIRST NAMES THAT BEGIN WITH "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WO U.S. CITIES STARTING WITH "D" HAVE A POPULATION OVER 700,000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371600" y="762120"/>
            <a:ext cx="6400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WO GAMES THAT BEGIN WITH "D" ARE IN THE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GAMES MAGAZINE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HALL OF FA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342720" y="762120"/>
            <a:ext cx="8458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TWO CHINESE ZODIAC SIGNS START WITH "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232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TWO OF THE SEVEN DWARFS HAVE NAMES THAT START WITH "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028520" y="761760"/>
            <a:ext cx="7086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TWO BOOKS OF THE KING JAMES BIBLE START WITH "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952560" y="761760"/>
            <a:ext cx="72388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WO MUSICAL ARTISTS WHOSE LAST NAMES START WITH "D" WON GRAMMYS FOR BEST ALBUM OF THE YEA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066680" y="762120"/>
            <a:ext cx="70106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WO MAJOR LEAGUE BASEBALL TEAM NAMES START WITH "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20T12:22:39Z</dcterms:created>
  <dc:creator>Jennifer Budzinski</dc:creator>
  <dc:description/>
  <dc:language>en-US</dc:language>
  <cp:lastModifiedBy>Erich Friedman</cp:lastModifiedBy>
  <dcterms:modified xsi:type="dcterms:W3CDTF">2020-09-05T08:51:01Z</dcterms:modified>
  <cp:revision>337</cp:revision>
  <dc:subject/>
  <dc:title>Slide 1</dc:title>
</cp:coreProperties>
</file>