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9EF7-4E36-4E03-BDF4-6626C01A0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757F-949C-4A59-84DF-6C3DB7398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94B7-747F-4070-8C4D-4D37B0B72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5672-890B-4A2E-A124-6FCBA999C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990B-E297-435C-9F73-B5F864899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514F-B5EF-4C71-8697-029FB8E4A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83D3-F740-4BF0-ACDB-3AE5397EF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6618-CF18-482E-B900-11666A1A9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78F6-8058-48CE-93D8-3FB766D2D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BABA-9741-4FBB-B0EA-D9C48A81E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A2D8-CD1E-4367-8D15-C99303F70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CFE0-0DDC-438F-B002-800AE0D8A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CCD5-4B1D-465D-B6D8-F933B1A98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3260-B069-464C-9B4C-F73705AB7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A1C8-FD6A-4055-971C-A509CA525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A91C-8367-4358-8B91-2C0D91D77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4BBD-DA37-431A-8A14-DBEA89BCE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7FE7-F623-4242-9BA0-84D01BA85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473B-A142-40B9-B692-A6E5F1991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E949-B6BE-4C76-B2E4-E8ABFC432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23A4-8582-40D3-8310-079B13255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306F-C124-4A52-A076-419F78A51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B638-8202-4453-9826-D9A04703E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UBLE D'S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AFRICAN COUNTRIES HAVE OFFICIAL NAMES THAT BEGIN WITH "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WHAT ARE THE TWO MOST COMMON FEMALE FIRST NAMES THAT BEGIN WITH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KE  &amp;  DART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COLLEGES BEGINNING WITH "D" HAVE THE SMALLEST STUDENT-TEACHER RAT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LLAS  &amp;  DEN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U.S. CITIES STARTING WITH "D" HAVE A POPULATION OVER 700,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085760" y="4343400"/>
            <a:ext cx="6972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PLOMACY  &amp;        DUNGEONS  AND  DRAG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14360" y="762120"/>
            <a:ext cx="6515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GAMES THAT BEGIN WITH "D" ARE IN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GAMES MAGAZ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ALL OF F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G  &amp;  D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CHINESE ZODIAC SIGNS START WITH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PEY  &amp;  D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OF THE SEVEN DWARFS HAVE NAMES THAT START WITH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  &amp;  DEUTER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BOOKS OF THE KING JAMES BIBLE START WITH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LINE  DION  &amp;  BOB  DY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93880" y="762120"/>
            <a:ext cx="7356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MUSICAL ARTISTS WHOSE LAST NAMES START WITH "D" WON GRAMMYS FOR BEST ALBUM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COLLEGES BEGINNING WITH "D" HAVE THE SMALLEST STUDENT-TEACHER RAT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DGERS  &amp;  DIAMOND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MAJOR LEAGUE BASEBALL TEAM NAMES START WITH "D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419720"/>
            <a:ext cx="8382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JIBOUTI  &amp;  DEMOCRATIC  REPUBLIC  OF  THE  CO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AFRICAN COUNTRIES HAVE OFFICIAL NAMES THAT BEGIN WITH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ROTHY  &amp;  D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66880" y="762120"/>
            <a:ext cx="7410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WHAT ARE THE TWO MOST COMMON FEMALE FIRST NAMES THAT BEGIN WITH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U.S. CITIES STARTING WITH "D" HAVE A POPULATION OVER 700,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71600" y="762120"/>
            <a:ext cx="640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GAMES THAT BEGIN WITH "D" ARE IN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GAMES MAGAZ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ALL OF F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CHINESE ZODIAC SIGNS START WITH "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23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OF THE SEVEN DWARFS HAVE NAMES THAT START WITH "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BOOKS OF THE KING JAMES BIBLE START WITH "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MUSICAL ARTISTS WHOSE LAST NAMES START WITH "D" WON GRAMMYS FOR BEST ALBUM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MAJOR LEAGUE BASEBALL TEAM NAMES START WITH "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12:22:39Z</dcterms:created>
  <dc:creator>Jennifer Budzinski</dc:creator>
  <dc:description/>
  <dc:language>en-US</dc:language>
  <cp:lastModifiedBy>Erich Friedman</cp:lastModifiedBy>
  <dcterms:modified xsi:type="dcterms:W3CDTF">2020-09-05T08:51:01Z</dcterms:modified>
  <cp:revision>337</cp:revision>
  <dc:subject/>
  <dc:title>Slide 1</dc:title>
</cp:coreProperties>
</file>