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BF9-F46E-4280-8F12-47F6E663E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DEF-6053-416A-8BA7-99074634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A3E-C96B-4AB6-845E-4F12054E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85CD-56AE-48A0-B7ED-5AD63897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BC80-A8F5-452B-92B9-90795C03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6A0-93F6-4BFE-A927-99E00401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D7D7-C16F-4C30-8589-51CD58E9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0CC-188C-487E-9066-99BE8A24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08BE-AE27-4C8F-A9E8-669A16C4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92AD-CEAC-4BAE-9D67-811B3D16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1B34-6D13-4024-98F5-749E3B7D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20D-0E9E-4A1F-B7BC-D7498A05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FAA-5069-4778-B391-7F86B64F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1A8-FEC4-4856-93FA-3572A57F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F734-29A0-4472-801E-60830EA9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BE8E-A53C-40E2-9B63-549D9ECE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3F10-6D1F-4F51-A59C-0F674FCE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E58-73CC-4AC3-B5AC-81718FF1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C847-3849-4FFF-B28D-ACADDA64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2FB-B8D2-41BD-8E58-7F2485B8A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38E-1D26-4F28-98C8-61FCE27A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EE11-E9AA-48E8-8DC5-5551CEE5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5D9-CC6E-4D54-84DB-3427B25B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D'S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&amp;  DART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&amp;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85760" y="4343400"/>
            <a:ext cx="6972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  &amp;        DUNGEONS  AND  DRA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4360" y="762120"/>
            <a:ext cx="6515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&amp;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PEY  &amp;  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&amp;  DEUTER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INE  DION  &amp;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3880" y="762120"/>
            <a:ext cx="735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RS  &amp;  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IBOUTI  &amp;  DEMOCRATIC  REPUBLIC  OF  THE  CO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&amp;  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66880" y="762120"/>
            <a:ext cx="741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1:01Z</dcterms:modified>
  <cp:revision>337</cp:revision>
  <dc:subject/>
  <dc:title>Slide 1</dc:title>
</cp:coreProperties>
</file>