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2D49-06B7-4953-9E17-EFEE5B53C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1A28-41FA-43C1-AC83-D937153E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FD0C-A34A-4720-A473-331EC4C2D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98FF-D1FA-48D9-8908-1FA775529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73D2-1E1F-4297-B346-F72229B0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95D-D157-489A-A282-D7846015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318C-6C18-4FAB-AE65-5DFF230E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AD54-008C-40EA-8528-5A6E8F64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C7A6-1E8D-45B4-A2B3-103A6623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8AC-F7DF-46C7-AD98-3235F4BEE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360-7313-40AC-9567-DFE0D41F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E40A-90E9-49BB-8187-C76003DD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8E23-742A-4EAF-B1E6-53719E8F1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023E-C703-4606-8679-9E054ABCF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8E9-3C5E-4D06-9CA5-52E41BB0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6E58-E053-4A5C-BFAF-2D2B1DCA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31EE-36A6-44FD-8F8D-664E4D07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E561-B08C-422D-8B5F-508FECC1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FED6-8C10-4F33-AF61-8CF69CB8E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E697-7951-4EF5-A94A-14B53FA6A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35F6-46C4-4AC3-A7F6-86B2D4295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C83-DBC1-4910-B35C-ADF2DB690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4632-1971-4347-807C-74171BA73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CONNECTICUT YANKEE IN KING ARTHUR'S COU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CALL THEM COURT SHOES.  WHAT DO AMERICANS CALL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UPREME COURT JUSTICES WERE THERE IN 1789 WHEN THE COURT WAS ESTAB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GARET COURT HAS WON MORE MAJOR TOURNAMENTS THAN ANY OTHER PLAYER IN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0" y="488808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D  HALLS  or  HAWKER  CENTER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7328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OD COURTS CALLED IN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9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EET ABOVE A BASKETBALL COURT IS THE RIM OF THE BAS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M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 HAS A LARGER AREA COURT,  BADMINTON OR SQU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APPELLATE COURTS (OR COURTS OF APPEALS) ARE THERE JUST BELOW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SINGER / SONGWRITER'S MOST SUCCESSFUL ALBUM WAS "COURT AND S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UPREME COURT JUSTICES WERE THERE IN 1789 WHEN THE COURT WAS ESTABLIS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KANGAROO COURT" COMES FROM AUSTRALIA'S COURTS WHEN IT WAS A PENAL COLO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CONNECTICUT YANKEE IN KING ARTHUR'S COU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CALL THEM COURT SHOES.  WHAT DO AMERICANS CALL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GARET COURT HAS WON MORE MAJOR TOURNAMENTS THAN ANY OTHER PLAYER IN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OD COURTS CALLED IN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EET ABOVE A BASKETBALL COURT IS THE RIM OF THE BAS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 HAS A LARGER AREA COURT,  BADMINTON OR SQU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APPELLATE COURTS (OR COURTS OF APPEALS) ARE THERE JUST BELOW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SINGER / SONGWRITER'S MOST SUCCESSFUL ALBUM WAS "COURT AND S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KANGAROO COURT" COMES FROM AUSTRALIA'S COURTS WHEN IT WAS A PENAL COLO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20:07:46Z</dcterms:created>
  <dc:creator>Jennifer Budzinski</dc:creator>
  <dc:description/>
  <dc:language>en-US</dc:language>
  <cp:lastModifiedBy>Erich Friedman</cp:lastModifiedBy>
  <dcterms:modified xsi:type="dcterms:W3CDTF">2020-09-05T08:57:26Z</dcterms:modified>
  <cp:revision>343</cp:revision>
  <dc:subject/>
  <dc:title>Slide 1</dc:title>
</cp:coreProperties>
</file>