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B1EA-277A-4C14-B446-6ACD8BC45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6844-9C3B-43C7-B95B-E09FF6B65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DD71-63AC-43DD-9FA4-2BC70C1EF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E142B-CEC6-4A47-8047-339D269D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1F2B-B066-4647-8859-7A48F157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4F90C-42DE-4A23-9150-23D1C2BE4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323E-22A1-4301-95FF-35B457673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D9ACE-3C60-4E55-BF5C-E8689B67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E18B-8362-4FA5-BD5D-75CA49AE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0FCB-DDBC-4AB5-96D0-33AFE313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C16-9424-4DBA-8716-2D558B65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CEEA-5661-40F9-A213-5B5448637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4F33-5AD6-445E-8FE3-68AD461C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8699-0BB5-4959-A8D3-419ADBE3A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0369-9671-4474-90C4-10DCFDB70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C01C-216D-49C6-803B-4CC29C937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7B3-94CC-4EBB-94B7-5D7B2529C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65C2-1F5D-4643-92B1-DE9821ECE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BE38-07EA-4BB3-B436-6F99A22EA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4799-2906-4D8C-A35F-33DFE548B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3F7AC-8A06-46D4-8C2B-1009CAE61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250D-D457-46C6-947E-565AB7F9D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ED15-DD31-4A26-9F54-5DF39473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R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CONNECTICUT YANKEE IN KING ARTHUR'S COU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CALL THEM COURT SHOES.  WHAT DO AMERICANS CALL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PREME COURT JUSTICES WERE THERE IN 1789 WHEN THE COURT WAS ESTA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95360" y="76212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GARET COURT HAS WON MORE MAJOR TOURNAMENTS THAN ANY OTHER PLAYER IN WHAT S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0" y="4888080"/>
            <a:ext cx="9144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  HALLS  or  HAWKER  CENTER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04840" y="77328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OD COURTS CALLED IN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690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EET ABOVE A BASKETBALL COURT IS THE RIM OF THE BAS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M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 HAS A LARGER AREA COURT,  BADMINTON OR SQUA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80880" y="762120"/>
            <a:ext cx="838224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APPELLATE COURTS (OR COURTS OF APPEALS) ARE THERE JUST BELOW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I  MITC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SINGER / SONGWRITER'S MOST SUCCESSFUL ALBUM WAS "COURT AND S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UPREME COURT JUSTICES WERE THERE IN 1789 WHEN THE COURT WAS ESTABLI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KANGAROO COURT" COMES FROM AUSTRALIA'S COURTS WHEN IT WAS A PENAL COLO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TW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CONNECTICUT YANKEE IN KING ARTHUR'S COU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CALL THEM COURT SHOES.  WHAT DO AMERICANS CALL 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GARET COURT HAS WON MORE MAJOR TOURNAMENTS THAN ANY OTHER PLAYER IN WHAT S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43000" y="762120"/>
            <a:ext cx="685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FOOD COURTS CALLED IN 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EET ABOVE A BASKETBALL COURT IS THE RIM OF THE BAS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ORT HAS A LARGER AREA COURT,  BADMINTON OR SQUA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APPELLATE COURTS (OR COURTS OF APPEALS) ARE THERE JUST BELOW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SINGER / SONGWRITER'S MOST SUCCESSFUL ALBUM WAS "COURT AND S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RM "KANGAROO COURT" COMES FROM AUSTRALIA'S COURTS WHEN IT WAS A PENAL COLO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6T20:07:46Z</dcterms:created>
  <dc:creator>Jennifer Budzinski</dc:creator>
  <dc:description/>
  <dc:language>en-US</dc:language>
  <cp:lastModifiedBy>Erich Friedman</cp:lastModifiedBy>
  <dcterms:modified xsi:type="dcterms:W3CDTF">2020-09-05T08:57:26Z</dcterms:modified>
  <cp:revision>343</cp:revision>
  <dc:subject/>
  <dc:title>Slide 1</dc:title>
</cp:coreProperties>
</file>