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173A-BCB6-489F-9DC2-BE98E86F9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25EB-7253-486C-A453-6F92636F9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03F0-D9B5-4533-92C8-F020A3037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8B6A-DA62-4DD6-B67C-53A189DAF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0BCA-6AE6-4308-8B39-36FEA6F9B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7A3E-0BB7-41D6-9380-1F10B90D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FCE5E-68ED-4CA7-8733-8B9DD8B2B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2A64-89C4-4BA5-AEB2-7B1ECD276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7C1C-A577-49F6-B30E-05E3C779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8DC9-4EC0-4927-8F9A-02BFFD084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5774-7F15-4499-AA3D-48715911B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46B3-142E-4778-9F41-2320E8B8F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9046-2663-421F-A333-5C71B0592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AA3D-2851-46BC-A37E-327287A7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5139-4F38-4281-AF33-4860CA3E0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E40E-F2EC-4A98-A1CF-E88FF641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6CF5-DC34-4A17-A3BF-FFB29641F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8C32-F3DA-46C5-9F98-07ADE827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7488-8747-4AAB-829A-2E276C5F0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068C-BCD5-4CEC-993B-33EFA3710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161D-B2A8-4AF8-866B-C1F8C8B68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7886-2BBE-4244-AEDB-146DB898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C2C2-256D-4CC3-8CA4-989012EA9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38400" y="1523880"/>
            <a:ext cx="6667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FL DOUBLES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LOST 5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28680" y="762120"/>
            <a:ext cx="668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ALWAYS HOST GAMES ON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219320" y="4343400"/>
            <a:ext cx="6705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JETS  &amp;    TAMPA  BAY  BUCCAN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FOOTBALLS PICTURED IN THEIR OFFICIAL LOG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3434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ENGLAND  PATRIOTS  &amp;  PITTSBURGH  STE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43040" y="762120"/>
            <a:ext cx="7657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WON 6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371600" y="43434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  COWBOYS  &amp;  NEW  ORLEANS  S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25520" y="762120"/>
            <a:ext cx="6491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FAVORITE NFL TEAMS OF MISSISSIPP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JETS  &amp;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77960" y="762120"/>
            <a:ext cx="758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SHARE A STADI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343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  VIKINGS  &amp;  BALTIMORE  RA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PURPLE JERSE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BAY  &amp;  JACKSON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ITIES HAVE NFL STADIUMS, BUT DON'T HAVE PROFESSIONAL BASEBALL, HOCKEY, OR BASKETBALL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1560" y="43434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RAMS  &amp;  NEW  ORLEANS  S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44640" y="762120"/>
            <a:ext cx="72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BOTH MALE AND FEMALE CHEERLE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FOOTBALLS PICTURED IN THEIR OFFICIAL LOG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  BEARS  &amp;  ARIZONA  CARDI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9960" y="762120"/>
            <a:ext cx="8344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TWO TEAMS FROM THE 1920 FOOTBALL LEAGUE ARE STILL AROUND:  DECATUR STALEYS AND CHICAGO CARDINALS.  WHAT ARE THOSE TEAMS CALLED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574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VER  BRONCOS  &amp;   NEW  ENGLAND  PATRIOT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42880" y="762120"/>
            <a:ext cx="80582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LOST 5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  LIONS  &amp;  DALLAS  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24000" y="762120"/>
            <a:ext cx="6696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ALWAYS HOST GAMES ON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WON 6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7200" y="762120"/>
            <a:ext cx="64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FAVORITE NFL TEAMS OF MISSISSIPP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2160" y="762120"/>
            <a:ext cx="71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SHARE A STAD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PURPLE JERSE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ITIES HAVE NFL STADIUMS, BUT DON'T HAVE PROFESSIONAL BASEBALL, HOCKEY, OR BASKETBALL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HAVE BOTH MALE AND FEMALE CHEERLEA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5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LY TWO TEAMS FROM THE 1920 FOOTBALL LEAGUE ARE STILL AROUND: DECATUR STALEYS AND CHICAGO CARDINALS.  WHAT ARE THOSE TEAMS CALLED TO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9-05T09:04:44Z</dcterms:modified>
  <cp:revision>378</cp:revision>
  <dc:subject/>
  <dc:title>Slide 1</dc:title>
</cp:coreProperties>
</file>