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4463-180D-40BD-BACC-789256B71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F92C-7D4F-4DC7-B861-7A0C94ED6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862-6C4B-4F68-BB32-561B8406A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05B8-CA08-422B-893B-9345723B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4605-E711-4E37-BCC2-3E92CCC37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3A06-0053-449E-A2C1-B65CCF56A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3E99-E334-43E8-84CB-EE8BF5ED0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176-3926-470E-9F2B-43BF9B9F5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5453-AB9D-4259-8CE4-AD79F38B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7AB9-0E10-4301-B426-6D9F30EB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002F-59B1-45BC-8EDB-597064BF1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EC5F-CF12-4973-9388-AEB93A650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C7E2-2249-439A-B48D-8F70B2FE7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CE69-AED3-4E0F-989D-0342B8F2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4239-B10E-422E-A95B-DB1E9868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51D-5FF0-4D33-B765-46512D03E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13FE-3021-49DF-AC27-3EA3ADC4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100B-C242-4B3C-9933-6EDDFF4E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569D-05E8-46B1-95D0-D7E7C738A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632A-FFF7-4742-954B-40E67EA1A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3BE5-2384-49C6-B7C2-553093493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948C-E71E-4ED2-BAF2-2D2CAFED5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9854-547D-452F-900C-282C0D661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38400" y="1523880"/>
            <a:ext cx="6667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FL DOUBLES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LOST 5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28680" y="762120"/>
            <a:ext cx="66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ALWAYS HOST GAMES ON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219320" y="434340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JETS  &amp;    TAMPA  BAY  BUCCA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FOOTBALLS PICTURED IN THEIR OFFICIAL LOG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3434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ENGLAND  PATRIOTS  &amp;  PITTSBURGH  STE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43040" y="762120"/>
            <a:ext cx="7657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WON 6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371600" y="43434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  COWBOYS  &amp;  NEW  ORLEANS  S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25520" y="762120"/>
            <a:ext cx="6491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FAVORITE NFL TEAMS OF MISSISSIPP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JETS  &amp;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77960" y="762120"/>
            <a:ext cx="758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SHARE A STAD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34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  VIKINGS  &amp;  BALTIMORE  RA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PURPLE JERSE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BAY  &amp;  JACKSON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ITIES HAVE NFL STADIUMS, BUT DON'T HAVE PROFESSIONAL BASEBALL, HOCKEY, OR BASKETBALL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1560" y="43434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RAMS  &amp;  NEW  ORLEANS  S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44640" y="762120"/>
            <a:ext cx="72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BOTH MALE AND FEMALE CHEERLE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FOOTBALLS PICTURED IN THEIR OFFICIAL LOG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  BEARS  &amp;  ARIZONA  CARD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TWO TEAMS FROM THE 1920 FOOTBALL LEAGUE ARE STILL AROUND:  DECATUR STALEYS AND CHICAGO CARDINALS.  WHAT ARE THOSE TEAMS CALLED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VER  BRONCOS  &amp;   NEW  ENGLAND  PATRIOT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42880" y="762120"/>
            <a:ext cx="80582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LOST 5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  LIONS  &amp;  DALLAS  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24000" y="762120"/>
            <a:ext cx="6696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ALWAYS HOST GAMES ON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WON 6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7200" y="762120"/>
            <a:ext cx="64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FAVORITE NFL TEAMS OF MISSISSIPP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2160" y="762120"/>
            <a:ext cx="71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SHARE A STAD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PURPLE JERSE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ITIES HAVE NFL STADIUMS, BUT DON'T HAVE PROFESSIONAL BASEBALL, HOCKEY, OR BASKETBALL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BOTH MALE AND FEMALE CHEERLEA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TWO TEAMS FROM THE 1920 FOOTBALL LEAGUE ARE STILL AROUND: DECATUR STALEYS AND CHICAGO CARDINALS.  WHAT ARE THOSE TEAMS CALLED TO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9-05T09:04:44Z</dcterms:modified>
  <cp:revision>378</cp:revision>
  <dc:subject/>
  <dc:title>Slide 1</dc:title>
</cp:coreProperties>
</file>