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4924-3E5A-4A62-829C-B7D0842B2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6D97-E7E6-48EA-BB80-2B71BCAB7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357B-7B7E-4B92-9825-628065823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5677-D01D-4869-BCCC-EC118C604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8822-2F63-48E5-BFA9-7A41C32C4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5FAC-560D-4927-B282-6019742EB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6F67-29C9-4B02-B0DF-6050CB813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1F2C-91EC-4B84-8B24-E7C8E3229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B10D-B9E6-4E79-B2DA-7CADBB73D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2608-0181-4772-9718-1BD629127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C824-102B-4E22-A04C-9D3B987BD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60CE-E96E-492F-90D7-B6E5029FB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C49E-BB4B-4D85-B7CB-3E0CEB7CB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0FD7-3F74-419D-BF9F-28391B4D7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CC9D-D7D6-41C8-B2BA-984A538B2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D384-3B00-43D8-ADDB-16C2047A5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2E40-E06F-4B19-9D31-3910F598C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5E01-ADA3-4B44-8A63-6E6D8A89D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90D0-97D3-423A-AB1F-F8662C5FA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0B94-8D71-4084-AA04-D9928CCCC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995D-D904-47D7-8662-39660FE13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ED37-A013-462F-8B75-E64F23E0F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4230-F628-45DB-9A69-4C10D7CA1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38400" y="1523880"/>
            <a:ext cx="6667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FL DOUBLES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04720" y="761760"/>
            <a:ext cx="8134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NFL TEAMS HAVE LOST 5 SUPER BOW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228680" y="762120"/>
            <a:ext cx="6686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NFL TEAMS ALWAYS HOST GAMES ON THANKSGIV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219320" y="4343400"/>
            <a:ext cx="6705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YORK  JETS  &amp;    TAMPA  BAY  BUCCANE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31640" y="762120"/>
            <a:ext cx="8280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NFL TEAMS HAVE FOOTBALLS PICTURED IN THEIR OFFICIAL LOG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3434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ENGLAND  PATRIOTS  &amp;  PITTSBURGH  STEEL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43040" y="762120"/>
            <a:ext cx="76579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NFL TEAMS HAVE WON 6 SUPER BOW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371600" y="434340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LLAS  COWBOYS  &amp;  NEW  ORLEANS  SA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325520" y="762120"/>
            <a:ext cx="64911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TWO FAVORITE NFL TEAMS OF MISSISSIPPIA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YORK  JETS  &amp;  GI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77960" y="762120"/>
            <a:ext cx="7588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NFL TEAMS SHARE A STADI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3434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NESOTA  VIKINGS  &amp;  BALTIMORE  RAV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14400" y="762120"/>
            <a:ext cx="73152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NFL TEAMS HAVE PURPLE JERSEY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  BAY  &amp;  JACKSONVI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CITIES HAVE NFL STADIUMS, BUT DON'T HAVE PROFESSIONAL BASEBALL, HOCKEY, OR BASKETBALL TEA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1560" y="4343400"/>
            <a:ext cx="685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S  ANGELES  RAMS  &amp;  NEW  ORLEANS  SA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44640" y="762120"/>
            <a:ext cx="72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NFL TEAMS HAVE BOTH MALE AND FEMALE CHEERLEAD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15440" y="762120"/>
            <a:ext cx="8310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NFL TEAMS HAVE FOOTBALLS PICTURED IN THEIR OFFICIAL LOGO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343400"/>
            <a:ext cx="6553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CAGO  BEARS  &amp;  ARIZONA  CARDIN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99960" y="762120"/>
            <a:ext cx="8344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LY TWO TEAMS FROM THE 1920 FOOTBALL LEAGUE ARE STILL AROUND:  DECATUR STALEYS AND CHICAGO CARDINALS.  WHAT ARE THOSE TEAMS CALLED TO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257480" y="4343400"/>
            <a:ext cx="6629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NVER  BRONCOS  &amp;   NEW  ENGLAND  PATRIOT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42880" y="762120"/>
            <a:ext cx="805824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NFL TEAMS HAVE LOST 5 SUPER BOW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486080" y="4343400"/>
            <a:ext cx="6172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TROIT  LIONS  &amp;  DALLAS  COWBO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224000" y="762120"/>
            <a:ext cx="6696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NFL TEAMS ALWAYS HOST GAMES ON THANKSGIV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NFL TEAMS HAVE WON 6 SUPER BOW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357200" y="762120"/>
            <a:ext cx="64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TWO FAVORITE NFL TEAMS OF MISSISSIPPIA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2160" y="762120"/>
            <a:ext cx="7158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NFL TEAMS SHARE A STADI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24040" y="762120"/>
            <a:ext cx="7495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NFL TEAMS HAVE PURPLE JERSEY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4360" y="761760"/>
            <a:ext cx="8315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CITIES HAVE NFL STADIUMS, BUT DON'T HAVE PROFESSIONAL BASEBALL, HOCKEY, OR BASKETBALL TEA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19000" y="761760"/>
            <a:ext cx="7506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NFL TEAMS HAVE BOTH MALE AND FEMALE CHEERLEAD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520" y="7617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LY TWO TEAMS FROM THE 1920 FOOTBALL LEAGUE ARE STILL AROUND: DECATUR STALEYS AND CHICAGO CARDINALS.  WHAT ARE THOSE TEAMS CALLED TODA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0-09-05T09:04:44Z</dcterms:modified>
  <cp:revision>378</cp:revision>
  <dc:subject/>
  <dc:title>Slide 1</dc:title>
</cp:coreProperties>
</file>