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3FBA-7E8E-40FD-A58F-B3DB88833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E57B-8808-4FFB-8FA7-3ED4DEB2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9BE1-BE49-40A3-A59B-3EDCB6ECA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3337-DDF4-435A-A273-5003C2CA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5129-079D-4077-8373-89A670D1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763B-C631-4DB7-93D4-25DD02A70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FA47-A634-4C2D-8E29-289BF61C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A9F6-BF76-4B92-9206-014AE3F2C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DA14-04CF-45BE-BD92-52CEBADD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A694-4619-4A2D-9A40-9F1B9C01F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601E-E77B-4D1E-B993-44E3A74A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B1B6-06C9-4113-86C8-4A7B841D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C6B7-0DFA-4F35-ABBA-BA58EEF7C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5C89-634B-45F8-B3EC-C8D33CA9E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B511-763B-4D8F-BB18-6DDD8D42E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DE01-F440-4BA3-A898-1C2FE544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846D-DA8D-4824-A997-3F6B980E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1278-9D0B-4F22-BBF4-41E9FCBDA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B46F-C518-4540-84BE-59BCD5981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1D8F-5C79-4352-AF01-B6BD0A71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7E9D-2A59-42A7-AD89-056ECA60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BB62-7FF4-4EB4-B2C9-7BF7B059E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4A67-36DA-4131-B99C-F4819D07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GREYHOUND,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US COMPANY IN THE U.S.?  COACH USA, JEFFERSON LINES, OR TRAILW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THAT TAKES PLACE MOSTLY ON A BUS HAD TAG LINE "GET READY FOR RUSH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IC B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  AMBU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9880" y="762120"/>
            <a:ext cx="74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OLICEMEN ASK FOR A "BUS", WHAT ARE THEY REALLY ASKING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1956 ROMANCE FILM "BUS STOP" OPPOSITE DON MUR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00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ACK 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66760" y="762120"/>
            <a:ext cx="6808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RIVED AT THE 2012 IOWA STATE FAIR IN A BUS CALLED "GROUND FORCE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RTRIDG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22360" y="762120"/>
            <a:ext cx="8099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FAMILY OWNED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2438280" y="1944720"/>
            <a:ext cx="426744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04720" y="762120"/>
            <a:ext cx="813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S LEADER  FAMOUSLY REFUSED TO GIVE UP HER BUS SEAT IN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ISE  PAS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MOST FAMOUS FOR HIS "ARITHMETICAL TRIANGLE" ALSO BEGAN THE FIRST     BUS SERVICE, IN 16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IC B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RIE  FRIZZ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LDREN'S BOOKS AND CARTOONS, WHO DRIVES "THE MAGIC SCHOOL B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71640" y="762120"/>
            <a:ext cx="7200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GREYHOUND,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US COMPANY IN THE U.S.?  COACH USA, JEFFERSON LINES, OR TRAILW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749160" y="762120"/>
            <a:ext cx="7645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THAT TAKES PLACE MOSTLY ON A BUS HAD TAG LINE "GET READY FOR RUSH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OLICEMEN ASK FOR A "BUS", WHAT ARE THEY REALLY ASKING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1956 ROMANCE FILM "BUS STOP" OPPOSITE DON MUR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RIVED AT THE 2012 IOWA STATE FAIR IN A BUS CALLED "GROUND FORCE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FAMILY OWNED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362320" y="1909800"/>
            <a:ext cx="441936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S LEADER  FAMOUSLY REFUSED TO GIVE UP HER BUS SEAT IN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MOST FAMOUS FOR HIS "ARITHMETICAL TRIANGLE" ALSO BEGAN THE FIRST       BUS SERVICE IN 166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LDREN'S BOOKS  AND CARTOONS, WHO DRIVES "THE MAGIC SCHOOL B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9-05T09:05:01Z</dcterms:modified>
  <cp:revision>371</cp:revision>
  <dc:subject/>
  <dc:title>Slide 1</dc:title>
</cp:coreProperties>
</file>