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FC86-076D-4CC8-86B2-8ECF50393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C9CB-730A-4D04-959C-914B6416C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9206-65CC-44F3-854E-EA046E7EB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C56D-ABD6-469B-B12E-8A51E75D5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0EC0-393B-4819-B696-609400CE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DA83-86E3-460F-9CDC-5752EA962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BD36-AEBB-4740-9B3F-82142A95C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72D3-C146-428C-8BB0-1386FABE6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8229-1CA0-4218-AB37-0ECD22DD2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3473-6E86-4BA5-BE01-2E18CD6FF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AD73-649A-4E70-8618-99C1D362A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F3FB-F726-479D-9235-453D0159E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2C0E-9BF4-4A09-A4ED-C5B1B5969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62EA-95A7-42E5-9F11-59D5A0930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33B4-A6E3-46FA-A438-D4AE88C4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1BE1-79DD-4AF6-9D71-5B43E9AAB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704B-34DD-46B0-9E3E-CA9F8951B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27D9-6FA8-4935-8E25-10620BF12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3ECA-6B50-4D3C-91FC-78A969F94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53C7-DCDD-4C2F-A10F-CC263836E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2312-A172-4422-B412-C640AAF3B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600C-8E41-4161-A922-D25BB1806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3449-FA17-4A63-BF53-981FB5A00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GREYHOUND,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BUS COMPANY IN THE U.S.?  COACH USA, JEFFERSON LINES, OR TRAILWA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THAT TAKES PLACE MOSTLY ON A BUS HAD TAG LINE "GET READY FOR RUSH H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90400" y="762120"/>
            <a:ext cx="796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GIC B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  AMBU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9880" y="762120"/>
            <a:ext cx="7462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POLICEMEN ASK FOR A "BUS", WHAT ARE THEY REALLY ASKING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LYN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1956 ROMANCE FILM "BUS STOP" OPPOSITE DON MURR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006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ACK  O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66760" y="762120"/>
            <a:ext cx="6808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RIVED AT THE 2012 IOWA STATE FAIR IN A BUS CALLED "GROUND FORCE 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ARTRIDGE 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22360" y="762120"/>
            <a:ext cx="8099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FAMILY OWNED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2438280" y="1944720"/>
            <a:ext cx="4267440" cy="28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A  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04720" y="762120"/>
            <a:ext cx="813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VIL RIGHTS LEADER  FAMOUSLY REFUSED TO GIVE UP HER BUS SEAT IN 195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ISE  PAS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MATHEMATICIAN MOST FAMOUS FOR HIS "ARITHMETICAL TRIANGLE" ALSO BEGAN THE FIRST     BUS SERVICE, IN 166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GIC B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ERIE  FRIZZ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LDREN'S BOOKS AND CARTOONS, WHO DRIVES "THE MAGIC SCHOOL B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 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71640" y="762120"/>
            <a:ext cx="7200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GREYHOUND,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BUS COMPANY IN THE U.S.?  COACH USA, JEFFERSON LINES, OR TRAILW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749160" y="762120"/>
            <a:ext cx="7645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THAT TAKES PLACE MOSTLY ON A BUS HAD TAG LINE "GET READY FOR RUSH H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POLICEMEN ASK FOR A "BUS", WHAT ARE THEY REALLY ASKING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61800" y="76212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1956 ROMANCE FILM "BUS STOP" OPPOSITE DON MURR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RIVED AT THE 2012 IOWA STATE FAIR IN A BUS CALLED "GROUND FORCE 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FAMILY OWNED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362320" y="1909800"/>
            <a:ext cx="441936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71600" y="761760"/>
            <a:ext cx="82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VIL RIGHTS LEADER  FAMOUSLY REFUSED TO GIVE UP HER BUS SEAT IN 195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MATHEMATICIAN MOST FAMOUS FOR HIS "ARITHMETICAL TRIANGLE" ALSO BEGAN THE FIRST       BUS SERVICE IN 166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LDREN'S BOOKS  AND CARTOONS, WHO DRIVES "THE MAGIC SCHOOL B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9-05T09:05:01Z</dcterms:modified>
  <cp:revision>371</cp:revision>
  <dc:subject/>
  <dc:title>Slide 1</dc:title>
</cp:coreProperties>
</file>