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59ECD-77E6-48E2-9407-E050D049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3462-2877-4936-8C1D-4BD50D230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D30B-D538-4ABE-B333-887CE1D7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0888-564E-4C01-A730-DB6519241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5100-27AB-4FE7-82C8-B34B2E255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DF53-B51A-4FC9-BFF5-B558A587F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1F80-8761-4A94-8850-4219330C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B660-1E19-45D5-9389-F0C25F1DA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30F3-A57B-4E57-9639-E5B514C3A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8073-A02C-46C1-9891-10821542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DDDE-AF14-4146-AD1B-CB9F6ED7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B0FE-3612-440B-9168-C4C67909C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9817-86DF-4973-BC4C-F51C6D75F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5AED-88B5-42D0-88D5-5FBC28025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E3BD-F06A-49A2-8D38-ED28207B9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C7EA-B207-4D27-8A5C-60EBF717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2A7B-6C3B-4B6E-B675-3C12FC71C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DEC0-F3F0-44A6-9A3E-9663DFDB8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E628-5303-42C5-817C-32F03EE4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E160-ACB8-46C7-915B-BC30DEDB0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9CA6-085A-4242-A0A5-1646D55B4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7F9F-A57B-49C4-9FD7-ABA7CB52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E748-D0D8-47F7-B241-FC57BD69F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GREYHOUND,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US COMPANY IN THE U.S.?  COACH USA, JEFFERSON LINES, OR TRAILW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THAT TAKES PLACE MOSTLY ON A BUS HAD TAG LINE "GET READY FOR RUSH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90400" y="762120"/>
            <a:ext cx="7963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IC B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  AMBU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9880" y="762120"/>
            <a:ext cx="74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OLICEMEN ASK FOR A "BUS", WHAT ARE THEY REALLY ASKING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1956 ROMANCE FILM "BUS STOP" OPPOSITE DON MUR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0060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ACK  O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66760" y="762120"/>
            <a:ext cx="6808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RIVED AT THE 2012 IOWA STATE FAIR IN A BUS CALLED "GROUND FORCE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RTRIDG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22360" y="762120"/>
            <a:ext cx="8099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FAMILY OWNED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2438280" y="1944720"/>
            <a:ext cx="4267440" cy="28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04720" y="762120"/>
            <a:ext cx="813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S LEADER  FAMOUSLY REFUSED TO GIVE UP HER BUS SEAT IN 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ISE  PAS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MOST FAMOUS FOR HIS "ARITHMETICAL TRIANGLE" ALSO BEGAN THE FIRST     BUS SERVICE, IN 166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GIC B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RIE  FRIZZ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LDREN'S BOOKS AND CARTOONS, WHO DRIVES "THE MAGIC SCHOOL B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  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71640" y="762120"/>
            <a:ext cx="7200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GREYHOUND,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US COMPANY IN THE U.S.?  COACH USA, JEFFERSON LINES, OR TRAILW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749160" y="762120"/>
            <a:ext cx="7645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THAT TAKES PLACE MOSTLY ON A BUS HAD TAG LINE "GET READY FOR RUSH H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POLICEMEN ASK FOR A "BUS", WHAT ARE THEY REALLY ASKING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1956 ROMANCE FILM "BUS STOP" OPPOSITE DON MURR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RIVED AT THE 2012 IOWA STATE FAIR IN A BUS CALLED "GROUND FORCE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FAMILY OWNED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362320" y="1909800"/>
            <a:ext cx="4419360" cy="29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2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VIL RIGHTS LEADER  FAMOUSLY REFUSED TO GIVE UP HER BUS SEAT IN 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MATHEMATICIAN MOST FAMOUS FOR HIS "ARITHMETICAL TRIANGLE" ALSO BEGAN THE FIRST       BUS SERVICE IN 166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HILDREN'S BOOKS  AND CARTOONS, WHO DRIVES "THE MAGIC SCHOOL B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9-05T09:05:01Z</dcterms:modified>
  <cp:revision>371</cp:revision>
  <dc:subject/>
  <dc:title>Slide 1</dc:title>
</cp:coreProperties>
</file>