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9FD7-FD17-467A-B9DD-E1A05F5E2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283D-24E5-4756-8606-D98D5FDD0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4421-216E-4A49-AD36-2EBF4AB10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A69C-D6A1-409A-8A2F-DECE01550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0E74-DD7A-4E16-90EF-E081AF129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C927-8AA8-4DE0-9019-4C5696E0C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280F-E068-420D-9C6A-E2CC5D334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B8EE-DACA-422B-A1B6-EB1B87BA3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36C4-3CC5-409B-BFF6-02E227071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323E-570E-487B-B011-046477F7A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406E-F342-421C-9A3F-6BF314F9C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DC36-67E1-4EEB-AB37-6BB316A9C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C21D-964A-4F4C-9F7E-C834D618B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1330-8651-458E-8DE9-ACEFC1C77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265A-5AA8-47EE-A10B-A2A5DB43D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58C7-9C92-49B6-A11B-625C6EF9F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8961-092E-402B-ADA3-68C679FB7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3785-0036-484C-903B-70A67D497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8542-44C7-49F4-8691-C39A01B83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50A6-4BDE-4CAB-BBF4-B459DD34A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3F7C-7EBA-4F4E-8539-140E17FE7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0CBF-CBE1-44DF-B809-A1FE08A8F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35A8-8A78-4E3F-8211-F25DC6E99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A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23800" y="761760"/>
            <a:ext cx="8096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ARE STANDING AT A TERRAIN FEATURE CALLED   A DRAW, THEN HOW MANY   OF THE 4 COORDINATE DIRECTIONS ARE DOWNHI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71360" y="762120"/>
            <a:ext cx="880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2 MAIN TYPES OF POKER GAMES: "DRAW" GAMES WHERE YOU GET REPLACEMENT CARDS, AND WHAT OTHER TYPE WHERE YOU DON'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28720" y="762120"/>
            <a:ext cx="7486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ARD GAME "UNO", WHAT IS THE LARGEST NUMBER OF CARDS YOU CAN MAKE AN OPPONENT DRAW WITH ONE C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CE–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4960" y="762120"/>
            <a:ext cx="8074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OMEN'S LACROSSE, IT IS CALLED A DRAW.  WHAT IS IT CALLED IN MEN'S LACROS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AGE OF PROFESSIONAL CHESS GAMES ARE DRAWS?  40%, 55%, OR 70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35120" y="762120"/>
            <a:ext cx="76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OOTBALL, IS A DRAW PLAY A RUNNING, PASSING, OR KICKING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89120" y="762120"/>
            <a:ext cx="7565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NIMAL IS THE CARTOON CHARACTER QUICK DRAW MCGR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STERD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66720" y="762120"/>
            <a:ext cx="7810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CONTAINS MORE DRAWBRIDGES THAN ANY OTHER?  AMSTERDAM, CHICAGO, OR LOND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NIE  RA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5320" y="762120"/>
            <a:ext cx="7891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ALBUM "LUCK OF THE DRAW" CONTAINING THE TOP 5 HITS "SOMETHING TO TALK ABOUT" AND "NOT THE ONLY 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ARD GAME "UNO", WHAT IS THE LARGEST NUMBER OF CARDS YOU CAN MAKE AN OPPONENT DRAW WITH ONE C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CKI  LAW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FROM "THE CAROL BURNETT SHOW" HOSTED THE GAME SHOW "WIN, LOSE, OR DRA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58720" y="762120"/>
            <a:ext cx="8024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ARE STANDING AT A TERRAIN FEATURE CALLED   A DRAW, THEN HOW MANY   OF THE 4 COORDINATE DIRECTIONS ARE DOWNH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71360" y="762120"/>
            <a:ext cx="880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2 MAIN TYPES OF POKER GAMES: "DRAW" GAMES WHERE YOU GET REPLACEMENT CARDS, AND WHAT OTHER TYPE WHERE YOU DON'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OMEN'S LACROSSE, IT IS CALLED A DRAW.  WHAT IS IT CALLED IN MEN'S LACROS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81000" y="762120"/>
            <a:ext cx="718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AGE OF PROFESSIONAL CHESS GAMES ARE DRAWS?  40%, 55%, OR 70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OOTBALL, IS A DRAW PLAY A RUNNING, PASSING, OR KICKING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NIMAL IS THE CARTOON CHARACTER QUICK DRAW MCGRA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47560" y="761760"/>
            <a:ext cx="804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CONTAINS MORE DRAWBRIDGES THAN ANY OTHER?  AMSTERDAM, CHICAGO, OR LOND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ALBUM "LUCK OF THE DRAW" CONTAINING THE TOP 5 HITS "SOMETHING TO TALK ABOUT" AND "NOT THE ONLY 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FROM "THE CAROL BURNETT SHOW" HOSTED THE GAME SHOW "WIN, LOSE, OR DRA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9-05T12:07:26Z</dcterms:modified>
  <cp:revision>375</cp:revision>
  <dc:subject/>
  <dc:title>Slide 1</dc:title>
</cp:coreProperties>
</file>