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71BE-4CC3-4FCF-90F1-6745790C5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1644-4D09-4EBF-B434-63796072C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BF581-2E98-47E7-B640-03E947E3B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2C96-2033-4489-88FC-193E3E76C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E686-376F-46C5-BEEC-E2CAC8748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C995-B61E-43BB-81E2-23B8C642F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15A6-CD34-4522-B35F-3D3A80721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2D6F-626E-447B-8199-794C47A37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0859-B4B9-4A94-B620-975ACADA7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1E13-B6EC-4E5B-B849-9E8291F48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3FDA-2B71-4D07-839D-EDBC3C536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65D3-D67B-4DD2-BB12-8B1A1CEAC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724D-EB0C-45E3-9357-64DF8B7B8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6F60A-0495-4B25-A460-CB9B07AAC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555ED-B18C-47FB-8ECB-A87307287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3D17F-78CF-41A1-A907-DAB466ED1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569F-2A25-4D30-8BAF-28ACA895F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062C-629B-41DC-8100-34BADCDF6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E61F-A497-4738-864B-7E5F42A4D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D398-C2E6-4589-84BD-A505AFDA9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F10E-A026-45E6-A768-6D69EC40B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22B9F-32D8-4861-88ED-770A51490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71D2-EFE4-450E-ADD9-FADEF11EE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RA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23800" y="761760"/>
            <a:ext cx="8096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ARE STANDING AT A TERRAIN FEATURE CALLED   A DRAW, THEN HOW MANY   OF THE 4 COORDINATE DIRECTIONS ARE DOWNHI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71360" y="762120"/>
            <a:ext cx="8801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2 MAIN TYPES OF POKER GAMES: "DRAW" GAMES WHERE YOU GET REPLACEMENT CARDS, AND WHAT OTHER TYPE WHERE YOU DON'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28720" y="762120"/>
            <a:ext cx="7486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ARD GAME "UNO", WHAT IS THE LARGEST NUMBER OF CARDS YOU CAN MAKE AN OPPONENT DRAW WITH ONE CA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CE–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4960" y="762120"/>
            <a:ext cx="8074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OMEN'S LACROSSE, IT IS CALLED A DRAW.  WHAT IS IT CALLED IN MEN'S LACROS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AGE OF PROFESSIONAL CHESS GAMES ARE DRAWS?  40%, 55%, OR 70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35120" y="762120"/>
            <a:ext cx="76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OOTBALL, IS A DRAW PLAY A RUNNING, PASSING, OR KICKING PL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89120" y="762120"/>
            <a:ext cx="7565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NIMAL IS THE CARTOON CHARACTER QUICK DRAW MCGRA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STERD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66720" y="762120"/>
            <a:ext cx="7810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CONTAINS MORE DRAWBRIDGES THAN ANY OTHER?  AMSTERDAM, CHICAGO, OR LOND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NIE  RAI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25320" y="762120"/>
            <a:ext cx="7891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ALBUM "LUCK OF THE DRAW" CONTAINING THE TOP 5 HITS "SOMETHING TO TALK ABOUT" AND "NOT THE ONLY O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CARD GAME "UNO", WHAT IS THE LARGEST NUMBER OF CARDS YOU CAN MAKE AN OPPONENT DRAW WITH ONE C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CKI  LAW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FROM "THE CAROL BURNETT SHOW" HOSTED THE GAME SHOW "WIN, LOSE, OR DRA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58720" y="762120"/>
            <a:ext cx="8024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ARE STANDING AT A TERRAIN FEATURE CALLED   A DRAW, THEN HOW MANY   OF THE 4 COORDINATE DIRECTIONS ARE DOWNHI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71360" y="762120"/>
            <a:ext cx="8801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2 MAIN TYPES OF POKER GAMES: "DRAW" GAMES WHERE YOU GET REPLACEMENT CARDS, AND WHAT OTHER TYPE WHERE YOU DON'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OMEN'S LACROSSE, IT IS CALLED A DRAW.  WHAT IS IT CALLED IN MEN'S LACROS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81000" y="762120"/>
            <a:ext cx="718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ERCENTAGE OF PROFESSIONAL CHESS GAMES ARE DRAWS?  40%, 55%, OR 70%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FOOTBALL, IS A DRAW PLAY A RUNNING, PASSING, OR KICKING PL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66720" y="762120"/>
            <a:ext cx="7810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ANIMAL IS THE CARTOON CHARACTER QUICK DRAW MCGRAW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47560" y="761760"/>
            <a:ext cx="804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CONTAINS MORE DRAWBRIDGES THAN ANY OTHER?  AMSTERDAM, CHICAGO, OR LOND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ALBUM "LUCK OF THE DRAW" CONTAINING THE TOP 5 HITS "SOMETHING TO TALK ABOUT" AND "NOT THE ONLY O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FROM "THE CAROL BURNETT SHOW" HOSTED THE GAME SHOW "WIN, LOSE, OR DRA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0-09-05T12:07:26Z</dcterms:modified>
  <cp:revision>375</cp:revision>
  <dc:subject/>
  <dc:title>Slide 1</dc:title>
</cp:coreProperties>
</file>