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A8AF-F292-4799-BEC9-935FB428A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A2C0-25C5-4127-A0A0-BDB33B55B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B61C-0B75-4A7D-B736-90AC6068C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7B77-BD19-4DD6-8335-B2E34389A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5AF0-39CA-4B99-B8B0-4B7CF83B4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7BB8-FECA-4D9B-85AA-7434A6046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DC8F-538E-4CB1-9D12-26726920B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8C1D-AF0E-4A53-B2D9-BA07F2113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A061-8EA1-4F69-82D5-DDBA1AC17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FCEB-E01A-4932-8A33-6B080B839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9862-5CE8-48B3-996A-7ACEAD0BF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021C-BCE0-41E3-B637-1E1BD0E96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94DF-D404-4A92-9CF5-5C47E25B9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34B1-7801-4750-83BF-B4CF9BA42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8BB8-4CAB-484D-945D-AE2E5B792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FC2B-3F9E-4F69-BC8A-3D2D2CBF0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2266-0DF8-4347-B941-55861E65D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426A-0F72-45F5-9377-8B6330BE9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2694-7499-44C2-94C7-B63B2B0D8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CEC6-1D40-43C4-A879-1D36D9448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4BA1-D274-443C-BE76-2BF311CA0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564D-FF71-406B-961C-B1C01042A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D0F6-4397-4DAC-9A65-94F908A9A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UB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390680" y="761760"/>
            <a:ext cx="6362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RULE OF FIGHT 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NIS JOPLIN, JIMI HENDRIX, JIM MORRISON, KURT COBAIN, AND AMY WINEHOUSE ARE  ALL IN WHAT "CLUB", NAMED AFTER THE AGE THEY D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52280" y="4876920"/>
            <a:ext cx="883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ON,  LETTUCE,  TOMATO  &amp;  MA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OUR INGREDIENTS IN A TURKEY CLUB SANDWICH BESIDES TURKEY AND BREA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NIGHTCLUB IN ORLANDO WHERE 49 PEOPLE WERE KILLED IN A MASS SHOOTING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JACK OF CLUBS PLAYING CARD ONE OF THE "ONE-EYED JAC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04840" y="781200"/>
            <a:ext cx="69343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KIND OF ANCIENT CLUB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bulav.jpg"/>
          <p:cNvPicPr/>
          <p:nvPr/>
        </p:nvPicPr>
        <p:blipFill>
          <a:blip r:embed="rId1"/>
          <a:stretch/>
        </p:blipFill>
        <p:spPr>
          <a:xfrm>
            <a:off x="2619360" y="2590920"/>
            <a:ext cx="3905280" cy="22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XIMUM NUMBER OF GOLF CLUBS A GOLF IS ALLOWED TO CARRY IN A  GOLF BAG?  14, 16, OR 1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 RECORD FOR THE LARGEST NUMBER OF CLUBS JUGGLED AT ONCE?  8, 10, OR 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320" y="762120"/>
            <a:ext cx="899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CLUB MED HAS RESORTS ON EVERY CONTINENT EXCEPT ANTARCT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OUR INGREDIENTS IN A TURKEY CLUB SANDWICH BESIDES TURKEY AND BREA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BON  DI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2228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AS THAT IS DISSOLVED IN CLUB SODA TO MAKE IT CARBON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'T  TALK  ABOUT  FIGHT  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447920" y="762120"/>
            <a:ext cx="6248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RULE OF FIGHT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864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27  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NIS JOPLIN, JIMI HENDRIX, JIM MORRISON, KURT COBAIN, AND AMY WINEHOUSE ARE  ALL IN WHAT "CLUB", NAMED AFTER THE AGE THEY D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NIGHTCLUB IN ORLANDO WHERE 49 PEOPLE WERE KILLED IN A MASS SHOOTING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JACK OF CLUBS PLAYING CARD ONE OF THE "ONE-EYED JAC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KIND OF ANCIENT CLUB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bulav.jpg"/>
          <p:cNvPicPr/>
          <p:nvPr/>
        </p:nvPicPr>
        <p:blipFill>
          <a:blip r:embed="rId1"/>
          <a:stretch/>
        </p:blipFill>
        <p:spPr>
          <a:xfrm>
            <a:off x="2419200" y="2666880"/>
            <a:ext cx="4305600" cy="24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XIMUM NUMBER OF GOLF CLUBS A GOLFER IS ALLOWED TO CARRY IN A  GOLF BAG?  14, 16, OR 18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 RECORD FOR THE LARGEST NUMBER OF CLUBS JUGGLED AT ONCE?  8, 10, OR 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120" y="76176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CLUB MED HAS RESORTS ON EVERY CONTINENT EXCEPT ANTARCT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AS THAT IS DISSOLVED IN CLUB SODA TO MAKE IT CARBON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15:59:26Z</dcterms:created>
  <dc:creator>Jennifer Budzinski</dc:creator>
  <dc:description/>
  <dc:language>en-US</dc:language>
  <cp:lastModifiedBy>Erich Friedman</cp:lastModifiedBy>
  <dcterms:modified xsi:type="dcterms:W3CDTF">2020-09-04T13:04:29Z</dcterms:modified>
  <cp:revision>322</cp:revision>
  <dc:subject/>
  <dc:title>Slide 1</dc:title>
</cp:coreProperties>
</file>