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8710-812A-4AD9-A434-31EC520D7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A6B5-C020-41E5-9A1D-8C3F0C3F5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B31F-FE6C-41E9-B3E6-F8D08B0DF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9D7E-A752-4CB9-B1D4-1E9FEFEEF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3355-96E9-47FC-9545-BF3674DC7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E3D6-E1D4-410B-BAEC-A20493356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B169-009D-4C00-B5A5-4ECDBC142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3DF5-8B3A-4520-81F9-363529068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6E91-C6AD-4E69-9ACE-AFF3CB6B5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E228-20C0-43D9-9040-15213EF91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164B-12DA-4E38-9B9E-060F69F72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5E8C-347B-4A20-B267-00587153C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E221-2C7E-472C-A3C8-D234BE76A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C1A5-3990-4392-AD84-0F854BFEA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C56E-9B57-40E3-AB72-AF7BA5F8D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1FCA-1967-4BE7-908D-EA285B42A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9B74-3573-4C21-826A-F79AAC0E1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FE55-49DF-4FC4-B670-7B730E3EF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4AD2-C43A-418C-9634-CE5D0EF0A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A08A-B955-42A7-BCE7-9E9271108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96A7-2A2C-494D-B516-73F7F8C5F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0A2F-D906-4FAA-B90A-599E3EA46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D0F8-0D5F-42E0-AF32-DABA38E96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UB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390680" y="761760"/>
            <a:ext cx="6362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RULE OF FIGHT CLUB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NIS JOPLIN, JIMI HENDRIX, JIM MORRISON, KURT COBAIN, AND AMY WINEHOUSE ARE  ALL IN WHAT "CLUB", NAMED AFTER THE AGE THEY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52280" y="4876920"/>
            <a:ext cx="883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ON,  LETTUCE,  TOMATO  &amp; 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OUR INGREDIENTS IN A TURKEY CLUB SANDWICH BESIDES TURKEY AND BREA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85800" y="7621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NIGHTCLUB IN ORLANDO WHERE 49 PEOPLE WERE KILLED IN A MASS SHOOTING IN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JACK OF CLUBS PLAYING CARD ONE OF THE "ONE-EYED JAC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1104840" y="781200"/>
            <a:ext cx="693432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KIND OF ANCIENT CLUB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5" descr="bulav.jpg"/>
          <p:cNvPicPr/>
          <p:nvPr/>
        </p:nvPicPr>
        <p:blipFill>
          <a:blip r:embed="rId1"/>
          <a:stretch/>
        </p:blipFill>
        <p:spPr>
          <a:xfrm>
            <a:off x="2619360" y="2590920"/>
            <a:ext cx="390528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04920" y="762120"/>
            <a:ext cx="8458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NUMBER OF GOLF CLUBS A GOLF IS ALLOWED TO CARRY IN A  GOLF BAG?  14, 16, OR 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47640" y="762120"/>
            <a:ext cx="7848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 RECORD FOR THE LARGEST NUMBER OF CLUBS JUGGLED AT ONCE?  8, 10, OR 1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320" y="762120"/>
            <a:ext cx="89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LUB MED HAS RESORTS ON EVERY CONTINENT EXCEPT ANTARCT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OUR INGREDIENTS IN A TURKEY CLUB SANDWICH BESIDES TURKEY AND BREA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BON  DIOX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2228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AS THAT IS DISSOLVED IN CLUB SODA TO MAKE IT CARBO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'T  TALK  ABOUT  FIGHT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447920" y="762120"/>
            <a:ext cx="6248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RULE OF FIGHT CLUB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864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27  CLU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NIS JOPLIN, JIMI HENDRIX, JIM MORRISON, KURT COBAIN, AND AMY WINEHOUSE ARE  ALL IN WHAT "CLUB", NAMED AFTER THE AGE THEY DI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NIGHTCLUB IN ORLANDO WHERE 49 PEOPLE WERE KILLED IN A MASS SHOOTING IN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S THE JACK OF CLUBS PLAYING CARD ONE OF THE "ONE-EYED JACK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KIND OF ANCIENT CLUB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bulav.jpg"/>
          <p:cNvPicPr/>
          <p:nvPr/>
        </p:nvPicPr>
        <p:blipFill>
          <a:blip r:embed="rId1"/>
          <a:stretch/>
        </p:blipFill>
        <p:spPr>
          <a:xfrm>
            <a:off x="2419200" y="2666880"/>
            <a:ext cx="4305600" cy="24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NUMBER OF GOLF CLUBS A GOLFER IS ALLOWED TO CARRY IN A  GOLF BAG?  14, 16, OR 18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 RECORD FOR THE LARGEST NUMBER OF CLUBS JUGGLED AT ONCE?  8, 10, OR 1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4120" y="76176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CLUB MED HAS RESORTS ON EVERY CONTINENT EXCEPT ANTARCT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GAS THAT IS DISSOLVED IN CLUB SODA TO MAKE IT CARBO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5T15:59:26Z</dcterms:created>
  <dc:creator>Jennifer Budzinski</dc:creator>
  <dc:description/>
  <dc:language>en-US</dc:language>
  <cp:lastModifiedBy>Erich Friedman</cp:lastModifiedBy>
  <dcterms:modified xsi:type="dcterms:W3CDTF">2020-09-04T13:04:29Z</dcterms:modified>
  <cp:revision>322</cp:revision>
  <dc:subject/>
  <dc:title>Slide 1</dc:title>
</cp:coreProperties>
</file>