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B0C8-834B-4DF8-92BE-E09017027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27D8-126C-46C1-BAC5-341DAC3BC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D80A-9C6F-4E8A-9E60-8015D5336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8C9D-DFA6-45D1-AD2A-8167750D2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94AB-3DEB-45D2-929F-E4D459FE5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70B9-1B86-46DF-A004-13FC80775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FA0B-1CE0-44C4-A914-EC7639ADE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0990-8711-4931-862D-2E2EE3912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6810-5287-474E-99F2-4E9C947C4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1B9C-66A6-40AE-BC9F-05A9DDF63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1ED0-BAA5-49AF-AD9F-F47C993CF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A96D-E60C-468D-8BD1-4403BB9FA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40CF-F316-4CCF-B918-78B3AD589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7B3A-2ADE-4A04-B9D2-5C38C21E4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2F5F-0915-49FC-A611-12F572434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B10A-D28E-44EC-A3EE-51E791831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C2DA-797A-4C9B-AD3D-59A61F581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DCC2-DA38-4E8B-894F-022ECC7D7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AB07-4CCA-423B-A259-075D77047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F46E-43A9-4B40-AA8C-4D2796299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B848-7AA8-4C7E-BDF4-8E20ACA59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DDE2-9465-4595-A338-ACDB3142E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6E51-4280-4413-BA80-94C50ED76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UB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390680" y="761760"/>
            <a:ext cx="6362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RULE OF FIGHT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NIS JOPLIN, JIMI HENDRIX, JIM MORRISON, KURT COBAIN, AND AMY WINEHOUSE ARE  ALL IN WHAT "CLUB", NAMED AFTER THE AGE THEY D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52280" y="4876920"/>
            <a:ext cx="883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ON,  LETTUCE,  TOMATO  &amp; 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OUR INGREDIENTS IN A TURKEY CLUB SANDWICH BESIDES TURKEY AND BREA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NIGHTCLUB IN ORLANDO WHERE 49 PEOPLE WERE KILLED IN A MASS SHOOTING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JACK OF CLUBS PLAYING CARD ONE OF THE "ONE-EYED JAC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04840" y="781200"/>
            <a:ext cx="69343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KIND OF ANCIENT CLUB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bulav.jpg"/>
          <p:cNvPicPr/>
          <p:nvPr/>
        </p:nvPicPr>
        <p:blipFill>
          <a:blip r:embed="rId1"/>
          <a:stretch/>
        </p:blipFill>
        <p:spPr>
          <a:xfrm>
            <a:off x="2619360" y="2590920"/>
            <a:ext cx="390528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NUMBER OF GOLF CLUBS A GOLF IS ALLOWED TO CARRY IN A  GOLF BAG?  14, 16, OR 1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 RECORD FOR THE LARGEST NUMBER OF CLUBS JUGGLED AT ONCE?  8, 10, OR 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320" y="762120"/>
            <a:ext cx="89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CLUB MED HAS RESORTS ON EVERY CONTINENT EXCEPT ANTARCT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OUR INGREDIENTS IN A TURKEY CLUB SANDWICH BESIDES TURKEY AND BREA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BON  DI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2228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AS THAT IS DISSOLVED IN CLUB SODA TO MAKE IT CARBO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'T  TALK  ABOUT  FIGHT 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47920" y="762120"/>
            <a:ext cx="6248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RULE OF FIGHT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864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27 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NIS JOPLIN, JIMI HENDRIX, JIM MORRISON, KURT COBAIN, AND AMY WINEHOUSE ARE  ALL IN WHAT "CLUB", NAMED AFTER THE AGE THEY D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NIGHTCLUB IN ORLANDO WHERE 49 PEOPLE WERE KILLED IN A MASS SHOOTING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JACK OF CLUBS PLAYING CARD ONE OF THE "ONE-EYED JAC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KIND OF ANCIENT CLUB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bulav.jpg"/>
          <p:cNvPicPr/>
          <p:nvPr/>
        </p:nvPicPr>
        <p:blipFill>
          <a:blip r:embed="rId1"/>
          <a:stretch/>
        </p:blipFill>
        <p:spPr>
          <a:xfrm>
            <a:off x="2419200" y="2666880"/>
            <a:ext cx="4305600" cy="24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NUMBER OF GOLF CLUBS A GOLFER IS ALLOWED TO CARRY IN A  GOLF BAG?  14, 16, OR 18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 RECORD FOR THE LARGEST NUMBER OF CLUBS JUGGLED AT ONCE?  8, 10, OR 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120" y="76176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CLUB MED HAS RESORTS ON EVERY CONTINENT EXCEPT ANTARCT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AS THAT IS DISSOLVED IN CLUB SODA TO MAKE IT CARBO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5:59:26Z</dcterms:created>
  <dc:creator>Jennifer Budzinski</dc:creator>
  <dc:description/>
  <dc:language>en-US</dc:language>
  <cp:lastModifiedBy>Erich Friedman</cp:lastModifiedBy>
  <dcterms:modified xsi:type="dcterms:W3CDTF">2020-09-04T13:04:29Z</dcterms:modified>
  <cp:revision>322</cp:revision>
  <dc:subject/>
  <dc:title>Slide 1</dc:title>
</cp:coreProperties>
</file>