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E41-59E2-4489-8A06-07A7D2721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7B6-14BC-4C3B-AB63-F1A64623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65FB-D1F6-4A6E-9202-0D52B0D7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F9A-F75C-436C-8615-C764EF5E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5AB3-3490-494B-B0CF-7A6A8496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4F4-9F34-4FB2-B8F3-53B7C379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648-A194-404B-9EAF-0633DE57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2A7-D1C5-4F76-A858-BAC55A23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F8B7-E590-4B67-A265-DD92D229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4786-648D-4D64-AF20-4A12C4D0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35B-B970-4727-9EF8-A80C81DD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58A3-3D30-429A-8357-6D2B3149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543-94E0-43E9-92FA-6CAE1516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E95-3208-45EC-A80E-C4008236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D631-4B81-45B8-8EC9-1A2A5414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0D0D-2846-4C29-B5A9-8B8F0A33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937C-94A2-441A-BADA-95F5F5E1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EDA-4DF8-47B4-8072-1D196E4E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9E9-5F5B-4939-A597-388AF6168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7CC5-9C08-4F70-9CF1-E3EE7944E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A61D-9B5D-4FF2-9214-22256367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8896-3608-4913-8931-0951BE95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3BD2-13A4-4901-A86C-392BACD1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TTO OF "THE NEW YORK TIM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INK FLOYD ALBUM IS THEIR HIT SONG "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SIGNATURE IS USUALLY USED FOR POLK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UNDED?  1913, 1923, OR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LIGHT  ORCH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824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RELEASED    THE THEME ALBUM "TIME", CONSIDERED THEIR MOST INFLUENTIAL ALBUM,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8560" y="76212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MOST POPULAR BRAND OF CIGARETTES CALLED "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N  PARSONS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TIME", WHOSE LYRICS START "TIME, FLOWING LIKE A RIVER, TIME, BECKONING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TIMBER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 / MUSIC PRODUCER STARRED IN THE FILM "ABOUT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24, 31, OR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SIGNATURE IS USUALLY USED FOR POLK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0320"/>
            <a:ext cx="7543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ENTURY WAS THE SYMBOL "×" FIRST USED TO MEAN MULTIPLICATION? 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343400"/>
            <a:ext cx="5600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THE  NEWS  THAT'S  FIT  TO  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TTO OF "THE NEW YORK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SIDE  OF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INK FLOYD ALBUM IS THEIR HIT SONG "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UNDED?  1913, 1923, OR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RELEASED    THE THEME ALBUM "TIME", CONSIDERED THEIR MOST INFLUENTIAL ALBUM,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MOST POPULAR BRAND OF CIGARETTES CALLED "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TIME", WHOSE LYRICS START "TIME, FLOWING LIKE A RIVER, TIME, BECKONING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 / MUSIC PRODUCER STARRED IN THE FILM "ABOUT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24, 31, OR 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ENTURY WAS THE SYMBOL "×" FIRST USED TO MEAN MULTIPLICATION? 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9-05T12:06:47Z</dcterms:modified>
  <cp:revision>335</cp:revision>
  <dc:subject/>
  <dc:title>Slide 1</dc:title>
</cp:coreProperties>
</file>