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2CAE-4215-4F7B-99BA-4598785F3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7C4B-9D22-4428-8D7F-8F6864BA2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1989-EDB3-4114-B341-A50D4255C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6C52-8024-4F03-8FC7-C09F131B2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2F6A-A6A1-4A74-8278-6DCA37E5D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339A-87A2-49E9-B1AC-B7173F7F5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4C5F-101F-45AD-A323-4B42FEC9D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3A63-9806-42D2-98F5-695F28741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F6F3-A385-4595-95B7-8A718910F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8AA7-3804-48E6-8705-33CF314D5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E387-EBFD-454A-91DD-0189E5A6B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00453-ACEC-4CC4-872A-31C21394C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2CEC-D217-4A0B-8204-855DD0F62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F732-F9B1-47F1-9416-639F2A4CB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724E4-EB9F-41E9-A7DA-F2B4FE8BC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4DD51-F445-4FFC-850C-E4CE130A1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826E-B936-4440-AE7F-0CFF80BCC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99D0-7DBC-4F1D-A4DF-4FAA3ED43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AA0E-927B-460B-A587-85D45D608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AEB5-5FB7-461E-B3C8-90E32D5B0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82B3-5399-456E-B240-D1218250B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E68A-A311-4DB3-BFCB-3847260C2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48FB-86FA-4B50-A5DE-657BBA55D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TTO OF "THE NEW YORK TIM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PINK FLOYD ALBUM IS THEIR HIT SONG "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 :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ME SIGNATURE IS USUALLY USED FOR POLK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AS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UNDED?  1913, 1923, OR 193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  LIGHT  ORCHES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87520" y="768240"/>
            <a:ext cx="79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RELEASED    THE THEME ALBUM "TIME", CONSIDERED THEIR MOST INFLUENTIAL ALBUM, IN 19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54600"/>
            <a:ext cx="84582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R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28560" y="76212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IS THE MOST POPULAR BRAND OF CIGARETTES CALLED "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790560" y="4876920"/>
            <a:ext cx="7562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LAN  PARSONS 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HIT SONG "TIME", WHOSE LYRICS START "TIME, FLOWING LIKE A RIVER, TIME, BECKONING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STIN  TIMBER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/ SONGWRITER / MUSIC PRODUCER STARRED IN THE FILM "ABOUT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 ZONES ARE THERE 24, 31, OR 3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ME SIGNATURE IS USUALLY USED FOR POLK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0320"/>
            <a:ext cx="75438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ENTURY WAS THE SYMBOL "×" FIRST USED TO MEAN MULTIPLICATION?  1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71560" y="4343400"/>
            <a:ext cx="5600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THE  NEWS  THAT'S  FIT  TO  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85760" y="762120"/>
            <a:ext cx="6972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TTO OF "THE NEW YORK TIM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K  SIDE  OF  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PINK FLOYD ALBUM IS THEIR HIT SONG "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AS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 MAGAZI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UNDED?  1913, 1923, OR 193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RELEASED    THE THEME ALBUM "TIME", CONSIDERED THEIR MOST INFLUENTIAL ALBUM, IN 19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IS THE MOST POPULAR BRAND OF CIGARETTES CALLED "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HIT SONG "TIME", WHOSE LYRICS START "TIME, FLOWING LIKE A RIVER, TIME, BECKONING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/ SONGWRITER / MUSIC PRODUCER STARRED IN THE FILM "ABOUT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 ZONES ARE THERE 24, 31, OR 3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ENTURY WAS THE SYMBOL "×" FIRST USED TO MEAN MULTIPLICATION?  1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9-05T12:06:47Z</dcterms:modified>
  <cp:revision>335</cp:revision>
  <dc:subject/>
  <dc:title>Slide 1</dc:title>
</cp:coreProperties>
</file>