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F137-981C-479E-876F-38E91569D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988B-FA86-4B9B-A39D-B9421719C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91DA-8E2D-4C83-B27C-602D1CC71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FAC6-58CF-4A13-A06C-BC5700C2A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C270-D345-4337-A893-3A7058E36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3317-8CBA-46A6-AE7F-8F5C97896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AE1D-A566-433E-B189-3692B4F78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43C9-C4B2-4F0D-9FBC-BBF877127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D8B0-69E9-472B-A568-D5624EFFF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3F50-2AC1-4EB4-9EC3-AF5266FFA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F75A-2CFA-4FD0-B602-E06D6B6F8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06F8-D259-44D0-A4F6-D015F92B1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FD53-5E0C-4DB4-8C2B-093FD88DB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2DF6-BBF0-4D2B-8A74-5CDE7132A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2659-1D06-4988-B5A2-304F5BEEE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64D5-DCD6-410C-A6A3-B370E8999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5CBD-BBED-43AD-8D64-75B0111FE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E56B-1615-4073-9B14-26DFE22C5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AF6C-552F-4691-A4F6-D1BBCE370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8C2F-4718-4396-9655-B1E71740B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BE2F-FA52-49EF-9C64-E56D306DC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CE8D-BF30-4173-9510-3B29F3F7E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1B7F-C44C-4F0F-9A2B-47B11F020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LETE THE AD SLOGANS WITH THE PRODUCT NA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EVERY KISS BEGINS WITH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BEST PART OF WAKING UP IS ____ IN YOUR CU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L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, TAKE ME A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IN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EANZ MEANZ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ST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523880" y="762120"/>
            <a:ext cx="609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'RE IN GOOD HANDS WITH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STERC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333440" y="762120"/>
            <a:ext cx="64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RE ARE SOME THINGS MONEY CAN'T BUY.  FOR EVERYTHING ELSE, THERE'S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NK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MERICA RUNS ON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T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TE  FA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IKE A GOOD NEIGHBOR, ____ IS THE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, TAKE ME A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UC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371600" y="762120"/>
            <a:ext cx="6400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ITH A NAME LIKE ____, IT HAS TO BE GOO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90440" y="762120"/>
            <a:ext cx="8763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EVERY KISS BEGINS WITH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L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BEST PART OF WAKING UP IS ____ IN YOUR CU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EANZ MEANZ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714680" y="762120"/>
            <a:ext cx="5715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'RE IN GOOD HANDS WITH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RE ARE SOME THINGS MONEY CAN'T BUY.  FOR EVERYTHING ELSE, THERE'S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2280" y="72396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MERICA RUNS ON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T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IKE A GOOD NEIGHBOR, ____ IS THE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ITH A NAME LIKE ____, IT HAS TO BE GOO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2T18:33:07Z</dcterms:created>
  <dc:creator>Jennifer Budzinski</dc:creator>
  <dc:description/>
  <dc:language>en-US</dc:language>
  <cp:lastModifiedBy>Erich Friedman</cp:lastModifiedBy>
  <dcterms:modified xsi:type="dcterms:W3CDTF">2020-09-05T13:49:29Z</dcterms:modified>
  <cp:revision>343</cp:revision>
  <dc:subject/>
  <dc:title>Slide 1</dc:title>
</cp:coreProperties>
</file>