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1B5F-ED00-42C7-AB57-623E74389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C955-0251-4359-AC83-E21A81836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A4FE-8DA4-4BFB-8763-3D8530D82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87EF-7863-4A27-9EC9-DAA2F0CFD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4596-13B9-48F3-B0A1-B35D030D8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A922-F7C0-43C0-8D48-BE38F9F93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DE32-6A8A-45D5-93CA-40C6DD04D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24D5-B0F3-442E-8769-874EBCD38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EC99-0FEC-4731-BCCC-D7F2C141C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0C9B-9977-476D-935F-58EB9E8F7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2903-4292-454F-8078-1505CF949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B6CF-FAD4-4727-96AE-125C6E131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5F92-43BC-4BFE-8824-54E481EE8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6C23-609B-4F9D-9636-3D2F6C266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1DC0-6E95-4D91-8DC1-3DFD42445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9794-4B1D-4C28-8FBD-7E4ACF7C1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4F9C-6947-4292-9B5A-F58B72952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1374-EDA4-4753-85EF-8E86D709F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02FF-ED55-49D1-B451-EEEC05EAD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6DEF-2A65-41CD-A276-107FF4943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677E-DBE9-4BC5-8794-46A7C8719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D69D-A858-435E-BB04-D6A7C87E8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71CB-D309-4598-B60F-C3CD28AA0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LETE THE AD SLOGANS WITH THE PRODUCT N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VERY KISS BEGINS WITH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BEST PART OF WAKING UP IS ____ IN YOUR C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, TAKE ME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IN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ANZ MEANZ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'RE IN GOOD HANDS WITH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TER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RE ARE SOME THINGS MONEY CAN'T BUY.  FOR EVERYTHING ELSE, THERE'S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N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MERICA RUNS ON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T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  F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KE A GOOD NEIGHBOR, ____ IS TH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, TAKE ME A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U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TH A NAME LIKE ____, IT HAS TO BE G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90440" y="7621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VERY KISS BEGINS WITH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L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BEST PART OF WAKING UP IS ____ IN YOUR C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ANZ MEANZ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714680" y="762120"/>
            <a:ext cx="571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'RE IN GOOD HANDS WITH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RE ARE SOME THINGS MONEY CAN'T BUY.  FOR EVERYTHING ELSE, THERE'S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2396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MERICA RUNS ON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T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KE A GOOD NEIGHBOR, ____ IS THE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TH A NAME LIKE ____, IT HAS TO BE G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8:33:07Z</dcterms:created>
  <dc:creator>Jennifer Budzinski</dc:creator>
  <dc:description/>
  <dc:language>en-US</dc:language>
  <cp:lastModifiedBy>Erich Friedman</cp:lastModifiedBy>
  <dcterms:modified xsi:type="dcterms:W3CDTF">2020-09-05T13:49:29Z</dcterms:modified>
  <cp:revision>343</cp:revision>
  <dc:subject/>
  <dc:title>Slide 1</dc:title>
</cp:coreProperties>
</file>