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7DEC-57EC-4C7E-8F7B-C603EB691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7991-88A6-43D1-9B2C-3F5BB6CF7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EE84-3FA0-4C2F-8C06-70B1157E0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B9D3-1C82-4E2E-99AC-4E9975E6D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3CD5-859D-4D28-8DEC-EE470C0AE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C677-F5E9-4793-8C9B-2C014D374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3C4E-DCCF-4E18-AB3D-9B41E5727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585B-9B11-4FB9-82BE-D6C3B6000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83BF-A220-42CB-B807-14E6440DA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6727-5978-47D4-A43D-641C27D09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1EC1-D3A3-48CF-85FE-6190F4E3C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3814-B137-49D7-8E0A-470F1B5A0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9CC4-71B4-44A7-A22F-44E26FEF6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8643-E7A6-4D27-9BF1-B89A94893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7797-671B-4B35-8A04-199CBF852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73F5-919F-4C1E-B18E-DDEF273C1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2789-9755-4C81-99C3-2273124A6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0D14-7747-4674-BFCC-2FBBEFD74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2C1B-0A60-4768-B70A-D0883C5B0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C4EA-87B0-4DB3-94FE-75A05B26F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50C9-B0E0-4EAE-86C9-951A2228F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0A0F-9E64-4B9F-927F-1314FBF97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BE97-388F-4950-9483-59CDA2DDD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LETE THE AD SLOGANS WITH THE PRODUCT NA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EVERY KISS BEGINS WITH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BEST PART OF WAKING UP IS ____ IN YOUR CU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LG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, TAKE ME A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IN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EANZ MEANZ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ST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523880" y="762120"/>
            <a:ext cx="609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U'RE IN GOOD HANDS WITH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STERC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333440" y="762120"/>
            <a:ext cx="64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RE ARE SOME THINGS MONEY CAN'T BUY.  FOR EVERYTHING ELSE, THERE'S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NK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MERICA RUNS ON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T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TE  FA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IKE A GOOD NEIGHBOR, ____ IS THE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, TAKE ME A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MUCK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371600" y="762120"/>
            <a:ext cx="6400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ITH A NAME LIKE ____, IT HAS TO BE GOO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90440" y="762120"/>
            <a:ext cx="8763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EVERY KISS BEGINS WITH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L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62120" y="762120"/>
            <a:ext cx="76197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BEST PART OF WAKING UP IS ____ IN YOUR CU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EANZ MEANZ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714680" y="762120"/>
            <a:ext cx="5715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U'RE IN GOOD HANDS WITH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RE ARE SOME THINGS MONEY CAN'T BUY.  FOR EVERYTHING ELSE, THERE'S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52280" y="72396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MERICA RUNS ON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T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IKE A GOOD NEIGHBOR, ____ IS THE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ITH A NAME LIKE ____, IT HAS TO BE GOO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2T18:33:07Z</dcterms:created>
  <dc:creator>Jennifer Budzinski</dc:creator>
  <dc:description/>
  <dc:language>en-US</dc:language>
  <cp:lastModifiedBy>Erich Friedman</cp:lastModifiedBy>
  <dcterms:modified xsi:type="dcterms:W3CDTF">2020-09-05T13:49:29Z</dcterms:modified>
  <cp:revision>343</cp:revision>
  <dc:subject/>
  <dc:title>Slide 1</dc:title>
</cp:coreProperties>
</file>