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AF75-9E87-4984-9736-7F7439979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30E6-42FC-42EB-9DD0-15E27509D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47F2-3E88-490F-8ABA-677AC714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4242-5065-4A72-901F-69A9B8080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10A7-90D3-4341-B114-A0A18B9A3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42DE-40A5-408E-A600-C0846579A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4FB7-552B-424D-A4DB-D4541F75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0365-7BFE-41F3-A2D6-A5F2586E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B2CD-BCCB-422C-B23A-963BF375B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A178-8A16-47D3-A6CB-93EC43A9E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B978-722D-40DE-ACB6-DB3CFC31D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BCB8-B773-485D-805D-6D66FB3EE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E5EE-802A-473C-B497-1A433CC17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F880-2C65-4A37-8249-9D05E6828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424A-C7F7-451B-9D3B-CFF9EA4D3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D63F-415E-4A8C-A287-A1849C444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A9B9-7DB1-4AF8-A6DE-17A131D21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DCD2-8FF3-46A0-8F66-1F437F059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1DA-0D9D-474A-8D44-2BF92A9AE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0EB9-7044-40D2-AB38-30F996742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D347-8479-4D14-BBF0-1BEF051F7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6180-29CB-454E-BE2B-D72894365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DF0E-CB2F-4EF5-831E-61EB0E240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PAINTED THESE FAMOUS PAINTI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191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RE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he-scream.jpg"/>
          <p:cNvPicPr/>
          <p:nvPr/>
        </p:nvPicPr>
        <p:blipFill>
          <a:blip r:embed="rId1"/>
          <a:stretch/>
        </p:blipFill>
        <p:spPr>
          <a:xfrm>
            <a:off x="5105520" y="457200"/>
            <a:ext cx="356076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3200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 OF M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son-of-man.jpg"/>
          <p:cNvPicPr/>
          <p:nvPr/>
        </p:nvPicPr>
        <p:blipFill>
          <a:blip r:embed="rId1"/>
          <a:stretch/>
        </p:blipFill>
        <p:spPr>
          <a:xfrm>
            <a:off x="4952880" y="609480"/>
            <a:ext cx="354168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533160" y="990360"/>
            <a:ext cx="4267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A LI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O  DA  VIN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687px-Mona_Lisa,_by_Leonardo_da_Vinci,_from_C2RMF_retouched.jpg"/>
          <p:cNvPicPr/>
          <p:nvPr/>
        </p:nvPicPr>
        <p:blipFill>
          <a:blip r:embed="rId1"/>
          <a:stretch/>
        </p:blipFill>
        <p:spPr>
          <a:xfrm>
            <a:off x="5638680" y="533520"/>
            <a:ext cx="286236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RRY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NCENT  VAN  GO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1280px-Van_Gogh_-_Starry_Night_-_Google_Art_Project.jpg"/>
          <p:cNvPicPr/>
          <p:nvPr/>
        </p:nvPicPr>
        <p:blipFill>
          <a:blip r:embed="rId1"/>
          <a:stretch/>
        </p:blipFill>
        <p:spPr>
          <a:xfrm>
            <a:off x="4191120" y="1066680"/>
            <a:ext cx="4521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228600" y="837720"/>
            <a:ext cx="4114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RL WITH A PEARL EAR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VERME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download.jpg"/>
          <p:cNvPicPr/>
          <p:nvPr/>
        </p:nvPicPr>
        <p:blipFill>
          <a:blip r:embed="rId1"/>
          <a:stretch/>
        </p:blipFill>
        <p:spPr>
          <a:xfrm>
            <a:off x="4800600" y="609480"/>
            <a:ext cx="370044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-76320" y="914040"/>
            <a:ext cx="4267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SISTENCE OF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LVADOR  D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download-1.jpg"/>
          <p:cNvPicPr/>
          <p:nvPr/>
        </p:nvPicPr>
        <p:blipFill>
          <a:blip r:embed="rId1"/>
          <a:stretch/>
        </p:blipFill>
        <p:spPr>
          <a:xfrm>
            <a:off x="4267080" y="838080"/>
            <a:ext cx="4513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04920" y="914040"/>
            <a:ext cx="449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EPING WO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BLO  PICA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rying-woman-1937-1.jpg"/>
          <p:cNvPicPr/>
          <p:nvPr/>
        </p:nvPicPr>
        <p:blipFill>
          <a:blip r:embed="rId1"/>
          <a:stretch/>
        </p:blipFill>
        <p:spPr>
          <a:xfrm>
            <a:off x="5181480" y="609480"/>
            <a:ext cx="327672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EATION OF AD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ELANGE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600px-'Adam's_Creation_Sistine_Chapel_ceiling'_by_Michelangelo_JBU33cut.jpg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04560" y="990360"/>
            <a:ext cx="4190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T  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ownload.jpg"/>
          <p:cNvPicPr/>
          <p:nvPr/>
        </p:nvPicPr>
        <p:blipFill>
          <a:blip r:embed="rId1"/>
          <a:stretch/>
        </p:blipFill>
        <p:spPr>
          <a:xfrm>
            <a:off x="4800600" y="533520"/>
            <a:ext cx="363060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NA LIS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687px-Mona_Lisa,_by_Leonardo_da_Vinci,_from_C2RMF_retouched.jpg"/>
          <p:cNvPicPr/>
          <p:nvPr/>
        </p:nvPicPr>
        <p:blipFill>
          <a:blip r:embed="rId1"/>
          <a:stretch/>
        </p:blipFill>
        <p:spPr>
          <a:xfrm>
            <a:off x="5638680" y="533520"/>
            <a:ext cx="286236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LIL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MO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laude-Monet-Water-Lilies-1916.jpg"/>
          <p:cNvPicPr/>
          <p:nvPr/>
        </p:nvPicPr>
        <p:blipFill>
          <a:blip r:embed="rId1"/>
          <a:stretch/>
        </p:blipFill>
        <p:spPr>
          <a:xfrm>
            <a:off x="4495680" y="609480"/>
            <a:ext cx="4038840" cy="403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11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VARD  M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he-scream.jpg"/>
          <p:cNvPicPr/>
          <p:nvPr/>
        </p:nvPicPr>
        <p:blipFill>
          <a:blip r:embed="rId1"/>
          <a:stretch/>
        </p:blipFill>
        <p:spPr>
          <a:xfrm>
            <a:off x="5105520" y="457200"/>
            <a:ext cx="3560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762120" y="875880"/>
            <a:ext cx="304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ON OF 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E  MAGRI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son-of-man.jpg"/>
          <p:cNvPicPr/>
          <p:nvPr/>
        </p:nvPicPr>
        <p:blipFill>
          <a:blip r:embed="rId1"/>
          <a:stretch/>
        </p:blipFill>
        <p:spPr>
          <a:xfrm>
            <a:off x="4952880" y="609480"/>
            <a:ext cx="3541680" cy="441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3505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ARRY N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1280px-Van_Gogh_-_Starry_Night_-_Google_Art_Project.jpg"/>
          <p:cNvPicPr/>
          <p:nvPr/>
        </p:nvPicPr>
        <p:blipFill>
          <a:blip r:embed="rId1"/>
          <a:stretch/>
        </p:blipFill>
        <p:spPr>
          <a:xfrm>
            <a:off x="4191120" y="1066680"/>
            <a:ext cx="4521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64960" y="99072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IRL WITH A PEARL EARR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download.jpg"/>
          <p:cNvPicPr/>
          <p:nvPr/>
        </p:nvPicPr>
        <p:blipFill>
          <a:blip r:embed="rId1"/>
          <a:stretch/>
        </p:blipFill>
        <p:spPr>
          <a:xfrm>
            <a:off x="4800600" y="609480"/>
            <a:ext cx="37004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0" y="84600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ERSISTENCE OF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download-1.jpg"/>
          <p:cNvPicPr/>
          <p:nvPr/>
        </p:nvPicPr>
        <p:blipFill>
          <a:blip r:embed="rId1"/>
          <a:stretch/>
        </p:blipFill>
        <p:spPr>
          <a:xfrm>
            <a:off x="4267080" y="838080"/>
            <a:ext cx="4513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51920" y="914400"/>
            <a:ext cx="4876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WEEPING WOMA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rying-woman-1937-1.jpg"/>
          <p:cNvPicPr/>
          <p:nvPr/>
        </p:nvPicPr>
        <p:blipFill>
          <a:blip r:embed="rId1"/>
          <a:stretch/>
        </p:blipFill>
        <p:spPr>
          <a:xfrm>
            <a:off x="5181480" y="609480"/>
            <a:ext cx="3276720" cy="413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REATION OF ADAM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600px-'Adam's_Creation_Sistine_Chapel_ceiling'_by_Michelangelo_JBU33cut.jpg"/>
          <p:cNvPicPr/>
          <p:nvPr/>
        </p:nvPicPr>
        <p:blipFill>
          <a:blip r:embed="rId1"/>
          <a:stretch/>
        </p:blipFill>
        <p:spPr>
          <a:xfrm>
            <a:off x="990720" y="1752480"/>
            <a:ext cx="7086600" cy="31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3962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MERICAN GOTHI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wnload.jpg"/>
          <p:cNvPicPr/>
          <p:nvPr/>
        </p:nvPicPr>
        <p:blipFill>
          <a:blip r:embed="rId1"/>
          <a:stretch/>
        </p:blipFill>
        <p:spPr>
          <a:xfrm>
            <a:off x="4800600" y="533520"/>
            <a:ext cx="3630600" cy="44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358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TER LILI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laude-Monet-Water-Lilies-1916.jpg"/>
          <p:cNvPicPr/>
          <p:nvPr/>
        </p:nvPicPr>
        <p:blipFill>
          <a:blip r:embed="rId1"/>
          <a:stretch/>
        </p:blipFill>
        <p:spPr>
          <a:xfrm>
            <a:off x="4495680" y="609480"/>
            <a:ext cx="4038840" cy="403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20:01:31Z</dcterms:created>
  <dc:creator>Jennifer Budzinski</dc:creator>
  <dc:description/>
  <dc:language>en-US</dc:language>
  <cp:lastModifiedBy>Erich Friedman</cp:lastModifiedBy>
  <dcterms:modified xsi:type="dcterms:W3CDTF">2020-09-05T13:51:32Z</dcterms:modified>
  <cp:revision>277</cp:revision>
  <dc:subject/>
  <dc:title>Slide 1</dc:title>
</cp:coreProperties>
</file>