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4C0-98E0-4D60-A63F-7ECFE842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755D-8FBA-4409-BAAD-44079667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4014-F8A7-42F3-92D1-24E46308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88A-4747-4ED9-9D6F-1B9E4DE0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3CF5-5E20-412B-B3B5-CDF12DFF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E4D1-A108-4F12-A3F0-FE30D642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5D1-DF18-4D9F-8A5C-E9BDD0EE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323-A824-4DD4-A1CE-51D39BF3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1C8-D0B3-4C60-9542-8B3D7169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2E3-772E-4C7D-9740-2696CB2E9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721-5C07-4C4D-AE2E-38E75BB6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FC91-6628-4087-A80F-883F7D99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E831-A27E-4D6F-8D8A-BBC2EE1C3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8E6-616F-47E2-AAE7-7F0E28B0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360-4F8C-4D1F-8B3A-04FA9EE82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1B89-2A06-4281-B42B-B895650F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A0E-23C4-4508-BFC3-5F8A5A41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A91-5CF3-4786-AA24-7F0DA67F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44A-0E79-40C8-BDC4-EE62AA50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DA68-A0C9-4BEC-8E59-8CD77F0E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E522-A673-4C1A-9A3D-8046F89E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606C-9D3B-45AB-85F7-4697F769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E47-F5D3-4565-AF35-C522E8BF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9903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IS THE CIA AND WHICH IS THE FB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50292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CIA.jpg"/>
          <p:cNvPicPr/>
          <p:nvPr/>
        </p:nvPicPr>
        <p:blipFill>
          <a:blip r:embed="rId1"/>
          <a:stretch/>
        </p:blipFill>
        <p:spPr>
          <a:xfrm>
            <a:off x="18288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FBI.jpg"/>
          <p:cNvPicPr/>
          <p:nvPr/>
        </p:nvPicPr>
        <p:blipFill>
          <a:blip r:embed="rId2"/>
          <a:stretch/>
        </p:blipFill>
        <p:spPr>
          <a:xfrm>
            <a:off x="4876920" y="2514600"/>
            <a:ext cx="23652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Fbi_headquarters.jpg"/>
          <p:cNvPicPr/>
          <p:nvPr/>
        </p:nvPicPr>
        <p:blipFill>
          <a:blip r:embed="rId1"/>
          <a:stretch/>
        </p:blipFill>
        <p:spPr>
          <a:xfrm>
            <a:off x="914400" y="251460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CIA.jpg"/>
          <p:cNvPicPr/>
          <p:nvPr/>
        </p:nvPicPr>
        <p:blipFill>
          <a:blip r:embed="rId2"/>
          <a:stretch/>
        </p:blipFill>
        <p:spPr>
          <a:xfrm>
            <a:off x="4724280" y="2514600"/>
            <a:ext cx="36529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R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IA.jpg"/>
          <p:cNvPicPr/>
          <p:nvPr/>
        </p:nvPicPr>
        <p:blipFill>
          <a:blip r:embed="rId1"/>
          <a:stretch/>
        </p:blipFill>
        <p:spPr>
          <a:xfrm>
            <a:off x="1828800" y="264780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FBI.jpg"/>
          <p:cNvPicPr/>
          <p:nvPr/>
        </p:nvPicPr>
        <p:blipFill>
          <a:blip r:embed="rId2"/>
          <a:stretch/>
        </p:blipFill>
        <p:spPr>
          <a:xfrm>
            <a:off x="4876920" y="2666880"/>
            <a:ext cx="23652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99072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,  TAMPA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Fbi_headquarters.jpg"/>
          <p:cNvPicPr/>
          <p:nvPr/>
        </p:nvPicPr>
        <p:blipFill>
          <a:blip r:embed="rId1"/>
          <a:stretch/>
        </p:blipFill>
        <p:spPr>
          <a:xfrm>
            <a:off x="933480" y="264636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CCIA.jpg"/>
          <p:cNvPicPr/>
          <p:nvPr/>
        </p:nvPicPr>
        <p:blipFill>
          <a:blip r:embed="rId2"/>
          <a:stretch/>
        </p:blipFill>
        <p:spPr>
          <a:xfrm>
            <a:off x="4740120" y="2666880"/>
            <a:ext cx="36529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8:30:57Z</dcterms:created>
  <dc:creator>Jennifer Budzinski</dc:creator>
  <dc:description/>
  <dc:language>en-US</dc:language>
  <cp:lastModifiedBy>Erich Friedman</cp:lastModifiedBy>
  <dcterms:modified xsi:type="dcterms:W3CDTF">2020-09-05T13:56:19Z</dcterms:modified>
  <cp:revision>369</cp:revision>
  <dc:subject/>
  <dc:title>Slide 1</dc:title>
</cp:coreProperties>
</file>