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098DC-670F-4CED-A4BC-FD02E5C5B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7CBA0-BA5D-437F-8D20-C5EA2B16F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AD295-1443-40C6-A99F-BFB259017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290A1-965B-49DE-B982-10E46D3A0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3700B-7765-49CF-90DB-C3BCB1A66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7471F-3300-4098-B522-29CEC3F26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0032E-28A6-40A2-B76A-115408789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A6D6C-4F3F-471E-AB09-AFF19F94C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DA1EC-184D-4BD1-8F8A-5212E6BB0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90C55-53D0-4B30-8577-065988AF1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6FC58-2E2D-41CD-8209-8D7552A9D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945F8-27B9-430C-B3CF-55DD084A4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3D3D5-14E5-4EFD-8819-3FFC88B85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4B525-6B16-4C41-AF92-C1DF9AEC9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AA0F0-C288-4D3D-891F-FC7F17AF0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9887F-5679-4E22-B1C0-CC7A60D8E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8ABBB-7713-4B5C-8960-6970549D3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C2553-F335-48E4-A34E-2CFA44625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6701B-431B-4B51-9EF2-C8FB13F81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67F52-A7DC-4F44-B37A-BE6E93EAC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C7794-7B0F-4D29-AE80-EF76F443F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3B993-8A9A-4EB8-A999-668B121DE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EEF86-1A04-404F-BA4C-526C2135B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57120" y="99036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ICH IS THE CIA AND WHICH IS THE FBI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AGENCY REQUIRES LONGER TRAINING OF ALL EMPLOYEES, THE CIA OR FBI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2"/>
          <p:cNvSpPr/>
          <p:nvPr/>
        </p:nvSpPr>
        <p:spPr>
          <a:xfrm>
            <a:off x="685800" y="76212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ST STATES HAVE ONE FBI FIELD OFFICE, BUT FLORIDA HAS THREE.  IN WHAT CITIES ARE THEY LOC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990720" y="502920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NE  ON  THE  LE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3"/>
          <p:cNvSpPr/>
          <p:nvPr/>
        </p:nvSpPr>
        <p:spPr>
          <a:xfrm>
            <a:off x="914400" y="762120"/>
            <a:ext cx="73152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SE SEALS BELONGS TO THE C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3" descr="CIA.jpg"/>
          <p:cNvPicPr/>
          <p:nvPr/>
        </p:nvPicPr>
        <p:blipFill>
          <a:blip r:embed="rId1"/>
          <a:stretch/>
        </p:blipFill>
        <p:spPr>
          <a:xfrm>
            <a:off x="1828800" y="251460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4" descr="FBI.jpg"/>
          <p:cNvPicPr/>
          <p:nvPr/>
        </p:nvPicPr>
        <p:blipFill>
          <a:blip r:embed="rId2"/>
          <a:stretch/>
        </p:blipFill>
        <p:spPr>
          <a:xfrm>
            <a:off x="4876920" y="2514600"/>
            <a:ext cx="23652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NE  ON  THE  LE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SE BUILDINGS IS THE FBI HEADQUART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3" descr="Fbi_headquarters.jpg"/>
          <p:cNvPicPr/>
          <p:nvPr/>
        </p:nvPicPr>
        <p:blipFill>
          <a:blip r:embed="rId1"/>
          <a:stretch/>
        </p:blipFill>
        <p:spPr>
          <a:xfrm>
            <a:off x="914400" y="2514600"/>
            <a:ext cx="3406680" cy="243828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CCIA.jpg"/>
          <p:cNvPicPr/>
          <p:nvPr/>
        </p:nvPicPr>
        <p:blipFill>
          <a:blip r:embed="rId2"/>
          <a:stretch/>
        </p:blipFill>
        <p:spPr>
          <a:xfrm>
            <a:off x="4724280" y="2514600"/>
            <a:ext cx="365292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81160" y="4876920"/>
            <a:ext cx="6781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4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486080" y="762120"/>
            <a:ext cx="6172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S THE CIA FORMED IN 1908 OR 194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43080" y="487692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066680" y="762120"/>
            <a:ext cx="7010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HAS A HIGHER BUDGET, THE CIA OR FB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TOPHER  WRA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76240" y="762120"/>
            <a:ext cx="7391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CHRISTOPHER WRAY AND GINA HASPEL, WHICH ONE HEADS THE FB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181160" y="4876920"/>
            <a:ext cx="6781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EDE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85800" y="76212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 3 WORDS "FEDERAL", "BUREAU", OR "INVESTIGATION" WAS MISSING FROM THE ORIGINAL NAME OF THE FB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52280" y="4876920"/>
            <a:ext cx="8839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TELLIG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647640" y="762120"/>
            <a:ext cx="7848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 3 WORDS "CENTRAL", "INTELLIGENCE", OR "AGENCY" WAS IN THE ORIGINAL NAME OF THE C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SE SEALS BELONGS TO THE C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CIA.jpg"/>
          <p:cNvPicPr/>
          <p:nvPr/>
        </p:nvPicPr>
        <p:blipFill>
          <a:blip r:embed="rId1"/>
          <a:stretch/>
        </p:blipFill>
        <p:spPr>
          <a:xfrm>
            <a:off x="1828800" y="2647800"/>
            <a:ext cx="2438280" cy="243864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3" descr="FBI.jpg"/>
          <p:cNvPicPr/>
          <p:nvPr/>
        </p:nvPicPr>
        <p:blipFill>
          <a:blip r:embed="rId2"/>
          <a:stretch/>
        </p:blipFill>
        <p:spPr>
          <a:xfrm>
            <a:off x="4876920" y="2666880"/>
            <a:ext cx="236520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3"/>
          <p:cNvSpPr/>
          <p:nvPr/>
        </p:nvSpPr>
        <p:spPr>
          <a:xfrm>
            <a:off x="1066680" y="4876920"/>
            <a:ext cx="701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B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"/>
          <p:cNvSpPr/>
          <p:nvPr/>
        </p:nvSpPr>
        <p:spPr>
          <a:xfrm>
            <a:off x="1143000" y="762120"/>
            <a:ext cx="6858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EMPLOYEE IS MORE LIKELY TO DIE ON THE JOB, CIA OR FB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3"/>
          <p:cNvSpPr/>
          <p:nvPr/>
        </p:nvSpPr>
        <p:spPr>
          <a:xfrm>
            <a:off x="990720" y="4876920"/>
            <a:ext cx="7086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2"/>
          <p:cNvSpPr/>
          <p:nvPr/>
        </p:nvSpPr>
        <p:spPr>
          <a:xfrm>
            <a:off x="495360" y="762120"/>
            <a:ext cx="81532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AGENCY REQUIRES LONGER TRAINING OF ALL EMPLOYEES, THE CIA OR FB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AMI,  TAMPA  &amp;  JACKSONVIL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2"/>
          <p:cNvSpPr/>
          <p:nvPr/>
        </p:nvSpPr>
        <p:spPr>
          <a:xfrm>
            <a:off x="685800" y="76212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ST STATES HAVE ONE FBI FIELD OFFICE, BUT FLORIDA HAS THREE.  IN WHAT CITIES ARE THEY LOC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SE BUILDINGS IS THE FBI HEADQUART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6" name="Picture 2" descr="Fbi_headquarters.jpg"/>
          <p:cNvPicPr/>
          <p:nvPr/>
        </p:nvPicPr>
        <p:blipFill>
          <a:blip r:embed="rId1"/>
          <a:stretch/>
        </p:blipFill>
        <p:spPr>
          <a:xfrm>
            <a:off x="933480" y="2646360"/>
            <a:ext cx="3406680" cy="243828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3" descr="CCIA.jpg"/>
          <p:cNvPicPr/>
          <p:nvPr/>
        </p:nvPicPr>
        <p:blipFill>
          <a:blip r:embed="rId2"/>
          <a:stretch/>
        </p:blipFill>
        <p:spPr>
          <a:xfrm>
            <a:off x="4740120" y="2666880"/>
            <a:ext cx="365292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1409760" y="762120"/>
            <a:ext cx="63244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S THE CIA FORMED IN 1908 OR 194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HAS A HIGHER BUDGET, THE CIA OR FB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CHRISTOPHER WRAY AND GINA HASPEL, WHICH ONE HEADS THE FB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 3 WORDS "FEDERAL", "BUREAU", OR "INVESTIGATION" WAS MISSING FROM THE ORIGINAL NAME OF THE FB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 3 WORDS "CENTRAL", "INTELLIGENCE", OR "AGENCY" WAS IN THE ORIGINAL NAME OF THE C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EMPLOYEE IS MORE LIKELY TO DIE ON THE JOB, CIA OR FB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31T18:30:57Z</dcterms:created>
  <dc:creator>Jennifer Budzinski</dc:creator>
  <dc:description/>
  <dc:language>en-US</dc:language>
  <cp:lastModifiedBy>Erich Friedman</cp:lastModifiedBy>
  <dcterms:modified xsi:type="dcterms:W3CDTF">2020-09-05T13:56:19Z</dcterms:modified>
  <cp:revision>369</cp:revision>
  <dc:subject/>
  <dc:title>Slide 1</dc:title>
</cp:coreProperties>
</file>