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48FE-9EB6-40A5-8262-BF841AABB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CEAB-08F4-4755-B1EC-85A5C5FDB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486FC-9AAC-4236-84AF-035FF761B2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1333-100F-43E6-9A57-AC130AD19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D9C89-B10F-467D-92C7-1D5DBBCBC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1260-4CC4-4163-8200-0CDF2B2BF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BF3A8-138D-4565-BB5B-FA7119E31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278A-F057-4F76-8CC5-2F3E9043D9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F537-6F7C-41EF-B0D3-042796C3C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BE5E-20BF-4CBD-B8C8-852D8DCD1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4575-9FBA-4F49-8EA6-31558F836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CFCEB-BFE6-48C2-A900-5BC3A7410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6CAB8-F3CF-4C5E-98B5-7F723C21C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F6B7-6DA6-49CB-ADCD-46091C8487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62BFA-C732-4844-A866-5267A36F3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88EF-2BCB-49BB-B20F-0E40CCD60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E6DCC-A2A1-4F9C-8127-F14A62E9D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F152-029F-4725-8084-83AAC20C0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9E438-4779-4251-B910-C90E670B39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B985-A9F7-4934-BC0B-5AE44515E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EEAE-E65E-455D-A07F-8B19F09B2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8D19-1707-4A16-8FFE-4E69CE7E8E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CACE-02F1-4F0B-BC0F-178A3F3A8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257120" y="990360"/>
            <a:ext cx="6629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ICH IS THE CIA AND WHICH IS THE FB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GENCY REQUIRES LONGER TRAINING OF ALL EMPLOYEES, THE CIA OR FBI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STATES HAVE ONE FBI FIELD OFFICE, BUT FLORIDA HAS THREE.  IN WHAT CITIES ARE THEY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990720" y="5029200"/>
            <a:ext cx="7162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ON  THE  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3"/>
          <p:cNvSpPr/>
          <p:nvPr/>
        </p:nvSpPr>
        <p:spPr>
          <a:xfrm>
            <a:off x="914400" y="762120"/>
            <a:ext cx="73152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SEALS BELONGS TO THE C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Picture 3" descr="CIA.jpg"/>
          <p:cNvPicPr/>
          <p:nvPr/>
        </p:nvPicPr>
        <p:blipFill>
          <a:blip r:embed="rId1"/>
          <a:stretch/>
        </p:blipFill>
        <p:spPr>
          <a:xfrm>
            <a:off x="1828800" y="251460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" descr="FBI.jpg"/>
          <p:cNvPicPr/>
          <p:nvPr/>
        </p:nvPicPr>
        <p:blipFill>
          <a:blip r:embed="rId2"/>
          <a:stretch/>
        </p:blipFill>
        <p:spPr>
          <a:xfrm>
            <a:off x="4876920" y="2514600"/>
            <a:ext cx="23652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  ON  THE  LEF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BUILDINGS IS THE FBI HEADQUART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3" descr="Fbi_headquarters.jpg"/>
          <p:cNvPicPr/>
          <p:nvPr/>
        </p:nvPicPr>
        <p:blipFill>
          <a:blip r:embed="rId1"/>
          <a:stretch/>
        </p:blipFill>
        <p:spPr>
          <a:xfrm>
            <a:off x="914400" y="2514600"/>
            <a:ext cx="3406680" cy="2438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" descr="CCIA.jpg"/>
          <p:cNvPicPr/>
          <p:nvPr/>
        </p:nvPicPr>
        <p:blipFill>
          <a:blip r:embed="rId2"/>
          <a:stretch/>
        </p:blipFill>
        <p:spPr>
          <a:xfrm>
            <a:off x="4724280" y="2514600"/>
            <a:ext cx="365292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81160" y="4876920"/>
            <a:ext cx="6781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94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486080" y="762120"/>
            <a:ext cx="61722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THE CIA FORMED IN 1908 OR 194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343080" y="487692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HIGHER BUDGET, THE CIA OR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990720" y="4876920"/>
            <a:ext cx="7162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8000"/>
          </a:bodyPr>
          <a:p>
            <a:pPr marL="198720" indent="-198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WR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98720" indent="-198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876240" y="762120"/>
            <a:ext cx="73915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CHRISTOPHER WRAY AND GINA HASPEL, WHICH ONE HEADS THE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1181160" y="4876920"/>
            <a:ext cx="6781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EDE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3 WORDS "FEDERAL", "BUREAU", OR "INVESTIGATION" WAS MISSING FROM THE ORIGINAL NAME OF THE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152280" y="4876920"/>
            <a:ext cx="8839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INTELLIG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47640" y="762120"/>
            <a:ext cx="78487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3 WORDS "CENTRAL", "INTELLIGENCE", OR "AGENCY" WAS IN THE ORIGINAL NAME OF THE CI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SEALS BELONGS TO THE C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CIA.jpg"/>
          <p:cNvPicPr/>
          <p:nvPr/>
        </p:nvPicPr>
        <p:blipFill>
          <a:blip r:embed="rId1"/>
          <a:stretch/>
        </p:blipFill>
        <p:spPr>
          <a:xfrm>
            <a:off x="1828800" y="2647800"/>
            <a:ext cx="2438280" cy="243864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FBI.jpg"/>
          <p:cNvPicPr/>
          <p:nvPr/>
        </p:nvPicPr>
        <p:blipFill>
          <a:blip r:embed="rId2"/>
          <a:stretch/>
        </p:blipFill>
        <p:spPr>
          <a:xfrm>
            <a:off x="4876920" y="2666880"/>
            <a:ext cx="236520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3"/>
          <p:cNvSpPr/>
          <p:nvPr/>
        </p:nvSpPr>
        <p:spPr>
          <a:xfrm>
            <a:off x="1066680" y="4876920"/>
            <a:ext cx="701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B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2"/>
          <p:cNvSpPr/>
          <p:nvPr/>
        </p:nvSpPr>
        <p:spPr>
          <a:xfrm>
            <a:off x="1143000" y="762120"/>
            <a:ext cx="6858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EMPLOYEE IS MORE LIKELY TO DIE ON THE JOB, CIA OR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990720" y="487692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2"/>
          <p:cNvSpPr/>
          <p:nvPr/>
        </p:nvSpPr>
        <p:spPr>
          <a:xfrm>
            <a:off x="495360" y="762120"/>
            <a:ext cx="81532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AGENCY REQUIRES LONGER TRAINING OF ALL EMPLOYEES, THE CIA OR FBI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AMI,  TAMPA  &amp;  JACKSONVI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OST STATES HAVE ONE FBI FIELD OFFICE, BUT FLORIDA HAS THREE.  IN WHAT CITIES ARE THEY LOCAT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SE BUILDINGS IS THE FBI HEADQUART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6" name="Picture 2" descr="Fbi_headquarters.jpg"/>
          <p:cNvPicPr/>
          <p:nvPr/>
        </p:nvPicPr>
        <p:blipFill>
          <a:blip r:embed="rId1"/>
          <a:stretch/>
        </p:blipFill>
        <p:spPr>
          <a:xfrm>
            <a:off x="933480" y="2646360"/>
            <a:ext cx="3406680" cy="243828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3" descr="CCIA.jpg"/>
          <p:cNvPicPr/>
          <p:nvPr/>
        </p:nvPicPr>
        <p:blipFill>
          <a:blip r:embed="rId2"/>
          <a:stretch/>
        </p:blipFill>
        <p:spPr>
          <a:xfrm>
            <a:off x="4740120" y="2666880"/>
            <a:ext cx="3652920" cy="243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2"/>
          <p:cNvSpPr/>
          <p:nvPr/>
        </p:nvSpPr>
        <p:spPr>
          <a:xfrm>
            <a:off x="1409760" y="762120"/>
            <a:ext cx="63244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AS THE CIA FORMED IN 1908 OR 1947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HAS A HIGHER BUDGET, THE CIA OR FB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F CHRISTOPHER WRAY AND GINA HASPEL, WHICH ONE HEADS THE FB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3 WORDS "FEDERAL", "BUREAU", OR "INVESTIGATION" WAS MISSING FROM THE ORIGINAL NAME OF THE FB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3 WORDS "CENTRAL", "INTELLIGENCE", OR "AGENCY" WAS IN THE ORIGINAL NAME OF THE CI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EMPLOYEE IS MORE LIKELY TO DIE ON THE JOB, CIA OR FBI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31T18:30:57Z</dcterms:created>
  <dc:creator>Jennifer Budzinski</dc:creator>
  <dc:description/>
  <dc:language>en-US</dc:language>
  <cp:lastModifiedBy>Erich Friedman</cp:lastModifiedBy>
  <dcterms:modified xsi:type="dcterms:W3CDTF">2020-09-05T13:56:19Z</dcterms:modified>
  <cp:revision>369</cp:revision>
  <dc:subject/>
  <dc:title>Slide 1</dc:title>
</cp:coreProperties>
</file>