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A9A7-7D57-486A-AE56-4FCEFBE9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037-7C50-4219-BCFE-9FF5143A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623-771B-4BD1-99F2-E707CEB5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B86-5C80-4501-896B-141D084B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9C6D-B4B4-4682-A9C2-3BBF7E8F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D86-70C9-449C-9F8A-0F777C8E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1E3-9D32-48AA-B0D9-F8924544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08E-66F0-409B-81DC-B0EDEE07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84DE-DE2D-45B6-99AC-24EDBF1C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8FE-42BA-453D-84D1-6E7B3456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8CF-81B8-4B0E-B8BA-CE24A3EB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019C-748E-4FED-9873-965EDEA9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D207-D2D7-4F49-9E45-31259164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1A57-D070-4FEE-8362-C9369C17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2EE-CD11-4CFD-9F3C-A50E9F1F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E27-58C9-471E-99F5-15F4E4F20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E8A2-D314-419F-8B98-4BC02C1D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5056-99BF-4374-A21F-AA00D350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8A30-A4F1-420A-99D1-A32EE1ED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171-7E2B-4B2B-BCC3-2B10BECD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289-BCEF-4CBE-904C-551BD374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6DB-EF80-436D-814E-F6C2ABC0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5E92-BDD8-4AFD-8F45-A1DD09E6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8640" y="1447560"/>
            <a:ext cx="588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AR MODEL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ORV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TIAC  FIRE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  SCIRO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SUN  240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datsun240z1.jpg"/>
          <p:cNvPicPr/>
          <p:nvPr/>
        </p:nvPicPr>
        <p:blipFill>
          <a:blip r:embed="rId1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datsun240z2.jpg"/>
          <p:cNvPicPr/>
          <p:nvPr/>
        </p:nvPicPr>
        <p:blipFill>
          <a:blip r:embed="rId2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  BARRA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OEN  DEUXCHEV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618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  CE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toyotacelica1.jpg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toyotacelica2.jpg"/>
          <p:cNvPicPr/>
          <p:nvPr/>
        </p:nvPicPr>
        <p:blipFill>
          <a:blip r:embed="rId2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MUS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IMP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  CH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datsun240z2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datsun240z1.jpg"/>
          <p:cNvPicPr/>
          <p:nvPr/>
        </p:nvPicPr>
        <p:blipFill>
          <a:blip r:embed="rId2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toyotacelica2.jpg"/>
          <p:cNvPicPr/>
          <p:nvPr/>
        </p:nvPicPr>
        <p:blipFill>
          <a:blip r:embed="rId1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toyotacelica1.jpg"/>
          <p:cNvPicPr/>
          <p:nvPr/>
        </p:nvPicPr>
        <p:blipFill>
          <a:blip r:embed="rId2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0:14:37Z</dcterms:created>
  <dc:creator>Jennifer Budzinski</dc:creator>
  <dc:description/>
  <dc:language>en-US</dc:language>
  <cp:lastModifiedBy>Erich Friedman</cp:lastModifiedBy>
  <dcterms:modified xsi:type="dcterms:W3CDTF">2020-09-05T14:04:00Z</dcterms:modified>
  <cp:revision>290</cp:revision>
  <dc:subject/>
  <dc:title>Slide 1</dc:title>
</cp:coreProperties>
</file>