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7FF2-DB11-4ABC-96C0-13F87A41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97B5-B2E5-478D-9469-CF46C6A8B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4947-7F16-4618-BBCC-68A2D9C14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38AC-E492-40A9-93BA-44EDFC647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857B-6FEF-47A4-8A85-5D336E519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A4D7-9A63-46D5-8BE5-41699AB11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166B-7C90-4E00-B312-2E42A94CA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E89-B55D-4601-A49D-78CDD284A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C3F-BA4B-49D0-B795-383F8CD25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36E0-A18C-4121-BA4A-57AAFF688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00BB-B2B3-44E6-8543-18D9602CB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DD4E-305A-401C-A9A8-D105DAF66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477A-1D2C-4638-9380-3F77A3C63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6E17-0DF8-4E51-BAFF-9948CB48B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57A5-FF1E-48F6-A3C5-95082C57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A2A94-A913-42B3-BA5C-52B322158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1238-E959-4137-9DB2-551DA4F81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761E-FB59-4F76-BB9A-63D9B0B8F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F8D2-27D1-4869-9088-E23D4AC03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6AAB-C463-4FE2-B64A-25822B1BC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7DB1-3999-4E30-9117-8414FC1787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EF91-57EF-4A94-8960-5A116843B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986B1-0D3E-4AE4-BD1F-F20F2CF5F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SE DR. SEUSS CHARAC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3" descr="hqdefault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2832120" y="1347840"/>
            <a:ext cx="347976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OR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58739158f3a71010b5e8ef64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4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I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The_Happy_Grinch.png"/>
          <p:cNvPicPr/>
          <p:nvPr/>
        </p:nvPicPr>
        <p:blipFill>
          <a:blip r:embed="rId1"/>
          <a:stretch/>
        </p:blipFill>
        <p:spPr>
          <a:xfrm>
            <a:off x="3200400" y="1295280"/>
            <a:ext cx="26859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–I–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Sam-I-Am_1.gif"/>
          <p:cNvPicPr/>
          <p:nvPr/>
        </p:nvPicPr>
        <p:blipFill>
          <a:blip r:embed="rId1"/>
          <a:stretch/>
        </p:blipFill>
        <p:spPr>
          <a:xfrm>
            <a:off x="3429000" y="1295280"/>
            <a:ext cx="227340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  IN  THE  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Cat_in_hat_character1.jpg"/>
          <p:cNvPicPr/>
          <p:nvPr/>
        </p:nvPicPr>
        <p:blipFill>
          <a:blip r:embed="rId1"/>
          <a:stretch/>
        </p:blipFill>
        <p:spPr>
          <a:xfrm>
            <a:off x="3429000" y="1295280"/>
            <a:ext cx="21621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Horto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100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072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EETC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he-Sneetches.jpg"/>
          <p:cNvPicPr/>
          <p:nvPr/>
        </p:nvPicPr>
        <p:blipFill>
          <a:blip r:embed="rId1"/>
          <a:stretch/>
        </p:blipFill>
        <p:spPr>
          <a:xfrm>
            <a:off x="3276720" y="1343160"/>
            <a:ext cx="2543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  1  &amp;  THING 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ing1-and-thing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58739158f3a71010b5e8ef64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4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Pop_the_bear.png"/>
          <p:cNvPicPr/>
          <p:nvPr/>
        </p:nvPicPr>
        <p:blipFill>
          <a:blip r:embed="rId1"/>
          <a:stretch/>
        </p:blipFill>
        <p:spPr>
          <a:xfrm>
            <a:off x="1981080" y="1295280"/>
            <a:ext cx="518796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RTLE  THE  TUR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hqdefault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  IN  S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2832120" y="1347840"/>
            <a:ext cx="347976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The_Happy_Grinch.png"/>
          <p:cNvPicPr/>
          <p:nvPr/>
        </p:nvPicPr>
        <p:blipFill>
          <a:blip r:embed="rId1"/>
          <a:stretch/>
        </p:blipFill>
        <p:spPr>
          <a:xfrm>
            <a:off x="3200400" y="1295280"/>
            <a:ext cx="26859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Sam-I-Am_1.gif"/>
          <p:cNvPicPr/>
          <p:nvPr/>
        </p:nvPicPr>
        <p:blipFill>
          <a:blip r:embed="rId1"/>
          <a:stretch/>
        </p:blipFill>
        <p:spPr>
          <a:xfrm>
            <a:off x="3429000" y="1295280"/>
            <a:ext cx="227340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Cat_in_hat_character1.jpg"/>
          <p:cNvPicPr/>
          <p:nvPr/>
        </p:nvPicPr>
        <p:blipFill>
          <a:blip r:embed="rId1"/>
          <a:stretch/>
        </p:blipFill>
        <p:spPr>
          <a:xfrm>
            <a:off x="3429000" y="1295280"/>
            <a:ext cx="21621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Horton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100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he-Sneetches.jpg"/>
          <p:cNvPicPr/>
          <p:nvPr/>
        </p:nvPicPr>
        <p:blipFill>
          <a:blip r:embed="rId1"/>
          <a:stretch/>
        </p:blipFill>
        <p:spPr>
          <a:xfrm>
            <a:off x="3200400" y="1295280"/>
            <a:ext cx="25970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ing1-and-thing2.jpg"/>
          <p:cNvPicPr/>
          <p:nvPr/>
        </p:nvPicPr>
        <p:blipFill>
          <a:blip r:embed="rId1"/>
          <a:stretch/>
        </p:blipFill>
        <p:spPr>
          <a:xfrm>
            <a:off x="274320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Pop_the_bear.png"/>
          <p:cNvPicPr/>
          <p:nvPr/>
        </p:nvPicPr>
        <p:blipFill>
          <a:blip r:embed="rId1"/>
          <a:stretch/>
        </p:blipFill>
        <p:spPr>
          <a:xfrm>
            <a:off x="1981080" y="1295280"/>
            <a:ext cx="51879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23:04:17Z</dcterms:created>
  <dc:creator>Jennifer Budzinski</dc:creator>
  <dc:description/>
  <dc:language>en-US</dc:language>
  <cp:lastModifiedBy>Erich Friedman</cp:lastModifiedBy>
  <dcterms:modified xsi:type="dcterms:W3CDTF">2020-09-05T14:04:26Z</dcterms:modified>
  <cp:revision>292</cp:revision>
  <dc:subject/>
  <dc:title>Slide 1</dc:title>
</cp:coreProperties>
</file>