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8CB3-7797-4C07-9464-B5AABC9D2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203A-C8EA-4615-B17A-6B9AA6D81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EB69-043A-4E82-9D91-5268A3A8E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3E73-32E2-43EF-8629-2F470BEF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CC88-43EB-4595-86FF-DFE5A5516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9726-ECFD-4FE2-93F7-6A6662814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AA14-38CA-483D-9556-4F03B613F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DFCB-6FD1-4D29-91F4-5739FD4D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0B22-F5C9-4728-93B6-035D66504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B738-9EC8-4B5B-A801-9C5BA0821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CAF1-3504-4C31-A2DA-60E996D8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9345-818B-4EF4-A5B8-0B57FF772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2D68-E5FF-4752-A0BF-FAC88438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EDAC-2AB9-40DF-9FAC-5DA42A35A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3841-DF05-4957-B7FB-73070AE42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544C-D51D-403E-A7E9-D60193DF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B883-E47F-4097-8AD4-9BDFFBB6F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3AA2-7AB5-4019-8ACE-C8A3A5494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550E-159C-435B-A8FF-3D47E2840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F337-EE62-44BC-8FFB-7DA34469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C8A5-B483-4971-8656-A537A3D5F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1A7B-66D7-4F86-8BF1-769F6B535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3F1C-4B84-4D03-A777-D6AAB3454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DR. SEUSS CHARAC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hqdefault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832120" y="1347840"/>
            <a:ext cx="347976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R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58739158f3a71010b5e8ef64.jpg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I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The_Happy_Grinch.png"/>
          <p:cNvPicPr/>
          <p:nvPr/>
        </p:nvPicPr>
        <p:blipFill>
          <a:blip r:embed="rId1"/>
          <a:stretch/>
        </p:blipFill>
        <p:spPr>
          <a:xfrm>
            <a:off x="3200400" y="1295280"/>
            <a:ext cx="2685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–I–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am-I-Am_1.gif"/>
          <p:cNvPicPr/>
          <p:nvPr/>
        </p:nvPicPr>
        <p:blipFill>
          <a:blip r:embed="rId1"/>
          <a:stretch/>
        </p:blipFill>
        <p:spPr>
          <a:xfrm>
            <a:off x="3429000" y="1295280"/>
            <a:ext cx="227340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IN  THE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Cat_in_hat_character1.jpg"/>
          <p:cNvPicPr/>
          <p:nvPr/>
        </p:nvPicPr>
        <p:blipFill>
          <a:blip r:embed="rId1"/>
          <a:stretch/>
        </p:blipFill>
        <p:spPr>
          <a:xfrm>
            <a:off x="3429000" y="1295280"/>
            <a:ext cx="21621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Horton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10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07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EE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The-Sneetches.jpg"/>
          <p:cNvPicPr/>
          <p:nvPr/>
        </p:nvPicPr>
        <p:blipFill>
          <a:blip r:embed="rId1"/>
          <a:stretch/>
        </p:blipFill>
        <p:spPr>
          <a:xfrm>
            <a:off x="3276720" y="1343160"/>
            <a:ext cx="25430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  1  &amp;  THING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hing1-and-thing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58739158f3a71010b5e8ef64.jpg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Pop_the_bear.png"/>
          <p:cNvPicPr/>
          <p:nvPr/>
        </p:nvPicPr>
        <p:blipFill>
          <a:blip r:embed="rId1"/>
          <a:stretch/>
        </p:blipFill>
        <p:spPr>
          <a:xfrm>
            <a:off x="1981080" y="1295280"/>
            <a:ext cx="518796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RTLE  THE  TU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hqdefault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  IN  S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2832120" y="1347840"/>
            <a:ext cx="347976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The_Happy_Grinch.png"/>
          <p:cNvPicPr/>
          <p:nvPr/>
        </p:nvPicPr>
        <p:blipFill>
          <a:blip r:embed="rId1"/>
          <a:stretch/>
        </p:blipFill>
        <p:spPr>
          <a:xfrm>
            <a:off x="3200400" y="1295280"/>
            <a:ext cx="2685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am-I-Am_1.gif"/>
          <p:cNvPicPr/>
          <p:nvPr/>
        </p:nvPicPr>
        <p:blipFill>
          <a:blip r:embed="rId1"/>
          <a:stretch/>
        </p:blipFill>
        <p:spPr>
          <a:xfrm>
            <a:off x="3429000" y="1295280"/>
            <a:ext cx="227340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at_in_hat_character1.jpg"/>
          <p:cNvPicPr/>
          <p:nvPr/>
        </p:nvPicPr>
        <p:blipFill>
          <a:blip r:embed="rId1"/>
          <a:stretch/>
        </p:blipFill>
        <p:spPr>
          <a:xfrm>
            <a:off x="3429000" y="1295280"/>
            <a:ext cx="2162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Horton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10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The-Sneetches.jpg"/>
          <p:cNvPicPr/>
          <p:nvPr/>
        </p:nvPicPr>
        <p:blipFill>
          <a:blip r:embed="rId1"/>
          <a:stretch/>
        </p:blipFill>
        <p:spPr>
          <a:xfrm>
            <a:off x="3200400" y="1295280"/>
            <a:ext cx="2597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hing1-and-thing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Pop_the_bear.png"/>
          <p:cNvPicPr/>
          <p:nvPr/>
        </p:nvPicPr>
        <p:blipFill>
          <a:blip r:embed="rId1"/>
          <a:stretch/>
        </p:blipFill>
        <p:spPr>
          <a:xfrm>
            <a:off x="1981080" y="1295280"/>
            <a:ext cx="5187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23:04:17Z</dcterms:created>
  <dc:creator>Jennifer Budzinski</dc:creator>
  <dc:description/>
  <dc:language>en-US</dc:language>
  <cp:lastModifiedBy>Erich Friedman</cp:lastModifiedBy>
  <dcterms:modified xsi:type="dcterms:W3CDTF">2020-09-05T14:04:26Z</dcterms:modified>
  <cp:revision>292</cp:revision>
  <dc:subject/>
  <dc:title>Slide 1</dc:title>
</cp:coreProperties>
</file>