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0E3C-135E-4718-82D1-0546464E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9A5-025B-45DB-A973-BCDB27BF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60B-3A14-41FD-8779-CB3AA539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8A2-CD5C-4911-9135-94019E40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DBA-988D-4267-BF87-2E19165D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7AC4-E885-4AD7-A91F-70BDDCF9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1FC8-1CFA-4160-97D1-5FE0A44A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BB14-D7B3-497B-8C83-3DB67DC5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473-C073-42DF-848C-B17522F3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D657-564D-4E10-9572-4B711E469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C467-45C1-45E7-8B5C-F4F936970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040B-4F07-4EE5-B681-22789B51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118-8F4E-4AFC-A16B-B9ABF9DD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DD05-9E36-48DD-929D-B77B2150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2890-F302-4B13-9AA1-AFF4025D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93E9-CBB7-45A1-A0C6-D60D7781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2C67-1A2A-4058-A400-F02C9972F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B3A-DEAE-417A-97EB-F208B5D9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2C4-B2A8-499C-BDB6-CF5136978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98F6-DBB5-4C32-B82B-ED2F884E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B867-1609-4BC7-A682-FD9CC321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622A-BDDF-4868-B594-0E205138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600-E1B7-4150-AEC1-2824F2B4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LO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nap dragon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ibiscu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98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75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ANG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hydrangea.jpg"/>
          <p:cNvPicPr/>
          <p:nvPr/>
        </p:nvPicPr>
        <p:blipFill>
          <a:blip r:embed="rId1"/>
          <a:stretch/>
        </p:blipFill>
        <p:spPr>
          <a:xfrm>
            <a:off x="2362320" y="1295280"/>
            <a:ext cx="44701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FOLD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dafodil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popp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7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G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ego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marigold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32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7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lil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ulip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hydrangea.jpg"/>
          <p:cNvPicPr/>
          <p:nvPr/>
        </p:nvPicPr>
        <p:blipFill>
          <a:blip r:embed="rId1"/>
          <a:stretch/>
        </p:blipFill>
        <p:spPr>
          <a:xfrm>
            <a:off x="2362320" y="1295280"/>
            <a:ext cx="44701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U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petu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04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P 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nap dragon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BIS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ibiscus.jpg"/>
          <p:cNvPicPr/>
          <p:nvPr/>
        </p:nvPicPr>
        <p:blipFill>
          <a:blip r:embed="rId1"/>
          <a:stretch/>
        </p:blipFill>
        <p:spPr>
          <a:xfrm>
            <a:off x="2095560" y="1295280"/>
            <a:ext cx="495288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afodil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opp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7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ego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rigold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32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lil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ulip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petu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04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4:05:03Z</dcterms:modified>
  <cp:revision>290</cp:revision>
  <dc:subject/>
  <dc:title>Slide 1</dc:title>
</cp:coreProperties>
</file>