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11A0-AA1D-49CA-B2EF-7FB8C7669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78C7-7960-4483-8FAD-E9868931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0616-46F4-4F58-9488-5D2ED5DB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F31D-27B3-41A4-9674-386568788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51E2-640E-4DE1-8BEF-BC8D8DC52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ED95-9FB1-48DB-8A4A-5C6AA0BE5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090B-1E98-47A4-AFA1-0A4D0249B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F8B8-C9D2-4D33-B577-052466412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386B-7F79-4E6B-9D31-F97435BAA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D09F-FF00-4AA7-9254-CFA12473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31CF-23D8-484F-8394-33D04DC9F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890B-18A2-434A-85FA-2CEC0E1D1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AEA1-A677-4F69-8658-266136D7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7B07-0641-4D67-B62D-568E00FF0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12F4-61FC-4F7C-A212-BC7B174FB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59CC-DE08-4C29-89E4-A8A831B20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C376-2805-4662-9457-8659B891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C8A7-7C10-402C-A1B3-087D5A3A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6AF1-64C8-4DA5-A1F5-4B153D195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26D9-4393-4D64-9ED6-D4E6428B9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D60A-EBAF-4F2D-920B-5AA86B126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4976-A9BE-486E-A3D0-4198B6C21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208D-C998-4D41-8211-4F8ABADE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REES HAVE THESE LEAV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ycamore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16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aspen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2320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aple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021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6656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elm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91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oak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03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walnut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62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cherry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10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ash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SSAF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assafras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4067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aple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021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beech.jpg"/>
          <p:cNvPicPr/>
          <p:nvPr/>
        </p:nvPicPr>
        <p:blipFill>
          <a:blip r:embed="rId1"/>
          <a:stretch/>
        </p:blipFill>
        <p:spPr>
          <a:xfrm>
            <a:off x="1752480" y="1295280"/>
            <a:ext cx="556272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CA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ycamore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16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aspen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2320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elm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91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oak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03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walnut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62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herry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10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sh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assafras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4067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beech.jpg"/>
          <p:cNvPicPr/>
          <p:nvPr/>
        </p:nvPicPr>
        <p:blipFill>
          <a:blip r:embed="rId1"/>
          <a:stretch/>
        </p:blipFill>
        <p:spPr>
          <a:xfrm>
            <a:off x="1752480" y="1295280"/>
            <a:ext cx="5562720" cy="355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4:05:37Z</dcterms:modified>
  <cp:revision>290</cp:revision>
  <dc:subject/>
  <dc:title>Slide 1</dc:title>
</cp:coreProperties>
</file>