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5BD3-A170-4BF5-A5A3-22643F8B1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F89B-EE96-4EC0-887C-9CAB93422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0B0-8168-4C04-8B2C-C097306D9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ADB-6D2B-4150-89B3-A6F66496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3486-DA3C-4E30-9A09-333BF4130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A9C1-A522-4149-867F-4B51B4842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30F3-77AB-48B2-845D-9CA5C049D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F0B1-1521-4CD9-A046-2A0C8B3D8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6B62-067E-42AD-90C7-C293BA313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F31E-11C4-4FEB-AF65-B37E1FB2C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2530-E62C-43BA-BAC6-625B03369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D599-0DE2-4B54-8E0D-4D5357A1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B337-9840-41C1-9EA1-19D59976A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8F2C-D8BD-4214-85B3-152AA5558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0CD1-EE35-4692-94A2-7822DF675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F221-A46B-41C3-BEBF-603A81EF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CB4B-BB52-4D4A-91A6-3AE1A01A8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8698-466F-4229-B74F-FBE264432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E0B2-EFE9-4BC8-A43D-8C3818CC4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78A2-08CB-4B44-AEA9-3B3C70FAB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F368-1E9B-4978-9397-4A2602E22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1DC5-7343-4696-8BFB-4023D64FD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3381-E89B-48F9-841C-15B37BE5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ICTIONAL CHARACTERS LIVE AT THESE ADDRESSE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56B, WHITEHAVEN MANSIONS, SANDHURST SQUARE,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20 PALM DRIVE, COCOA BEACH, 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1 B BAKER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26708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AYLORS                             ("THE  ANDY  GRIFFITH  SHOW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22 MAPLE, MAYBERRY, 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45 STONE CAVE ROAD, BED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  KENT  ("SUPERMAN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3B, 344 CLINTON STREET, METRO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00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ET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YPAD APART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UN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13 MOCKINGBIRD 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WINGS  ("DALLA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FORK RANCH, BRADDOCK COUNTY, T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1 B BAKER STR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1644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NGEBOB  SQUAREP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4 CONCH STREET, BIKINI BOTT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  POIR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56B, WHITEHAVEN MANSIONS, SANDHURST SQUARE,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267080"/>
            <a:ext cx="6324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LSONS                                  ("I  DREAM  OF  JEANNIE")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33440" y="762120"/>
            <a:ext cx="6477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20 PALM DRIVE, COCOA BEACH, 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22 MAPLE, MAYBERRY, 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45 STONE CAVE ROAD, BED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ARTMENT 3B, 344 CLINTON STREET, METRO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2396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YPAD APART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13 MOCKINGBIRD 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UTHFORK RANCH, BRADDOCK COUNTY, T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24 CONCH STREET, BIKINI BOTT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22:42:39Z</dcterms:created>
  <dc:creator>Jennifer Budzinski</dc:creator>
  <dc:description/>
  <dc:language>en-US</dc:language>
  <cp:lastModifiedBy>Erich Friedman</cp:lastModifiedBy>
  <dcterms:modified xsi:type="dcterms:W3CDTF">2020-09-05T14:07:59Z</dcterms:modified>
  <cp:revision>337</cp:revision>
  <dc:subject/>
  <dc:title>Slide 1</dc:title>
</cp:coreProperties>
</file>