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9863-185E-4788-AA29-B8541D4ED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5C4D-9DAC-427A-8A6E-3FE70281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78B9-BA6D-4C13-BB67-3289F723C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51F6-7F0F-432B-A0EA-337041CB2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1F7F-304C-47EB-89F0-55DA38B64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E127-CB78-4076-AA72-F88734806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F09D-6130-4ACE-B09C-FA6B032E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564-8A39-4E51-9829-11D941A2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7093-53D3-4774-A5C5-DE79A0432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D62B-13AB-4055-8129-CD2D44F7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4F47-6BB9-49F1-9081-DA8BCFE05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C7AC-81AD-426C-BAA0-A90C6886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A897-6D19-403F-822F-51B8C78E3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E3F2-F3AD-4E8B-B7CD-156DF0F87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1201-B294-47B6-B005-56C7E7CBA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4518-DD6F-4D09-AC66-A9CFC40F4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FA73-6D73-408E-9CC6-FCB8BC75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79EA-16C4-4570-8133-74B4097AD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94BF-DAC5-4745-ABF2-3E2801EF5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2BA4-FEAB-421A-B5DE-A3DD8CB95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B684-A54B-4F23-B1D0-820E98D46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8E79-574B-434C-AA44-0F550EAAA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5172-383F-417E-A1C7-917BF2E2E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FICTIONAL CHARACTERS LIVE AT THESE ADDRESSE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56B, WHITEHAVEN MANSIONS, SANDHURST SQUARE,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20 PALM DRIVE, COCOA BEACH, 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21 B BAKER STR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26708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AYLORS                             ("THE  ANDY  GRIFFITH  SHOW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22 MAPLE, MAYBERRY, N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INT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45 STONE CAVE ROAD, BED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K  KENT  ("SUPERMAN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3B, 344 CLINTON STREET, METROPO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00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ET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YPAD APART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UN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13 MOCKINGBIRD 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WINGS  ("DALLA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FORK RANCH, BRADDOCK COUNTY, T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21 B BAKER STR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1644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NGEBOB  SQUARE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4 CONCH STREET, BIKINI BOTT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  POIR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56B, WHITEHAVEN MANSIONS, SANDHURST SQUARE,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267080"/>
            <a:ext cx="6324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LSONS                                  ("I  DREAM  OF  JEANNIE")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33440" y="762120"/>
            <a:ext cx="6477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20 PALM DRIVE, COCOA BEACH, 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22 MAPLE, MAYBERRY, N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45 STONE CAVE ROAD, BED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3B, 344 CLINTON STREET, METROPO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2396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YPAD APART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13 MOCKINGBIRD 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FORK RANCH, BRADDOCK COUNTY, T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4 CONCH STREET, BIKINI BOTT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22:42:39Z</dcterms:created>
  <dc:creator>Jennifer Budzinski</dc:creator>
  <dc:description/>
  <dc:language>en-US</dc:language>
  <cp:lastModifiedBy>Erich Friedman</cp:lastModifiedBy>
  <dcterms:modified xsi:type="dcterms:W3CDTF">2020-09-05T14:07:59Z</dcterms:modified>
  <cp:revision>337</cp:revision>
  <dc:subject/>
  <dc:title>Slide 1</dc:title>
</cp:coreProperties>
</file>