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D828-9386-4FDB-A2B7-978DA741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1072-18D6-4D94-820E-8B88E731F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8AB9-38EF-490C-A068-B67C9F7B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8023-C655-4360-9A73-19FB1451B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6607-D8E4-4403-97E7-21DED422A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B510-094D-44B3-823C-0A18BEF20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D926-B848-4786-9A75-B5BA80B5D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9332-36DA-4D8F-A4B0-610ABECCA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DCD7-A1CC-4B4D-96EF-7B9D9A595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3AFB-D4E7-4B50-9D74-4771B721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03A5-1A10-4C95-A42A-56A217F9A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8571-5761-41E5-9358-242149D4A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F44B-9164-4F05-BD2F-5329B6C0B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CB69-1857-416D-9766-ADFFBA414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EB43-E556-4A29-A09D-E4E6C7BF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A2A7-5CD6-4194-B2C0-8B795583A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9551-A548-4390-A001-DE64E811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CDD4-E180-49E5-9391-BEDD5B8F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C818-C799-43AF-81C3-1ADDE58DD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7E53-D62A-4749-9F78-77B2307B5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5617-E06E-4457-8703-C9E6FDB1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A253-1E55-46BE-B864-82E3C9341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EEF7-6660-4BB8-9865-39BF4E3ED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FICTIONAL CHARACTERS LIVE AT THESE ADDRESSE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56B, WHITEHAVEN MANSIONS, SANDHURST SQUARE,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20 PALM DRIVE, COCOA BEACH, 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21 B BAKER STR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26708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AYLORS                             ("THE  ANDY  GRIFFITH  SHOW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22 MAPLE, MAYBERRY, N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INT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45 STONE CAVE ROAD, BED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K  KENT  ("SUPERMAN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3B, 344 CLINTON STREET, METROPO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00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ET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YPAD APART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UN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13 MOCKINGBIRD 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WINGS  ("DALLA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FORK RANCH, BRADDOCK COUNTY, T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21 B BAKER STR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1644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NGEBOB  SQUARE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4 CONCH STREET, BIKINI BOTT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  POIR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56B, WHITEHAVEN MANSIONS, SANDHURST SQUARE,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267080"/>
            <a:ext cx="6324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LSONS                                  ("I  DREAM  OF  JEANNIE")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33440" y="762120"/>
            <a:ext cx="6477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20 PALM DRIVE, COCOA BEACH, 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22 MAPLE, MAYBERRY, N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45 STONE CAVE ROAD, BED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3B, 344 CLINTON STREET, METROPO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2396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YPAD APART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13 MOCKINGBIRD 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FORK RANCH, BRADDOCK COUNTY, T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4 CONCH STREET, BIKINI BOTT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22:42:39Z</dcterms:created>
  <dc:creator>Jennifer Budzinski</dc:creator>
  <dc:description/>
  <dc:language>en-US</dc:language>
  <cp:lastModifiedBy>Erich Friedman</cp:lastModifiedBy>
  <dcterms:modified xsi:type="dcterms:W3CDTF">2020-09-05T14:07:59Z</dcterms:modified>
  <cp:revision>337</cp:revision>
  <dc:subject/>
  <dc:title>Slide 1</dc:title>
</cp:coreProperties>
</file>