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BCBB-AEC9-42C3-85B0-EB7EFEB44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0716-6EBE-4923-96A5-B5B0A0CB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9586-1C96-493D-95C4-68538759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CB9D-5CD2-4C50-9897-8A4F9DB53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024B-7C63-472D-94DF-A7CBDFC1E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1EDB-A7EC-4D81-8DDD-F76405F88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87C7-64D3-414F-B4FC-8D43E69D4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C0A9-8C2E-4FCE-9DA1-B903D7A3A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0096-9570-4DDE-9202-2617A5FFB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A2B6-0572-4E15-9CA9-40FF2240E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BEA9-4A5F-46E0-856D-70EF85634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E882-FE9E-4108-B465-F3296C2A3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E910-7B72-46F4-B365-ADCAA2A46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6CA2-539C-46C9-9D7E-14B9FDDE6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D8A5-1694-4FA0-A53C-4382D2234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ACE2-9C05-4C26-925A-A1FE9746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706E-5E68-46E1-A598-745FD5D19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5FBC-1B31-4AE8-A164-2E072AC85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9659-F55B-41E0-AE40-C3A7625D0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E59C-A825-4172-81A5-A5B48282C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AE86-67AD-4F2B-801D-62C99C1D8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71A70-7F91-48ED-B040-4A7CE2ACB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E66F-89AB-44D3-A2E0-44B31C331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RICH FICTIONAL CHARAC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addy-warbucks-2.jpg"/>
          <p:cNvPicPr/>
          <p:nvPr/>
        </p:nvPicPr>
        <p:blipFill>
          <a:blip r:embed="rId1"/>
          <a:stretch/>
        </p:blipFill>
        <p:spPr>
          <a:xfrm>
            <a:off x="3124080" y="1219320"/>
            <a:ext cx="29368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charles-foster-kane.jpg"/>
          <p:cNvPicPr/>
          <p:nvPr/>
        </p:nvPicPr>
        <p:blipFill>
          <a:blip r:embed="rId1"/>
          <a:stretch/>
        </p:blipFill>
        <p:spPr>
          <a:xfrm>
            <a:off x="2286000" y="1219320"/>
            <a:ext cx="45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1371600" y="44197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MONOPOLY              (OR UNCLE  PENNYBAG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oney-bags-drawing-32.jpg"/>
          <p:cNvPicPr/>
          <p:nvPr/>
        </p:nvPicPr>
        <p:blipFill>
          <a:blip r:embed="rId1"/>
          <a:stretch/>
        </p:blipFill>
        <p:spPr>
          <a:xfrm>
            <a:off x="2160720" y="1295280"/>
            <a:ext cx="4822560" cy="30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MONTGOMERY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Montgomery_Burns.jpg"/>
          <p:cNvPicPr/>
          <p:nvPr/>
        </p:nvPicPr>
        <p:blipFill>
          <a:blip r:embed="rId1"/>
          <a:stretch/>
        </p:blipFill>
        <p:spPr>
          <a:xfrm>
            <a:off x="3186000" y="1219320"/>
            <a:ext cx="2772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6584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ST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Tony-Stark.jpg"/>
          <p:cNvPicPr/>
          <p:nvPr/>
        </p:nvPicPr>
        <p:blipFill>
          <a:blip r:embed="rId1"/>
          <a:stretch/>
        </p:blipFill>
        <p:spPr>
          <a:xfrm>
            <a:off x="2824200" y="1284120"/>
            <a:ext cx="3495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OOGE  MC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crooge_McDuck.jpg"/>
          <p:cNvPicPr/>
          <p:nvPr/>
        </p:nvPicPr>
        <p:blipFill>
          <a:blip r:embed="rId1"/>
          <a:stretch/>
        </p:blipFill>
        <p:spPr>
          <a:xfrm>
            <a:off x="2971800" y="1219320"/>
            <a:ext cx="31035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Y  WO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willy-wonka-new-movie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5004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RSTON  HOWELL 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Thurston_Howell_III.jpg"/>
          <p:cNvPicPr/>
          <p:nvPr/>
        </p:nvPicPr>
        <p:blipFill>
          <a:blip r:embed="rId1"/>
          <a:stretch/>
        </p:blipFill>
        <p:spPr>
          <a:xfrm>
            <a:off x="2133720" y="1219320"/>
            <a:ext cx="49514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IE  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jAkbZO9I.jpg"/>
          <p:cNvPicPr/>
          <p:nvPr/>
        </p:nvPicPr>
        <p:blipFill>
          <a:blip r:embed="rId1"/>
          <a:stretch/>
        </p:blipFill>
        <p:spPr>
          <a:xfrm>
            <a:off x="2870280" y="1219320"/>
            <a:ext cx="34034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money-bags-drawing-32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317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D  CLAMP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53-37480-beverly-hillbillies-1475696371.jpg"/>
          <p:cNvPicPr/>
          <p:nvPr/>
        </p:nvPicPr>
        <p:blipFill>
          <a:blip r:embed="rId1"/>
          <a:stretch/>
        </p:blipFill>
        <p:spPr>
          <a:xfrm>
            <a:off x="2171880" y="1219320"/>
            <a:ext cx="480060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77720" y="49593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"DADDY"  WARBU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addy-warbucks-2.jpg"/>
          <p:cNvPicPr/>
          <p:nvPr/>
        </p:nvPicPr>
        <p:blipFill>
          <a:blip r:embed="rId1"/>
          <a:stretch/>
        </p:blipFill>
        <p:spPr>
          <a:xfrm>
            <a:off x="3124080" y="1219320"/>
            <a:ext cx="29368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FOSTER  K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charles-foster-kane.jpg"/>
          <p:cNvPicPr/>
          <p:nvPr/>
        </p:nvPicPr>
        <p:blipFill>
          <a:blip r:embed="rId1"/>
          <a:stretch/>
        </p:blipFill>
        <p:spPr>
          <a:xfrm>
            <a:off x="2286000" y="1219320"/>
            <a:ext cx="45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Montgomery_Burns.jpg"/>
          <p:cNvPicPr/>
          <p:nvPr/>
        </p:nvPicPr>
        <p:blipFill>
          <a:blip r:embed="rId1"/>
          <a:stretch/>
        </p:blipFill>
        <p:spPr>
          <a:xfrm>
            <a:off x="3124080" y="1219320"/>
            <a:ext cx="288612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Tony-Stark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81280" cy="374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crooge_McDuck.jpg"/>
          <p:cNvPicPr/>
          <p:nvPr/>
        </p:nvPicPr>
        <p:blipFill>
          <a:blip r:embed="rId1"/>
          <a:stretch/>
        </p:blipFill>
        <p:spPr>
          <a:xfrm>
            <a:off x="2971800" y="1219320"/>
            <a:ext cx="31035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willy-wonka-new-movie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5004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Thurston_Howell_III.jpg"/>
          <p:cNvPicPr/>
          <p:nvPr/>
        </p:nvPicPr>
        <p:blipFill>
          <a:blip r:embed="rId1"/>
          <a:stretch/>
        </p:blipFill>
        <p:spPr>
          <a:xfrm>
            <a:off x="2133720" y="1219320"/>
            <a:ext cx="49514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jAkbZO9I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53-37480-beverly-hillbillies-1475696371.jpg"/>
          <p:cNvPicPr/>
          <p:nvPr/>
        </p:nvPicPr>
        <p:blipFill>
          <a:blip r:embed="rId1"/>
          <a:stretch/>
        </p:blipFill>
        <p:spPr>
          <a:xfrm>
            <a:off x="2133720" y="1219320"/>
            <a:ext cx="4952880" cy="381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13:31:31Z</dcterms:created>
  <dc:creator>Jennifer Budzinski</dc:creator>
  <dc:description/>
  <dc:language>en-US</dc:language>
  <cp:lastModifiedBy>Erich Friedman</cp:lastModifiedBy>
  <dcterms:modified xsi:type="dcterms:W3CDTF">2020-09-05T14:09:00Z</dcterms:modified>
  <cp:revision>292</cp:revision>
  <dc:subject/>
  <dc:title>Slide 1</dc:title>
</cp:coreProperties>
</file>