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488D-4DD8-4739-88E8-9E23B4133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0429-DD4A-4006-9247-A0D25FD92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ACD5-BD20-4009-87A3-EAEC41024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91D9-946F-4416-AB1D-FCDF09D70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EB67-0411-4188-94A4-64A0F041B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47B4-CB1D-41B6-88FF-3BAD65CE6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FFA3-4402-469A-8BB4-B14231EB4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4AA2-1F6D-4DB9-B15C-AD200B2AF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46C9-CB5E-4B33-A967-205D8DB6C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41C2-B779-4FC7-B840-7EC98BEC8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C2AC-09EE-4399-9A01-465BCDCD3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28FA-F2A9-47E2-BC0B-A3CF815B8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3106-19E3-460A-B702-51645C9A2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F083-5C94-4C6E-ACE4-192F9388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1932-69DB-4FE2-87CA-9856714E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4A9C-9C53-4340-AB90-47936FAC9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658E-D215-46E5-AB7F-EB0C61E67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D463-BCC2-40A0-9138-F0C6AC4F4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3BAA-D93E-43DA-9CEC-779F73BE0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0558-4E21-4242-84A8-1661F1CDA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A129-80A8-4D5E-BAB3-D0563CCA8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52E0-46D2-4CB9-B864-7ECE75654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1BE0-4208-4814-8236-85E733B2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RICH FICTIONAL CHARAC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addy-warbucks-2.jpg"/>
          <p:cNvPicPr/>
          <p:nvPr/>
        </p:nvPicPr>
        <p:blipFill>
          <a:blip r:embed="rId1"/>
          <a:stretch/>
        </p:blipFill>
        <p:spPr>
          <a:xfrm>
            <a:off x="3124080" y="1219320"/>
            <a:ext cx="29368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charles-foster-kane.jpg"/>
          <p:cNvPicPr/>
          <p:nvPr/>
        </p:nvPicPr>
        <p:blipFill>
          <a:blip r:embed="rId1"/>
          <a:stretch/>
        </p:blipFill>
        <p:spPr>
          <a:xfrm>
            <a:off x="2286000" y="1219320"/>
            <a:ext cx="45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1371600" y="44197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MONOPOLY              (OR UNCLE  PENNYBA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oney-bags-drawing-32.jpg"/>
          <p:cNvPicPr/>
          <p:nvPr/>
        </p:nvPicPr>
        <p:blipFill>
          <a:blip r:embed="rId1"/>
          <a:stretch/>
        </p:blipFill>
        <p:spPr>
          <a:xfrm>
            <a:off x="2160720" y="1295280"/>
            <a:ext cx="482256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MONTGOMERY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ontgomery_Burns.jpg"/>
          <p:cNvPicPr/>
          <p:nvPr/>
        </p:nvPicPr>
        <p:blipFill>
          <a:blip r:embed="rId1"/>
          <a:stretch/>
        </p:blipFill>
        <p:spPr>
          <a:xfrm>
            <a:off x="3186000" y="1219320"/>
            <a:ext cx="2772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6584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ST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Tony-Stark.jpg"/>
          <p:cNvPicPr/>
          <p:nvPr/>
        </p:nvPicPr>
        <p:blipFill>
          <a:blip r:embed="rId1"/>
          <a:stretch/>
        </p:blipFill>
        <p:spPr>
          <a:xfrm>
            <a:off x="2824200" y="1284120"/>
            <a:ext cx="3495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OOGE  MC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crooge_McDuck.jpg"/>
          <p:cNvPicPr/>
          <p:nvPr/>
        </p:nvPicPr>
        <p:blipFill>
          <a:blip r:embed="rId1"/>
          <a:stretch/>
        </p:blipFill>
        <p:spPr>
          <a:xfrm>
            <a:off x="2971800" y="1219320"/>
            <a:ext cx="31035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Y  WO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willy-wonka-new-movie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5004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RSTON  HOWELL 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Thurston_Howell_III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514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IE  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jAkbZO9I.jpg"/>
          <p:cNvPicPr/>
          <p:nvPr/>
        </p:nvPicPr>
        <p:blipFill>
          <a:blip r:embed="rId1"/>
          <a:stretch/>
        </p:blipFill>
        <p:spPr>
          <a:xfrm>
            <a:off x="2870280" y="1219320"/>
            <a:ext cx="34034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money-bags-drawing-32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31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D  CLAMP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53-37480-beverly-hillbillies-1475696371.jpg"/>
          <p:cNvPicPr/>
          <p:nvPr/>
        </p:nvPicPr>
        <p:blipFill>
          <a:blip r:embed="rId1"/>
          <a:stretch/>
        </p:blipFill>
        <p:spPr>
          <a:xfrm>
            <a:off x="2171880" y="1219320"/>
            <a:ext cx="480060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77720" y="49593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"DADDY"  WARBU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addy-warbucks-2.jpg"/>
          <p:cNvPicPr/>
          <p:nvPr/>
        </p:nvPicPr>
        <p:blipFill>
          <a:blip r:embed="rId1"/>
          <a:stretch/>
        </p:blipFill>
        <p:spPr>
          <a:xfrm>
            <a:off x="3124080" y="1219320"/>
            <a:ext cx="29368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FOSTER  K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charles-foster-kane.jpg"/>
          <p:cNvPicPr/>
          <p:nvPr/>
        </p:nvPicPr>
        <p:blipFill>
          <a:blip r:embed="rId1"/>
          <a:stretch/>
        </p:blipFill>
        <p:spPr>
          <a:xfrm>
            <a:off x="2286000" y="1219320"/>
            <a:ext cx="45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ontgomery_Burns.jpg"/>
          <p:cNvPicPr/>
          <p:nvPr/>
        </p:nvPicPr>
        <p:blipFill>
          <a:blip r:embed="rId1"/>
          <a:stretch/>
        </p:blipFill>
        <p:spPr>
          <a:xfrm>
            <a:off x="3124080" y="1219320"/>
            <a:ext cx="2886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Tony-Stark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crooge_McDuck.jpg"/>
          <p:cNvPicPr/>
          <p:nvPr/>
        </p:nvPicPr>
        <p:blipFill>
          <a:blip r:embed="rId1"/>
          <a:stretch/>
        </p:blipFill>
        <p:spPr>
          <a:xfrm>
            <a:off x="2971800" y="1219320"/>
            <a:ext cx="31035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willy-wonka-new-movie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5004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hurston_Howell_III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514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jAkbZO9I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53-37480-beverly-hillbillies-1475696371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52880" cy="381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3:31:31Z</dcterms:created>
  <dc:creator>Jennifer Budzinski</dc:creator>
  <dc:description/>
  <dc:language>en-US</dc:language>
  <cp:lastModifiedBy>Erich Friedman</cp:lastModifiedBy>
  <dcterms:modified xsi:type="dcterms:W3CDTF">2020-09-05T14:09:00Z</dcterms:modified>
  <cp:revision>292</cp:revision>
  <dc:subject/>
  <dc:title>Slide 1</dc:title>
</cp:coreProperties>
</file>