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7686A-3DB5-4855-94BA-C5A87ABB73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0932E-D0A3-4C12-ACC0-C8C55D280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13021-1EA6-4884-A663-97692CAAF5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A275E-912D-4441-9835-C1A2470AE7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41A94-0C27-4BEE-8979-60C13E3C3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16E7C-9CF7-4135-9F6F-C80DB2F89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9A9FD-9131-469F-BE60-F364548C2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CBB68-1BA0-47E2-877C-F59F05CBE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67772-3099-4207-AD00-59318D325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63D09-97CC-4BB1-9949-43C94BDAAB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59BFF-6F3D-4E39-A867-35FC89CF13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A0EF0-BC73-475F-B159-F83F8E569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110A8-4E5D-4AE8-913E-3E19D734F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DD03C-FDAE-429E-8059-4ADB01664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1DE6E-3E57-4F08-8E88-CD157A646E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4D20D-E637-4DBE-AFA4-9F2B9184D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ACDA0-4484-46BD-9A76-EADE95D18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12F37-BDA7-4BA2-A569-E1A29BFF3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E2297-3064-49BA-8D52-3E6A81F298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45AF9-44C6-4190-8818-004AC8FDE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B59AC-E9B6-4814-805D-D5F95143EC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2B1F5-9E40-444E-AD40-311F84F31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16951-E903-403F-A627-D388D8643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F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BILLY THE KID IN THE 1958 FILM "THE LEFT-HANDED GU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FORE 2006 WHEN THE NICKEL WAS REDESIGNED, WHAT WAS THE ONLY U.S. COIN PICTURING A PRESIDENT NOT LOOKING TO THE LEF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457200" y="4952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3–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85800" y="762120"/>
            <a:ext cx="7772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THE MAYO CLINIC, HOW MANY DAYS CAN YOU SAFELY STORE LEFTOVERS IN THE FRIDGE?  1-2, 3-4, OR 5-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W.  BU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57200" y="762120"/>
            <a:ext cx="8229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PRESIDENT SIGNED THE "NO CHILD LEFT BEHIND AC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533520" y="4952880"/>
            <a:ext cx="81532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ALYTIC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RE "LEFT-BRAINED" PEOPLE KNOWN FOR BEING ANALYTICAL OR CREATI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ERCENTAGE OF PEOPLE ARE LEFT-HANDED?  10%, 15%, OR 20%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D  WILLI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304920" y="762120"/>
            <a:ext cx="8534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LEFT-FIELDER FOR THE BOSTON RED SOX WAS THE LAST PLAYER IN BASEBALL     TO BAT .400+ IN A SEA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NY  BENNET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23960" y="762120"/>
            <a:ext cx="76960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SANG "I LEFT MY HEART IN SAN FRANCISC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53352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TRAND  RUSS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57200" y="76212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ICH PHILOSOPHER AND WINNER OF THE 1950 NOBEL PRIZE FOR LITERATURE SAID "WAR DOES NOT DETERMINE WHO IS RIGHT - ONLY WHO IS LEFT"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19040" y="8377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THE MAYO CLINIC, HOW MANY DAYS CAN YOU SAFELY STORE LEFTOVERS IN THE FRIDGE?  1-2, 3-4, OR 5-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NIEL  DAY 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71680" y="762120"/>
            <a:ext cx="8001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HREE-TIME OSCAR-WINNING ACTOR STARRED IN THE FILM "MY LEFT FOO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UL  NEW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38080" y="762120"/>
            <a:ext cx="74678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BILLY THE KID IN THE 1958 FILM "THE LEFT-HANDED GU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PEN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FORE 2006 WHEN THE NICKEL WAS REDESIGNED, WHAT WAS THE ONLY U.S. COIN PICTURING A PRESIDENT NOT LOOKING TO THE LEF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PRESIDENT SIGNED THE "NO CHILD LEFT BEHIND AC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RE "LEFT-BRAINED" PEOPLE KNOWN FOR BEING ANALYTICAL OR CREATI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ERCENTAGE OF PEOPLE ARE LEFT-HANDED?  10%, 15%, OR 20%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19040" y="72396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LEFT-FIELDER FOR THE BOSTON RED SOX WAS THE LAST PLAYER IN BASEBALL  TO BAT .400+ IN A SEAS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I LEFT MY HEART IN SAN FRANCISC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ICH PHILOSOPHER AND WINNER OF THE 1950 NOBEL PRIZE FOR LITERATURE SAID "WAR DOES NOT DETERMINE WHO IS RIGHT - ONLY WHO IS LEFT"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HREE-TIME OSCAR-WINNING ACTOR STARRED IN THE FILM "MY LEFT FOO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1T02:33:01Z</dcterms:created>
  <dc:creator>Jennifer Budzinski</dc:creator>
  <dc:description/>
  <dc:language>en-US</dc:language>
  <cp:lastModifiedBy>Erich Friedman</cp:lastModifiedBy>
  <dcterms:modified xsi:type="dcterms:W3CDTF">2020-09-04T13:23:31Z</dcterms:modified>
  <cp:revision>314</cp:revision>
  <dc:subject/>
  <dc:title>Slide 1</dc:title>
</cp:coreProperties>
</file>