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14D4-CF56-4096-A1FA-B64086DFA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1004-0C35-4B50-BC60-34DA65761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4ED4-4B53-4FA8-B22B-1529266F7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6F0A-3C9A-4C07-AF96-FCA0DFF4B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B4C3-1859-4672-976A-8D03DC6F7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ABD7-894F-4182-8E1A-582B0812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A3C-0265-4959-AD13-DD39F3999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9E2B9-6874-4BDD-B5E1-53F5E9E4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2EED-30B5-4FDA-99C5-87C424FD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9F02-EE25-4B54-B361-B86A8B9F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5211E-1B7B-4347-BA71-B849AE7F8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095-4FB7-4B1A-8FDB-36E4A459D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A3F3-C766-45CE-8C28-CBB193B30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C70B-B755-4417-AD2B-4FA0804A5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8139-F109-4A91-BC47-79BD207E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1A8-B09B-4BA9-9A76-90E2D9E4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B997-17F1-40EF-8EA5-D042129E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221D-9853-487E-8678-11CB48C22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75B0-76E7-4C78-8FE9-7825DD2D6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2244-4824-4168-8E24-8BE87D82B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FA1E-F478-4A1A-85E5-EEE3FE79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41DB-1AB3-416E-AF74-257BBC97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BCF0-0521-4A00-BEB1-B9D5AAB47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ILLY THE KID IN THE 1958 FILM "THE LEFT-HANDED G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2006 WHEN THE NICKEL WAS REDESIGNED, WHAT WAS THE ONLY U.S. COIN PICTURING A PRESIDENT NOT LOOKING TO TH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MAYO CLINIC, HOW MANY DAYS CAN YOU SAFELY STORE LEFTOVERS IN THE FRIDGE?  1-2, 3-4, OR 5-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SIGNED THE "NO CHILD LEFT BEHIND A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ALY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"LEFT-BRAINED" PEOPLE KNOWN FOR BEING ANALYTICAL OR 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EOPLE ARE LEFT-HANDED?  10%, 15%, OR 2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FT-FIELDER FOR THE BOSTON RED SOX WAS THE LAST PLAYER IN BASEBALL     TO BAT .400+ IN A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SANG "I LEFT MY HEART IN SAN FRANCIS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RAND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PHILOSOPHER AND WINNER OF THE 1950 NOBEL PRIZE FOR LITERATURE SAID "WAR DOES NOT DETERMINE WHO IS RIGHT - ONLY WHO IS LEFT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837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HE MAYO CLINIC, HOW MANY DAYS CAN YOU SAFELY STORE LEFTOVERS IN THE FRIDGE?  1-2, 3-4, OR 5-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DA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-TIME OSCAR-WINNING ACTOR STARRED IN THE FILM "MY LEFT FO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NEW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ILLY THE KID IN THE 1958 FILM "THE LEFT-HANDED G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2006 WHEN THE NICKEL WAS REDESIGNED, WHAT WAS THE ONLY U.S. COIN PICTURING A PRESIDENT NOT LOOKING TO THE LE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SIGNED THE "NO CHILD LEFT BEHIND A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E "LEFT-BRAINED" PEOPLE KNOWN FOR BEING ANALYTICAL OR CRE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EOPLE ARE LEFT-HANDED?  10%, 15%, OR 2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EFT-FIELDER FOR THE BOSTON RED SOX WAS THE LAST PLAYER IN BASEBALL  TO BAT .400+ IN A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LEFT MY HEART IN SAN FRANCIS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PHILOSOPHER AND WINNER OF THE 1950 NOBEL PRIZE FOR LITERATURE SAID "WAR DOES NOT DETERMINE WHO IS RIGHT - ONLY WHO IS LEFT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REE-TIME OSCAR-WINNING ACTOR STARRED IN THE FILM "MY LEFT FO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1T02:33:01Z</dcterms:created>
  <dc:creator>Jennifer Budzinski</dc:creator>
  <dc:description/>
  <dc:language>en-US</dc:language>
  <cp:lastModifiedBy>Erich Friedman</cp:lastModifiedBy>
  <dcterms:modified xsi:type="dcterms:W3CDTF">2020-09-04T13:23:31Z</dcterms:modified>
  <cp:revision>314</cp:revision>
  <dc:subject/>
  <dc:title>Slide 1</dc:title>
</cp:coreProperties>
</file>