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C894-7FDD-496B-80E8-169CE57A5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03A1-11BF-464F-B201-ABA0BC7A2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804D-E0F0-41AA-B170-EB566340A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788E-E659-4FC5-937A-65EE8A2AC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F1BD-A5A4-4FDB-AC8C-54BFBAFF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E49F-03AB-416A-AF60-D5C659B2F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6870-5CB0-4988-A8C6-A63F6366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4987-F6E8-42AB-9542-E34001FC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9AD0-8D19-482A-BE53-48279798A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12D4-FE22-416F-A74C-98D0BB349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7609-271F-4F5A-AE8A-7F3ADABAE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F156-0F0B-414D-AB97-562C033A0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5D25-FC1D-413A-BF4E-8F884A785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D96A-382C-45FD-83C5-934F14647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BFE4-F42E-44C5-BAC8-6A1F4FC43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5C4F-F470-4CB1-BF63-100478A96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41E5-AEF9-4345-B024-127F7BF5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8B55-64FC-4B45-886B-D921B19E1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8278-A297-49B3-A189-1E089FAA1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5D23-0334-47F7-8C63-8170237B7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8987-37A8-4ACC-86EA-386DBD833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D1DF-A984-42EE-B572-21B400B89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B9B8-B55A-4826-98A8-65551212B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ILLY THE KID IN THE 1958 FILM "THE LEFT-HANDED G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2006 WHEN THE NICKEL WAS REDESIGNED, WHAT WAS THE ONLY U.S. COIN PICTURING A PRESIDENT NOT LOOKING TO THE LE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MAYO CLINIC, HOW MANY DAYS CAN YOU SAFELY STORE LEFTOVERS IN THE FRIDGE?  1-2, 3-4, OR 5-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SIGNED THE "NO CHILD LEFT BEHIND A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ALY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"LEFT-BRAINED" PEOPLE KNOWN FOR BEING ANALYTICAL OR CRE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AGE OF PEOPLE ARE LEFT-HANDED?  10%, 15%, OR 2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FT-FIELDER FOR THE BOSTON RED SOX WAS THE LAST PLAYER IN BASEBALL     TO BAT .400+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BEN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SANG "I LEFT MY HEART IN SAN FRANCISC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RAND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PHILOSOPHER AND WINNER OF THE 1950 NOBEL PRIZE FOR LITERATURE SAID "WAR DOES NOT DETERMINE WHO IS RIGHT - ONLY WHO IS LEFT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837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MAYO CLINIC, HOW MANY DAYS CAN YOU SAFELY STORE LEFTOVERS IN THE FRIDGE?  1-2, 3-4, OR 5-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DAY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REE-TIME OSCAR-WINNING ACTOR STARRED IN THE FILM "MY LEFT FO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NEW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ILLY THE KID IN THE 1958 FILM "THE LEFT-HANDED G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2006 WHEN THE NICKEL WAS REDESIGNED, WHAT WAS THE ONLY U.S. COIN PICTURING A PRESIDENT NOT LOOKING TO THE LE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SIGNED THE "NO CHILD LEFT BEHIND AC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"LEFT-BRAINED" PEOPLE KNOWN FOR BEING ANALYTICAL OR CRE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AGE OF PEOPLE ARE LEFT-HANDED?  10%, 15%, OR 2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FT-FIELDER FOR THE BOSTON RED SOX WAS THE LAST PLAYER IN BASEBALL  TO BAT .400+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LEFT MY HEART IN SAN FRANCISC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PHILOSOPHER AND WINNER OF THE 1950 NOBEL PRIZE FOR LITERATURE SAID "WAR DOES NOT DETERMINE WHO IS RIGHT - ONLY WHO IS LEFT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REE-TIME OSCAR-WINNING ACTOR STARRED IN THE FILM "MY LEFT FO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1T02:33:01Z</dcterms:created>
  <dc:creator>Jennifer Budzinski</dc:creator>
  <dc:description/>
  <dc:language>en-US</dc:language>
  <cp:lastModifiedBy>Erich Friedman</cp:lastModifiedBy>
  <dcterms:modified xsi:type="dcterms:W3CDTF">2020-09-04T13:23:31Z</dcterms:modified>
  <cp:revision>314</cp:revision>
  <dc:subject/>
  <dc:title>Slide 1</dc:title>
</cp:coreProperties>
</file>