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2529-C87A-43AC-8C4E-22757E3E0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9320-F884-433D-ADA3-6575686D9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A88E-239A-4BAB-8A5A-7BF69504E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5EE7-6151-4201-B1B5-C57F7C9F2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5467-CBC5-4BD8-A22B-382811AF9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620E-D794-431F-A55F-A81D6EA15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4D03-D974-4081-8395-84E14803C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6EFE-38CB-475F-899B-1A7FAA8F4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035D-563C-44F2-9DBC-4AAE2E9F3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21E3-E63E-427D-BD96-2EECB8E1D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861F-A119-4745-8E3F-E03F195F7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1CC3-E02D-4C2A-8FDE-DE8FA6479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7029-ADA3-446B-B219-F9DDEA7E20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9C8B-775C-4B0D-BE0F-2ADCB2ABE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BD98-D94D-4D32-96F7-4F298A101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11B7-1AB9-4A2D-B2F4-44E689498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ABC5-2764-4A77-8BCF-3A8EAD4C1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D6F2-3314-4896-9529-B7202C593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4473-6D72-405C-A543-55F02A77A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213E-170F-4331-95E2-F01F7BE1D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FB3C-0991-4B2F-8AB3-8C3E0CC73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5E3D-210D-484C-8610-5F381C67D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854E-11CF-4B25-9DF9-80ABBBF2F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066680"/>
            <a:ext cx="61722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CTIVES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N INEPT AND INCOMPETENT POLICE DETECTIVE IN THE FRENCH SÛRETÉ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333440" y="762120"/>
            <a:ext cx="6477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'S WORK WAS NARRATED BY DR. JOHN H. WAT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CULE POIR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85760" y="762120"/>
            <a:ext cx="69724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USED HIS LITTLE GREY CELLS TO SOLVE CR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VIS  MCG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409760" y="762120"/>
            <a:ext cx="6324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LIVED ABOARD "THE BUSTED FLU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MAG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'S CONSTANT NEMESES WERE NAMED ZEUS AND APOL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3336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NCY  D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HAD BOYFRIEND NED AND BEST GIRLFRIEND GEOR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COLUMB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76200" y="762120"/>
            <a:ext cx="6591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WAS ALWAYS PREPARED FOR R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PECTOR  GA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838080"/>
            <a:ext cx="73152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BORG DETECTIVE GOT ASSISTANCE FROM HIS NIECE AND HER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LIA  PEA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SOLVED CRIMES WHILE SHE DID ARCHEOLOGY IN EGYP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USED HIS LITTLE GREY CELLS TO SOLVE CR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NIE  BRISC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34880" y="762120"/>
            <a:ext cx="8267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LAW &amp; ORDER" DETECTIVE WAS NAMED A LIVING LANDMARK BY THE NY LANDMARKS CONSERVA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QUES  CLOUSE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1932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N INEPT AND INCOMPETENT POLICE DETECTIVE IN THE FRENCH SÛRE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LOCK  HOL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81160" y="762120"/>
            <a:ext cx="6781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'S WORK WAS NARRATED BY DR. JOHN H. WAT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LIVED ABOARD "THE BUSTED FLU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'S CONSTANT NEMESES WERE NAMED ZEUS AND APOLL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HAD BOYFRIEND NED AND BEST GIRLFRIEND GEOR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76200" y="761760"/>
            <a:ext cx="6591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WAS ALWAYS PREPARED FOR R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YBORG DETECTIVE GOT ASSISTANCE FROM HIS NIECE AND HER DO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ETECTIVE SOLVED CRIMES WHILE SHE DID ARCHEOLOGY IN EGYP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LAW &amp; ORDER" DETECTIVE WAS NAMED A LIVING LANDMARK BY THE NY LANDMARKS CONSERVANC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1T17:18:17Z</dcterms:created>
  <dc:creator>Jennifer Budzinski</dc:creator>
  <dc:description/>
  <dc:language>en-US</dc:language>
  <cp:lastModifiedBy>Erich Friedman</cp:lastModifiedBy>
  <dcterms:modified xsi:type="dcterms:W3CDTF">2020-09-05T14:09:18Z</dcterms:modified>
  <cp:revision>352</cp:revision>
  <dc:subject/>
  <dc:title>Slide 1</dc:title>
</cp:coreProperties>
</file>