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36EC-6BF8-4802-BC6F-4E7FFFED4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9E71-ECF3-469A-BD8C-D2BAFB28D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46B3-1ED9-43C1-91AF-922EA9487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A673-F362-4BC3-88A0-F739B03E5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5EA2-481C-436B-A077-AE8B7A6E5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29A0-1471-4C96-990C-3E13FFB8D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A937-B9DF-4800-875A-435C5A2B6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ECD7-0B8F-4EF5-868A-474620199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A1A9-4702-4DEE-AF8F-75631E81E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50A5-5A5F-48DD-AE94-5E94B2174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D1C3-0BC2-4277-810D-83CA5DA9C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8912-10A9-47CC-95E0-BBE8052AA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A662-DF9E-4ABB-88CB-C471CFB85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3BED-DB10-462E-A04D-68636046D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D646-14E3-4B7B-A9AF-3982B8DBA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0989-6F11-4540-85A2-0F6099CC7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9972-6C55-44A6-8E73-C64F5323D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310E-3995-4324-8EAC-A494639DA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A8E2-F2BA-486D-B1F7-328B2AE78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1465-5D04-4606-B207-E2186ABD1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E7CA-CA17-41AC-ACB4-9879D30BC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06B6-767E-460B-9C8F-F751BB7DD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4DAC-067D-4733-95F3-8F05A1A91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CTIVES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N INEPT AND INCOMPETENT POLICE DETECTIVE IN THE FRENCH SÛRETÉ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333440" y="762120"/>
            <a:ext cx="6477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'S WORK WAS NARRATED BY DR. JOHN H. WAT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CULE POI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85760" y="762120"/>
            <a:ext cx="6972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USED HIS LITTLE GREY CELLS TO SOLVE CR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VIS  MCG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LIVED ABOARD "THE BUSTED FLUS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MAG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'S CONSTANT NEMESES WERE NAMED ZEUS AND APOL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3336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NCY  D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HAD BOYFRIEND NED AND BEST GIRLFRIEND GEOR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COLUM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76200" y="762120"/>
            <a:ext cx="6591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WAS ALWAYS PREPARED FOR R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SPECTOR  GAD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838080"/>
            <a:ext cx="7315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YBORG DETECTIVE GOT ASSISTANCE FROM HIS NIECE AND HER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LIA  PEAB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SOLVED CRIMES WHILE SHE DID ARCHEOLOGY IN EGYP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USED HIS LITTLE GREY CELLS TO SOLVE CR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NNIE  BRISC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34880" y="762120"/>
            <a:ext cx="8267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LAW &amp; ORDER" DETECTIVE WAS NAMED A LIVING LANDMARK BY THE NY LANDMARKS CONSERVAN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QUES  CLOUSE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1932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N INEPT AND INCOMPETENT POLICE DETECTIVE IN THE FRENCH SÛRE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LOCK  HOL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81160" y="762120"/>
            <a:ext cx="6781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'S WORK WAS NARRATED BY DR. JOHN H. WAT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LIVED ABOARD "THE BUSTED FLUS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'S CONSTANT NEMESES WERE NAMED ZEUS AND APOL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HAD BOYFRIEND NED AND BEST GIRLFRIEND GEOR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76200" y="761760"/>
            <a:ext cx="6591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WAS ALWAYS PREPARED FOR R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YBORG DETECTIVE GOT ASSISTANCE FROM HIS NIECE AND HER DO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SOLVED CRIMES WHILE SHE DID ARCHEOLOGY IN EGYP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LAW &amp; ORDER" DETECTIVE WAS NAMED A LIVING LANDMARK BY THE NY LANDMARKS CONSERVANC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1T17:18:17Z</dcterms:created>
  <dc:creator>Jennifer Budzinski</dc:creator>
  <dc:description/>
  <dc:language>en-US</dc:language>
  <cp:lastModifiedBy>Erich Friedman</cp:lastModifiedBy>
  <dcterms:modified xsi:type="dcterms:W3CDTF">2020-09-05T14:09:18Z</dcterms:modified>
  <cp:revision>352</cp:revision>
  <dc:subject/>
  <dc:title>Slide 1</dc:title>
</cp:coreProperties>
</file>