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ACD-2F87-45A1-9CDF-66F11FBE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343-2933-47B6-B399-9DB6A3C5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8420-3C17-486B-83F1-0BD359FE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04CD-1D08-4C3E-B420-84D6AA1E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0D68-0C47-4701-A0DD-83521C1F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200-18B2-4314-9DE7-696882B0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A2D0-18E6-4C25-9ED3-9EC35E98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F69F-A564-41C7-A2B4-BCE234EA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59D4-B145-4E69-828D-BF55A36C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ECB-2303-48A6-ABDD-339F828B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9D7-C810-4761-93AC-7F50EA20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B95-479E-4281-B085-1AD9130A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881-42A3-4598-A554-EA3B38A2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290-ED01-4FE9-BA66-43FE37C3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F35-6AA7-49A6-92CD-B6504C66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92C4-AB9B-40F3-96B6-30D46153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4B07-7192-4438-9B07-5CDC89DF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7F0-55F1-4432-8D49-9DF0BE6B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89F-756E-4B4B-946A-E7703945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BBF-98BD-4067-9A78-F9F8E7079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19E-C11F-478B-891C-CB24B60D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0B9-E0D6-436D-95EE-BF141EE8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32B0-3360-431C-BC43-7A786885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F  NUREY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83808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A  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  BE  PLAYED)  SOF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824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TE  GABRIEL  ROSS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420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 Y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FINISHED 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467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43:02Z</dcterms:created>
  <dc:creator>Jennifer Budzinski</dc:creator>
  <dc:description/>
  <dc:language>en-US</dc:language>
  <cp:lastModifiedBy>Erich Friedman</cp:lastModifiedBy>
  <dcterms:modified xsi:type="dcterms:W3CDTF">2020-12-16T13:50:42Z</dcterms:modified>
  <cp:revision>364</cp:revision>
  <dc:subject/>
  <dc:title>Slide 1</dc:title>
</cp:coreProperties>
</file>