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14B7-42B5-40B2-AB2A-EF4BEA77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E795-9416-41A3-9E10-E269FBA21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4CCC-70B7-4EDD-94C8-5B4D6099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093-FAD3-4CF8-A316-0BD7FA17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3ABC-910B-4674-AD0B-B950966B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4725-6398-4EAA-BD64-8629FBA9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5459-7261-4632-8C71-E6CF6B78A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16AE-E968-4DC5-B008-DFFE8972F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8C2-56F4-4D1B-9434-03E2FADF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701B-968E-4343-9296-6B4DDE2FF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E7AD-8AB2-4596-9195-122640D5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DA05-5D64-468A-B7C6-282158FA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BFF0-AB2F-4E7A-BD71-BC1B20FF2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0067-A639-4C83-89FE-252CB0651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B940-2A5D-4899-AA03-41C90429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C910-0C2A-43D1-BE86-41AA0E1AD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E69E-3A6F-4BA3-B244-01B3ED130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2A3-65F9-400D-9037-1511E393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B427-D8C0-4FAF-AF40-8AA566435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BB40-E0A3-40C6-9A78-332FEA97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8388-DE50-4746-BDB9-3F86B1EA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17E4-E637-44C1-9B86-A17F3594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62E-3987-432C-AA48-9B63AEF6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57120" y="15238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EDLEWORK, WHAT DOES "UF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NTINGS DID VAN GOGH SELL IN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F  NUREY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4400" y="83808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8-1993 RUSSIAN BALLET DANCER IS KNOWN FOR CHANGING THE FACE OF MODERN BA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A  L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AINTING "LA GIOCONDA" MORE USUAL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  BE  PLAYED)  SOF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TERM "PIANO"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824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ARTIST AND SCULPTOR CO-FOUNDED THE CUBIST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ALVES DOES A TRUMPE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TE  GABRIEL  ROSS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762120"/>
            <a:ext cx="8420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AINTED "HOW SIR GALAHAD, SIR BORS, AND SIR PERCIVAL WERE FED WITH THE SANC GRAEL; BUT SIR PERCIVAL'S SISTER DIED BY THE W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  Y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WERE PAINTING WITH TEMPERA, WHAT WOULD YOU BE USING TO BIND TOGETHER COLOR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8-1993 RUSSIAN BALLET DANCER IS KNOWN FOR CHANGING THE FACE OF MODERN BA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 FORM IS JOHN LEACH FAMOUS FOR MA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FINISHED 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467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EDLEWORK, WHAT DOES "UF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NTINGS DID VAN GOGH SELL IN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AINTING "LA GIOCONDA" MORE USUAL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TERM "PIANO"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ARTIST AND SCULPTOR CO-FOUNDED THE CUBIST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ALVES DOES A TRUMPE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AINTED "HOW SIR GALAHAD, SIR BORS, AND SIR PERCIVAL WERE FED WITH THE SANC GRAEL; BUT SIR PERCIVAL'S SISTER DIED BY THE WAY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WERE PAINTING WITH TEMPERA, WHAT WOULD YOU BE USING TO BIND TOGETHER COLOR PIG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 FORM IS JOHN LEACH FAMOUS FOR MA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23:43:02Z</dcterms:created>
  <dc:creator>Jennifer Budzinski</dc:creator>
  <dc:description/>
  <dc:language>en-US</dc:language>
  <cp:lastModifiedBy>Erich Friedman</cp:lastModifiedBy>
  <dcterms:modified xsi:type="dcterms:W3CDTF">2020-12-16T13:50:42Z</dcterms:modified>
  <cp:revision>364</cp:revision>
  <dc:subject/>
  <dc:title>Slide 1</dc:title>
</cp:coreProperties>
</file>