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B2FE-AEC9-44C0-B1D2-7CE4E4121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3481-B90D-44A7-A60C-318178D13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0159-2BAE-44F5-9E35-DC23779B4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BCB6-6F9D-4120-B121-98B508349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5C9D-543D-46CB-B587-BC070D4BB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2BC4-6729-4CBA-989F-D21B3CA36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9FD3-A5DE-49E0-B884-1DF4F17DE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FDDE-9F08-4495-92B0-E79F1AEEA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1688-E570-4C1C-A9D8-8C3F93FDE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729B-434E-4A70-9831-C1D8EDE95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3357-A161-4573-906F-99CE92DE5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7B7D-54E9-403B-B1F4-5A32D3F1F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4CD0-5838-40A3-8DC5-87374E7DF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E216-62C7-4EFE-BE82-44EE6C72E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23BF-8923-4DC9-9CCB-74538F889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B9DB-5715-4BAF-8DA7-7344E0ED8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A45B-16DE-4A2F-95D5-9D3B469F5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F5BD-91FA-4CAF-9BAA-3A72813E7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F043-1A13-41EF-9A74-7E1E2F59E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79A2-B3C1-44E2-9613-C72529B96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40B6-EB6B-44E2-AFD2-42628F9C2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76D5-9870-4CDF-A44D-4CC1E4F5B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83BC-8885-4FE0-838E-CA1C4BDE4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57120" y="152388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AR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NEEDLEWORK, WHAT DOES "UFO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447920" y="762120"/>
            <a:ext cx="6248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AINTINGS DID VAN GOGH SELL IN HIS LIFE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DOLF  NUREYE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14400" y="838080"/>
            <a:ext cx="76201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8-1993 RUSSIAN BALLET DANCER IS KNOWN FOR CHANGING THE FACE OF MODERN BALL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ONA  LI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219320" y="762120"/>
            <a:ext cx="6705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AINTING "LA GIOCONDA" MORE USUALLY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181160" y="4876920"/>
            <a:ext cx="6781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O  BE  PLAYED)  SOFT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66680" y="762120"/>
            <a:ext cx="70106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USIC, WHAT DOES THE TERM "PIANO" M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458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BLO  PICAS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00280" y="76824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ANISH ARTIST AND SCULPTOR CO-FOUNDED THE CUBIST MOV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VALVES DOES A TRUMPET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81160" y="487692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TE  GABRIEL  ROSSET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80880" y="762120"/>
            <a:ext cx="84204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PAINTED "HOW SIR GALAHAD, SIR BORS, AND SIR PERCIVAL WERE FED WITH THE SANC GRAEL; BUT SIR PERCIVAL'S SISTER DIED BY THE WAY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G  YO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181160" y="762120"/>
            <a:ext cx="6781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WERE PAINTING WITH TEMPERA, WHAT WOULD YOU BE USING TO BIND TOGETHER COLOR PIG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8-1993 RUSSIAN BALLET DANCER IS KNOWN FOR CHANGING THE FACE OF MODERN BALL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066680" y="4876920"/>
            <a:ext cx="701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TT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409760" y="762120"/>
            <a:ext cx="6324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T FORM IS JOHN LEACH FAMOUS FOR MA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0288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FINISHED  O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00280" y="762120"/>
            <a:ext cx="7467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NEEDLEWORK, WHAT DOES "UFO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486080" y="762120"/>
            <a:ext cx="6172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AINTINGS DID VAN GOGH SELL IN HIS LIFE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AINTING "LA GIOCONDA" MORE USUALLY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USIC, WHAT DOES THE TERM "PIANO" M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ANISH ARTIST AND SCULPTOR CO-FOUNDED THE CUBIST MOVE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09800" y="761760"/>
            <a:ext cx="7124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VALVES DOES A TRUMPET HA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PAINTED "HOW SIR GALAHAD, SIR BORS, AND SIR PERCIVAL WERE FED WITH THE SANC GRAEL; BUT SIR PERCIVAL'S SISTER DIED BY THE WAY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WERE PAINTING WITH TEMPERA, WHAT WOULD YOU BE USING TO BIND TOGETHER COLOR PIGM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409760" y="762120"/>
            <a:ext cx="6324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T FORM IS JOHN LEACH FAMOUS FOR MAK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7T23:43:02Z</dcterms:created>
  <dc:creator>Jennifer Budzinski</dc:creator>
  <dc:description/>
  <dc:language>en-US</dc:language>
  <cp:lastModifiedBy>Erich Friedman</cp:lastModifiedBy>
  <dcterms:modified xsi:type="dcterms:W3CDTF">2020-12-16T13:50:42Z</dcterms:modified>
  <cp:revision>364</cp:revision>
  <dc:subject/>
  <dc:title>Slide 1</dc:title>
</cp:coreProperties>
</file>