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5CF5-8A9F-431E-94F8-62C0974D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C91B-F7AB-469A-9F3B-868378647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0F05-ABA6-4D02-8B20-D1BA06F9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207D-E1FD-44F0-A02C-59163387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1FC9-DB28-4F22-91BA-3646AE68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7B1C-E0A2-4A8A-9767-82F7052E0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1322-F0B2-421B-90F9-28181DB9C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7BF2-1823-47C7-90A4-DE13E5DE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CF0E-8788-4559-AE3C-E93C82828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2486-B154-48C2-B26F-1E2403E7D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9A5-4ED0-4FF7-9941-C25543A2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FA32-2E2F-4C41-A495-3AFF2ED1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98FF-1A20-4205-A80A-43F176706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F6CF-B3F5-4990-B476-342F6F3CF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39ED-D653-41E1-805D-BB0C3603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26EC-DB3D-442F-86BF-53DBBFB82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F9B4-497B-4E94-9F82-94A7A62F1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E5DE-A821-451E-84A5-F52EFBDD4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9D92-BD0F-4074-AFD6-8E164DF2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F5D3-3AC4-4C64-A4D6-4B7528CFA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2AD0-1A38-41DB-ACF8-05373057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21C7-101B-4C07-AE48-8CE91B957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8A82-6438-437B-9CE1-32F69DB51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3716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RTOON CHARACTERS FROM THE SILHOUET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110040" y="1295280"/>
            <a:ext cx="2923920" cy="36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IOUS  GEO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98880" y="1295280"/>
            <a:ext cx="2946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SMANIAN  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95640" y="1333440"/>
            <a:ext cx="4752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X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76640" y="1295280"/>
            <a:ext cx="4590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KA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4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767040" y="1295280"/>
            <a:ext cx="1609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  AND  STIM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62160" y="1371600"/>
            <a:ext cx="4819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76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243240" y="1295280"/>
            <a:ext cx="265752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98880" y="1295280"/>
            <a:ext cx="2946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PECTOR  GA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911320" y="1295280"/>
            <a:ext cx="3321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30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THE  MAR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165480" y="1316160"/>
            <a:ext cx="2813040" cy="35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5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95640" y="1333440"/>
            <a:ext cx="475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76640" y="1295280"/>
            <a:ext cx="4590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718080" y="1295280"/>
            <a:ext cx="1707840" cy="37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62160" y="1371600"/>
            <a:ext cx="4819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209760" y="1295280"/>
            <a:ext cx="272448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72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4:00:32Z</dcterms:modified>
  <cp:revision>290</cp:revision>
  <dc:subject/>
  <dc:title>Slide 1</dc:title>
</cp:coreProperties>
</file>