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D9B-772D-429C-A651-78D887BC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33E-4FF8-46C6-8310-2ED0F35C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E42-0B83-4247-A5B4-93D64220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80B-8559-462E-9B67-7697E845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E9F7-C97D-4489-AC3A-E5F7C763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79D6-119D-4FFF-AC2E-90AD3C21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BAA-91FB-4666-B51E-E89B00E6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A1A-F700-4CB9-8FEA-25F9C014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AD7-9079-4EAE-ABCF-6C0110335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F640-3484-49BE-BA50-D38F322E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8E32-538D-4517-87BB-B2AC7978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26E-BDF2-4A6D-914B-5FD21B12B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A57F-B20C-40A7-9557-2FC3372D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8142-EA3B-4620-9DC2-7C0C7F8B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6DF0-DEB0-47A1-94D6-E135688F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B05-1BB8-420E-A5FD-A3BED65B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6DE2-A9E9-4A11-A4CD-BB1170A5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C72-E190-4C0A-9B9C-631D46F4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2FB3-8DF3-46DA-A841-D36BE274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398-0554-4C8E-ABFD-EA72A1D1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A703-1B43-48C7-B33C-BD87BDC51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03A6-A6DF-4D7D-99AB-CB020145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E16-0569-4C32-8B3E-374462D1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RTOON CHARACTERS FROM THE SILHOUET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10040" y="1295280"/>
            <a:ext cx="292392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IOUS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MANIAN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767040" y="1295280"/>
            <a:ext cx="1609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  AND  STIM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6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243240" y="1295280"/>
            <a:ext cx="26575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PECTOR  GA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11320" y="1295280"/>
            <a:ext cx="3321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3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THE  MAR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165480" y="1316160"/>
            <a:ext cx="2813040" cy="35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718080" y="1295280"/>
            <a:ext cx="170784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9760" y="1295280"/>
            <a:ext cx="272448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7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0:32Z</dcterms:modified>
  <cp:revision>290</cp:revision>
  <dc:subject/>
  <dc:title>Slide 1</dc:title>
</cp:coreProperties>
</file>