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08DF-5CB9-4C9B-B025-2AF0886A4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2188-2DFC-47CC-B15D-2E9067B22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1270E-D921-46AB-B203-612BCE91C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01B1-6F95-4477-A66D-B24AF20A9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86B3-8A21-4651-BB7D-D60498E47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AAB6-F8EC-4BD2-8695-A696ECCB4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3E58-7387-46B5-BFB1-5A5008C03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88C4-8F60-4A0F-9A57-5274338F6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B46D-BA32-48C9-A25B-672E59592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C67F-161F-41DB-8578-8C301DB99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1822-3775-4091-AEDB-05E7A532A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3A09-88E2-49FE-BC0E-512737612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C63F-3224-49D7-A8C4-DC68415FB3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8C6D-423D-43FC-AA99-5E8AFECF3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8E12-1620-4005-98B8-F379B48C4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2B12-369D-468C-9533-0C0AA9969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BC537-2ADE-4253-9CE5-C795797D0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77FA-A2ED-4D51-84AA-E870633AB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EE97-EB39-4DF0-8994-3C2C2A82D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57D2-9A78-4DBF-A0E3-26BDB1EBC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BBBA-FD16-4F82-8207-942C92965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C3A9-17C3-41E2-921C-BD899FB1E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D582-3AAA-4676-8333-C0B35A9BF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028520" y="137160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CARTOON CHARACTERS FROM THE SILHOUET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110040" y="1295280"/>
            <a:ext cx="2923920" cy="36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157560" y="1295280"/>
            <a:ext cx="282888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RIOUS  GEOR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098880" y="1295280"/>
            <a:ext cx="29462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SMANIAN  DEV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195640" y="1333440"/>
            <a:ext cx="4752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X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276640" y="1295280"/>
            <a:ext cx="4590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KACH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792520" y="1295280"/>
            <a:ext cx="3558960" cy="34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NK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767040" y="1295280"/>
            <a:ext cx="16099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N  AND  STIM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162160" y="1371600"/>
            <a:ext cx="48196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766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3243240" y="1295280"/>
            <a:ext cx="265752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098880" y="1295280"/>
            <a:ext cx="29462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SPECTOR  GAD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911320" y="1295280"/>
            <a:ext cx="33213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309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VIN  THE  MART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3165480" y="1316160"/>
            <a:ext cx="2813040" cy="355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R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157560" y="1295280"/>
            <a:ext cx="2828880" cy="358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95640" y="1333440"/>
            <a:ext cx="4752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276640" y="1295280"/>
            <a:ext cx="4590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792520" y="1295280"/>
            <a:ext cx="3558960" cy="34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718080" y="1295280"/>
            <a:ext cx="1707840" cy="372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62160" y="1371600"/>
            <a:ext cx="48196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209760" y="1295280"/>
            <a:ext cx="2724480" cy="36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809800" y="1295280"/>
            <a:ext cx="3524400" cy="372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12-16T14:00:32Z</dcterms:modified>
  <cp:revision>290</cp:revision>
  <dc:subject/>
  <dc:title>Slide 1</dc:title>
</cp:coreProperties>
</file>