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CF71B-32B1-46DA-B8EA-BDAE45A0AF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6DC93-E767-4FEE-90F8-38BB1B151B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D510E-E34C-4B0E-AC6D-9149640013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D1CAC-15E1-461F-9565-5A73B51E6E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F0F64-90F3-45DA-B715-A6501BDF27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B1562-4574-48D0-8721-CD0255D420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83550-3323-4AF7-BE68-9F1B8394B4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DCE97-520A-4315-A7CF-29997F238D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BF0A9-3FDF-43F8-9B1E-AF2D486277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739F9-C822-4642-B92D-0646330F96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C4EBB-D4C9-447E-98C7-C288DE1BAA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40AA8-9796-4C4E-8E10-E7FB35A50E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FAE00-E59D-4EF6-A110-CBF56A94C6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64930-F4BA-4777-80A6-D68E6444EB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D705F-C353-4B49-A702-858617A8A5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85BAD-B263-46A4-8CCC-343D9A138A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6FC37-9173-4369-AA3E-A8A70AF869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1CB88-02BE-49EC-BCB9-7987F09364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4C00E-9901-4503-B617-E44FEC3D02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D859F-75C8-40F6-A88C-8119D679D8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3E245-F05E-43E8-994C-89CF7C2E23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39728-DC5F-4A21-AFDB-784AC6F45C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DF4CD-22C6-4C12-BE0A-3A686608E4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44921-FBDE-4966-8D8C-7D479E8407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799920" y="68580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ELCOME TO THURSDAY NIGHT TRIVIA AT THE ELUSIVE GRAP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914400" y="762120"/>
            <a:ext cx="73152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HAS WON THE MOST ACADEMY AWARD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295280" y="761760"/>
            <a:ext cx="65534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ONGEST RIVER IN AUSTRALIA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HEAVIEST NATURALLY OCCURRING ELEMENT FOUND ON EARTH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3"/>
          <p:cNvSpPr/>
          <p:nvPr/>
        </p:nvSpPr>
        <p:spPr>
          <a:xfrm>
            <a:off x="990720" y="4952880"/>
            <a:ext cx="716256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E 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343080" y="762120"/>
            <a:ext cx="84582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THE ONLY FORMER HEAVYWEIGHT BOXING CHAMP TO BE BURIED IN ARLINGTON NATIONAL CEMETER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3"/>
          <p:cNvSpPr/>
          <p:nvPr/>
        </p:nvSpPr>
        <p:spPr>
          <a:xfrm>
            <a:off x="457200" y="4952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EORGE  WASHINGT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"/>
          <p:cNvSpPr/>
          <p:nvPr/>
        </p:nvSpPr>
        <p:spPr>
          <a:xfrm>
            <a:off x="1295280" y="762120"/>
            <a:ext cx="65534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PRESIDENT IS PICTURED ON THE PURPLE HEAR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3"/>
          <p:cNvSpPr/>
          <p:nvPr/>
        </p:nvSpPr>
        <p:spPr>
          <a:xfrm>
            <a:off x="45720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$2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2"/>
          <p:cNvSpPr/>
          <p:nvPr/>
        </p:nvSpPr>
        <p:spPr>
          <a:xfrm>
            <a:off x="1066680" y="762120"/>
            <a:ext cx="70106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UCH DO RAILROADS COST IN THE GAME OF MONOPOL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3"/>
          <p:cNvSpPr/>
          <p:nvPr/>
        </p:nvSpPr>
        <p:spPr>
          <a:xfrm>
            <a:off x="343080" y="4952880"/>
            <a:ext cx="84582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AMBO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2"/>
          <p:cNvSpPr/>
          <p:nvPr/>
        </p:nvSpPr>
        <p:spPr>
          <a:xfrm>
            <a:off x="723960" y="762120"/>
            <a:ext cx="7696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ASTEST GROWING PLAN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3"/>
          <p:cNvSpPr/>
          <p:nvPr/>
        </p:nvSpPr>
        <p:spPr>
          <a:xfrm>
            <a:off x="419040" y="4952880"/>
            <a:ext cx="83059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RETHA  FRANKL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"/>
          <p:cNvSpPr/>
          <p:nvPr/>
        </p:nvSpPr>
        <p:spPr>
          <a:xfrm>
            <a:off x="685800" y="762120"/>
            <a:ext cx="77724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FIRST WOMAN INDUCTED INTO THE ROCK AND ROLL HALL OF FA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3"/>
          <p:cNvSpPr/>
          <p:nvPr/>
        </p:nvSpPr>
        <p:spPr>
          <a:xfrm>
            <a:off x="457200" y="495288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CUAD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2"/>
          <p:cNvSpPr/>
          <p:nvPr/>
        </p:nvSpPr>
        <p:spPr>
          <a:xfrm>
            <a:off x="1066680" y="762120"/>
            <a:ext cx="701064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QUITO IS THE CAPITAL OF WHAT SOUTH AMERICAN COUNTR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914400" y="1523880"/>
            <a:ext cx="7315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ISCELLANEOU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3"/>
          <p:cNvSpPr/>
          <p:nvPr/>
        </p:nvSpPr>
        <p:spPr>
          <a:xfrm>
            <a:off x="152280" y="4952880"/>
            <a:ext cx="88394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OLLER  DERB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"/>
          <p:cNvSpPr/>
          <p:nvPr/>
        </p:nvSpPr>
        <p:spPr>
          <a:xfrm>
            <a:off x="1009800" y="762120"/>
            <a:ext cx="71244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SPORT DOES A JAMMER SCORE A POINT FOR EACH OPPONENT SHE SKATES PA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3"/>
          <p:cNvSpPr/>
          <p:nvPr/>
        </p:nvSpPr>
        <p:spPr>
          <a:xfrm>
            <a:off x="457200" y="495288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ALT  DISN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2"/>
          <p:cNvSpPr/>
          <p:nvPr/>
        </p:nvSpPr>
        <p:spPr>
          <a:xfrm>
            <a:off x="876240" y="762120"/>
            <a:ext cx="739152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HAS WON THE MOST ACADEMY AWARD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3"/>
          <p:cNvSpPr/>
          <p:nvPr/>
        </p:nvSpPr>
        <p:spPr>
          <a:xfrm>
            <a:off x="0" y="4952880"/>
            <a:ext cx="91440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URRAY  RIV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2"/>
          <p:cNvSpPr/>
          <p:nvPr/>
        </p:nvSpPr>
        <p:spPr>
          <a:xfrm>
            <a:off x="1523880" y="762120"/>
            <a:ext cx="609624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ONGEST RIVER IN AUSTRALI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URANIU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609480" y="762120"/>
            <a:ext cx="792504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HEAVIEST NATURALLY OCCURRING ELEMENT FOUND ON EARTH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342720" y="762120"/>
            <a:ext cx="84582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THE ONLY FORMER HEAVYWEIGHT BOXING CHAMP TO BE BURIED IN ARLINGTON NATIONAL CEMETER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1104840" y="761760"/>
            <a:ext cx="69343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PRESIDENT IS PICTURED ON THE PURPLE HEAR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1104840" y="762120"/>
            <a:ext cx="69343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UCH DO RAILROADS COST IN THE GAME OF MONOPOL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723960" y="762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ASTEST GROWING PLAN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647640" y="761760"/>
            <a:ext cx="7848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FIRST WOMAN INDUCTED INTO THE ROCK AND ROLL HALL OF FAM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1066680" y="761760"/>
            <a:ext cx="70106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QUITO IS THE CAPITAL OF WHAT SOUTH AMERICAN COUNTR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933480" y="761760"/>
            <a:ext cx="72770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SPORT DOES A JAMMER SCORE A POINT FOR EACH OPPONENT SHE SKATES PAS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7T17:31:44Z</dcterms:created>
  <dc:creator>Jennifer Budzinski</dc:creator>
  <dc:description/>
  <dc:language>en-US</dc:language>
  <cp:lastModifiedBy>Erich Friedman</cp:lastModifiedBy>
  <dcterms:modified xsi:type="dcterms:W3CDTF">2021-09-21T16:14:29Z</dcterms:modified>
  <cp:revision>345</cp:revision>
  <dc:subject/>
  <dc:title>Slide 1</dc:title>
</cp:coreProperties>
</file>