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7B1F-6892-4AF3-92CF-46B51656D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A9B2-2488-4CA3-8D74-82A939EC3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15E3-1470-4FD8-9315-66ADEA2E5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4637-DBD7-49B3-BA9F-7F97CE076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CC57-19DF-403C-BF5A-DE2E11D9C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D163-B2ED-40DE-92AB-D317ECB4D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7A22-421B-480E-8473-42CBA9DDF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BF18-34E7-4F80-A5B5-6854238C2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E514-0EC6-4194-B75F-41BB8349D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B6AC-A0F6-4DB8-BEF1-636F27B58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7EA3-C5D0-497C-AB96-3663E77C9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6CEB-C0E7-4181-8DD0-ED1EABECD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FE42-8A21-44DC-9183-E578ADB2D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6A79-B453-46C4-AA98-660B4AC66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4C64-0E06-4AEC-9082-A9303B6679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FA820-B127-4ECC-B058-D632F218A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32B7-FA1C-4C99-806F-73189CB67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F12E-C13E-4AAD-A080-4A376AF9C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D5A9A-DCDF-4FBA-A764-38EDDC9B6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E925-6FA4-42BD-888F-9303DBB66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4993-A093-4D2A-AA0D-CAB0B60D1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5427-4E36-440C-98AD-948E95F3E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3E84-FCE7-43A8-8EE3-B0D9D54AC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F871-0DA7-4961-B242-7B25ECC0E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THE MOST ACADEMY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RIVER IN AUSTRAL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EAVIEST NATURALLY OCCURRING ELEMENT FOUND ON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43080" y="762120"/>
            <a:ext cx="84582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FORMER HEAVYWEIGHT BOXING CHAMP TO BE BURIED IN ARLINGTON NATIONAL CEMETE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ESIDENT IS PICTURED ON THE PURPLE HE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DO RAILROADS COST IN THE GAME OF MONOPO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43080" y="4952880"/>
            <a:ext cx="8458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MB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GROWING PLA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19040" y="49528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ETHA  FRANK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OMAN INDUCTED INTO THE ROCK AND ROLL HALL OF F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CU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1066680" y="762120"/>
            <a:ext cx="70106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ITO IS THE CAPITAL OF WHAT SOUTH AMERICAN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4400" y="15238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52280" y="4952880"/>
            <a:ext cx="8839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LLER  DER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1009800" y="762120"/>
            <a:ext cx="7124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DOES A JAMMER SCORE A POINT FOR EACH OPPONENT SHE SKATES P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  DIS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THE MOST ACADEMY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0" y="49528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RRAY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1523880" y="762120"/>
            <a:ext cx="6096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ONGEST RIVER IN AUSTRAL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AN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EAVIEST NATURALLY OCCURRING ELEMENT FOUND ON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ONLY FORMER HEAVYWEIGHT BOXING CHAMP TO BE BURIED IN ARLINGTON NATIONAL CEMETE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PRESIDENT IS PICTURED ON THE PURPLE HE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UCH DO RAILROADS COST IN THE GAME OF MONOPO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STEST GROWING PLA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WOMAN INDUCTED INTO THE ROCK AND ROLL HALL OF F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ITO IS THE CAPITAL OF WHAT SOUTH AMERICAN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SPORT DOES A JAMMER SCORE A POINT FOR EACH OPPONENT SHE SKATES PA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7T17:31:44Z</dcterms:created>
  <dc:creator>Jennifer Budzinski</dc:creator>
  <dc:description/>
  <dc:language>en-US</dc:language>
  <cp:lastModifiedBy>Erich Friedman</cp:lastModifiedBy>
  <dcterms:modified xsi:type="dcterms:W3CDTF">2021-09-21T16:14:29Z</dcterms:modified>
  <cp:revision>345</cp:revision>
  <dc:subject/>
  <dc:title>Slide 1</dc:title>
</cp:coreProperties>
</file>