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4BA0-3F0B-4BB1-A104-F56D9FAF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5DF3-AE84-4196-8E11-5D6EEDD2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4CF-02F8-4A6F-8E5F-340B80C7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F30-DD2D-4E9C-84C6-8434BAEA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F744-93F1-4222-A24C-4562EC375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0F1-D222-4E9B-9C60-AD1C2724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733-9DF3-47C0-A19A-0B40F7A0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03EE-1079-4AED-9F9D-C0DA9B45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8CE-3640-4A08-B99A-537A1AAE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55C7-B965-4388-9D70-C4329871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F5D3-EEE6-46C9-BEC9-C3A56ECD6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19E-9970-43D5-99B7-33BC3292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503-9224-45C7-9D41-DA9C54BC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F41-FC5A-48F3-9768-DC302BF0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89B-5675-411D-BCB2-0925B0B3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F055-F772-4502-B680-7868C95B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8E5-7484-4849-B43B-3303334C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8E40-9A44-4CCA-8EE6-50DA8227F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CBAE-3ECA-4107-986A-1B4C798A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71A-2477-4E41-9107-A0434B85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75D-4244-4F66-8100-3C3F7E37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1D7-199E-4B0B-A461-CB10AC71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71AD-5584-4AF7-BE85-D3791D65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PLE CHOICE (THANKS SYLVI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UBJECT DOES "MR. BEAN" ACTOR ROWAN ATKINSON HAVE A MASTERS DEGREE IN?  ECONOMICS, ELEMENTARY EDUCATION, OR ELECTRICAL ENGINEE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MANY DIMPLES DO MOST GOLF BALLS HAVE?  150, 250, OR 3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NCER  AT  A  NIGHT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7120" y="762120"/>
            <a:ext cx="788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DID POPE FRANCIS HAVE EARLIER IN HIS LIFE?  PAROLE OFFICER, ANIMAL TRAINER, OR BOUNCER AT A NIGHT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9680" y="762120"/>
            <a:ext cx="7064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ORIGINALLY ASSOCIATED WITH ST. PATRICK'S DAY?  BLUE, RED, OR O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MILLICENT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1160" y="762120"/>
            <a:ext cx="85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ARBIE'S FULL NAME?  BARBARA IRENE JOHNSON, BARBARA MILLICENT ROBERTS, OR BARBARA JANE R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ON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480" y="762120"/>
            <a:ext cx="896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PANISH TRANSLATION OF "TERMINATOR 2", WHAT DOES THE TERMINATOR SAY INSTEAD OF "HASTA LA VISTA"?  AU REVOIR, SAYONARA, OR AUF WIEDERSEHEN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1520" y="762120"/>
            <a:ext cx="840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ACTOR BORN ISSUR DANIELOVITCH DEMSKY CHANGE HIS NAME TO?  MARLON BRANDO, HUMPHREY BOGART, OR KIRK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P  F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30040" y="762120"/>
            <a:ext cx="8682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ULT MOVIE IS EVERY CLOCK SET TO 4:20?  "SIN CITY",    "PULP FICTION", OR "ROCKY HORROR PICTURE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000" y="762120"/>
            <a:ext cx="86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LTURE WAS THE FIRST TO ESTABLISH THE 7-DAY WEEK?  THE BABYLONIANS, THE CHINESE, OR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DID POPE FRANCIS HAVE EARLIER IN HIS LIFE?  PAROLE OFFICER, ANIMAL TRAINER, OR BOUNCER AT A NIGHT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3520" y="762120"/>
            <a:ext cx="861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GGESTED THAT MORTIMER MOUSE SHOULD INSTEAD BY NAMED MICKEY?  WALT DISNEY, HIS WIFE LILLIAN, OR HIS DAUGHTER DI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280" y="762120"/>
            <a:ext cx="889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UBJECT DOES "MR. BEAN" ACTOR ROWAN ATKINSON HAVE A MASTERS DEGREE IN?  ECONOMICS, ELEMENTARY EDUCATION, OR ELECTR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50960" y="762120"/>
            <a:ext cx="764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MANY DIMPLES DO MOST GOLF BALLS HAVE?  150, 250, OR 3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ORIGINALLY ASSOCIATED WITH ST. PATRICK'S DAY?  BLUE, RED, OR O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79360" y="762120"/>
            <a:ext cx="858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ARBIE'S FULL NAME?  BARBARA IRENE JOHNSON, BARBARA MILLICENT ROBERTS, OR BARBARA JANE R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720" y="762120"/>
            <a:ext cx="9110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PANISH TRANSLATION OF "TERMINATOR 2", WHAT DOES THE TERMINATOR SAY INSTEAD OF "HASTA LA VISTA"?  AU REVOIR, SAYONARA, OR AUF WIEDERSE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ACTOR BORN ISSUR DANIELOVITCH DEMSKY CHANGE HIS NAME TO?  MARLON BRANDO, HUMPHREY BOGART, OR KIRK DOUG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9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ULT MOVIE IS EVERY CLOCK SET TO 4:20?  "SIN CITY",    "PULP FICTION", OR "ROCKY HORROR PICTURE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7840" y="761760"/>
            <a:ext cx="878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LTURE WAS THE FIRST TO ESTABLISH THE 7-DAY WEEK?  THE BABYLONIANS, THE CHINESE, OR THE GREE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2520" y="761760"/>
            <a:ext cx="877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GGESTED THAT MORTIMER MOUSE SHOULD INSTEAD BY NAMED MICKEY?  WALT DISNEY, HIS WIFE LILLIAN, OR HIS DAUGHTER DI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8-29T16:28:03Z</dcterms:modified>
  <cp:revision>380</cp:revision>
  <dc:subject/>
  <dc:title>Slide 1</dc:title>
</cp:coreProperties>
</file>