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AEE6-7D0C-432D-ACC5-66093087E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7F61-2914-49BD-80E2-17998D9C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F3F0-C198-4AE5-A511-D17D6E109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D8F9-5DB7-40C0-9D47-2676D2762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ABE0-3E14-4485-8323-D3F659BC2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37CE-9A2F-4C63-A9B5-1793B8AB0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FD40-E638-4B3A-89EA-726CB7476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8CB4-69BB-4A7A-A92C-456DCFAFD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C92-DD58-4051-8687-FE4CD784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F79C-8FC4-45BD-AA34-8EAF88C8F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17DE-0599-4F19-AAE8-752616B23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B5FD-70E8-4474-9FED-B940DEEC2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D9D6-62C9-48A3-A1D6-80B8942C6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654A-8FA4-4FC1-8C47-9669BE0D9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A0E0-4AD9-4E14-AC4E-56D9663B4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26979-7B4C-4C87-A509-E6577DD1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D9F1-840B-4C1E-ACE2-9C508C2E7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5D02-6198-41E0-9250-12BBBD3D7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329B-7DAD-4F83-A223-72C7E271B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3CE8-281B-4E81-B5F0-0F3987221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92FA-1C1B-48EB-A57A-A4EABD291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1CB3-B6A9-4A5F-9B10-8B98E4BE7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82DB-EA88-4D68-A134-466D5184C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LTIPLE CHOICE (THANKS SYLVIA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5920" y="761760"/>
            <a:ext cx="891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UBJECT DOES "MR. BEAN" ACTOR ROWAN ATKINSON HAVE A MASTERS DEGREE IN?  ECONOMICS, ELEMENTARY EDUCATION, OR ELECTRICAL ENGINEER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OW MANY DIMPLES DO MOST GOLF BALLS HAVE?  150, 250, OR 3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UNCER  AT  A  NIGHT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27120" y="762120"/>
            <a:ext cx="788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ATION DID POPE FRANCIS HAVE EARLIER IN HIS LIFE?  PAROLE OFFICER, ANIMAL TRAINER, OR BOUNCER AT A NIGHT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39680" y="762120"/>
            <a:ext cx="7064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ORIGINALLY ASSOCIATED WITH ST. PATRICK'S DAY?  BLUE, RED, OR ORAN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BARA  MILLICENT  ROB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81160" y="762120"/>
            <a:ext cx="858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ARBIE'S FULL NAME?  BARBARA IRENE JOHNSON, BARBARA MILLICENT ROBERTS, OR BARBARA JANE RED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ONA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7480" y="762120"/>
            <a:ext cx="8967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PANISH TRANSLATION OF "TERMINATOR 2", WHAT DOES THE TERMINATOR SAY INSTEAD OF "HASTA LA VISTA"?  AU REVOIR, SAYONARA, OR AUF WIEDERSEHEN?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RK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1520" y="762120"/>
            <a:ext cx="840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ACTOR BORN ISSUR DANIELOVITCH DEMSKY CHANGE HIS NAME TO?  MARLON BRANDO, HUMPHREY BOGART, OR KIRK DOUGL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P  FI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30040" y="762120"/>
            <a:ext cx="8682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ULT MOVIE IS EVERY CLOCK SET TO 4:20?  "SIN CITY",    "PULP FICTION", OR "ROCKY HORROR PICTURE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LONI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43000" y="762120"/>
            <a:ext cx="86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LTURE WAS THE FIRST TO ESTABLISH THE 7-DAY WEEK?  THE BABYLONIANS, THE CHINESE, OR THE GREE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1120" y="762120"/>
            <a:ext cx="7780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CCUPATION DID POPE FRANCIS HAVE EARLIER IN HIS LIFE?  PAROLE OFFICER, ANIMAL TRAINER, OR BOUNCER AT A NIGHT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  W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63520" y="762120"/>
            <a:ext cx="861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GGESTED THAT MORTIMER MOUSE SHOULD INSTEAD BY NAMED MICKEY?  WALT DISNEY, HIS WIFE LILLIAN, OR HIS DAUGHTER DIA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ICAL 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25280" y="762120"/>
            <a:ext cx="88934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SUBJECT DOES "MR. BEAN" ACTOR ROWAN ATKINSON HAVE A MASTERS DEGREE IN?  ECONOMICS, ELEMENTARY EDUCATION, OR ELECTRICAL ENGINEER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50960" y="762120"/>
            <a:ext cx="764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BOUT HOW MANY DIMPLES DO MOST GOLF BALLS HAVE?  150, 250, OR 35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33560" y="761760"/>
            <a:ext cx="7076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WAS ORIGINALLY ASSOCIATED WITH ST. PATRICK'S DAY?  BLUE, RED, OR ORAN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79360" y="762120"/>
            <a:ext cx="8585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BARBIE'S FULL NAME?  BARBARA IRENE JOHNSON, BARBARA MILLICENT ROBERTS, OR BARBARA JANE REDD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8720" y="762120"/>
            <a:ext cx="9110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 THE SPANISH TRANSLATION OF "TERMINATOR 2", WHAT DOES THE TERMINATOR SAY INSTEAD OF "HASTA LA VISTA"?  AU REVOIR, SAYONARA, OR AUF WIEDERSEH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THE ACTOR BORN ISSUR DANIELOVITCH DEMSKY CHANGE HIS NAME TO?  MARLON BRANDO, HUMPHREY BOGART, OR KIRK DOUGL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96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ULT MOVIE IS EVERY CLOCK SET TO 4:20?  "SIN CITY",    "PULP FICTION", OR "ROCKY HORROR PICTURE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7840" y="761760"/>
            <a:ext cx="8788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ULTURE WAS THE FIRST TO ESTABLISH THE 7-DAY WEEK?  THE BABYLONIANS, THE CHINESE, OR THE GREE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82520" y="761760"/>
            <a:ext cx="877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GGESTED THAT MORTIMER MOUSE SHOULD INSTEAD BY NAMED MICKEY?  WALT DISNEY, HIS WIFE LILLIAN, OR HIS DAUGHTER DIA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8-29T16:28:03Z</dcterms:modified>
  <cp:revision>380</cp:revision>
  <dc:subject/>
  <dc:title>Slide 1</dc:title>
</cp:coreProperties>
</file>