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7051B-7717-4112-B253-2D6C404377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B16EB-1156-44FE-8904-305550953E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D9DA5-1B4A-4F12-8EE6-9AB649761F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8B334-CF19-4D6D-9539-0CEFDD68DF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9D713-5521-4169-898C-16D3E993E6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10D98-65CF-4FF7-B5C6-C77F27483A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EA1C1-9EBD-4075-B03F-6A9BB323C1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E9C2F-6CCB-45FF-A21E-29389BA7BB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EAB87-9AA8-4704-B09C-C9A37A07A9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C93CB-6082-43F3-92A3-F23C722E5C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B12FE-D8FB-4057-B772-2400C955A9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961C4-CCEE-40D7-84AB-642F1970CB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DDEB0-A51F-4E5F-B142-58E89F357B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5DCAB-B776-4AFC-93C2-7308C36D39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4C53F-734C-46EE-868C-64D5123BE0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91CEE-0C8E-4630-B509-F2B40EA16C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CC82B-BD47-4917-8017-535F90858D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B8C0A-FEA5-4E2F-B3BD-C927FCB252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0FBC5-86EC-4BB5-BF91-7FCB793727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9E5BE-4A70-4405-A265-CE44EF0225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4C8E9-41B3-462A-81A6-56B3862D95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5DFA6-12A5-4770-B3BB-7A70B85DBE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745D3-BA69-4D4A-98AA-2B3A4EB4A8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-214920" y="16668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333440" y="1066680"/>
            <a:ext cx="647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USIC              (THANKS MARGIE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214200" y="761760"/>
            <a:ext cx="8715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CORDING TO THE 1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ENTURY LAWS OF WALES, THE 3 INDISPENSABLE ITEMS FOR A GENTLEMAN WERE HIS CLOAK, CHESSBOARD, AND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318960" y="762120"/>
            <a:ext cx="85060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IS REPRESENTED BY THESE NOT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2438280" y="2743200"/>
            <a:ext cx="4267440" cy="221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838080" y="4952880"/>
            <a:ext cx="74678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OFT,  SOSTENUTO  &amp;  SUST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925560" y="762120"/>
            <a:ext cx="72914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3 PEDALS ON A PIANO FOR?  (HINT: THEY ALL BEGIN WITH "S"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952880"/>
            <a:ext cx="82296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  MAJOR  &amp;  A  MIN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353880" y="762120"/>
            <a:ext cx="843624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AJOR AND MINOR KEYS HAVE NO SHARPS OR FLA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BO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693720" y="762120"/>
            <a:ext cx="7755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NSTRUMENT IS USED TO TUNE AN ORCHESTR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34308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MPET  HAS  FINGER  BUTT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709560" y="762120"/>
            <a:ext cx="7724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AJOR DIFFERENCE BETWEEN A TRUMPET AND BUG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LF  R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439560" y="762120"/>
            <a:ext cx="82648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IS SYMBOL MEAN IN MUSIC SCOR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" descr=""/>
          <p:cNvPicPr/>
          <p:nvPr/>
        </p:nvPicPr>
        <p:blipFill>
          <a:blip r:embed="rId1"/>
          <a:stretch/>
        </p:blipFill>
        <p:spPr>
          <a:xfrm>
            <a:off x="2349360" y="2792520"/>
            <a:ext cx="4445280" cy="1577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3 /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290520" y="762120"/>
            <a:ext cx="8562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COMMON TIME SIGNATURE FOR A WALTZ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3"/>
          <p:cNvSpPr/>
          <p:nvPr/>
        </p:nvSpPr>
        <p:spPr>
          <a:xfrm>
            <a:off x="1143000" y="4952880"/>
            <a:ext cx="685800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401760" y="762120"/>
            <a:ext cx="83404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EZZO-SOPRANO IS THE RANGE BETWEEN SOPRANO AND WHAT OTHER RANG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960480" y="762120"/>
            <a:ext cx="7221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3 PEDALS ON A PIANO FOR?  (HINT: THEY ALL BEGIN WITH "S"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LALAI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304920" y="762120"/>
            <a:ext cx="85341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USSIAN STRINGED INSTRUMENT WITH A TRIANGULAR BODY WAS FEATURED IN "DR. ZHIVAGO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R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264960" y="762120"/>
            <a:ext cx="861228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CORDING TO THE 1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ENTURY LAWS OF WALES, THE 3 INDISPENSABLE ITEMS FOR A GENTLEMAN WERE HIS CLOAK, CHESSBOARD, AND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G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"/>
          <p:cNvSpPr/>
          <p:nvPr/>
        </p:nvSpPr>
        <p:spPr>
          <a:xfrm>
            <a:off x="514440" y="746280"/>
            <a:ext cx="81151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IS REPRESENTED BY THESE NOT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3" descr=""/>
          <p:cNvPicPr/>
          <p:nvPr/>
        </p:nvPicPr>
        <p:blipFill>
          <a:blip r:embed="rId1"/>
          <a:stretch/>
        </p:blipFill>
        <p:spPr>
          <a:xfrm>
            <a:off x="2514600" y="2743200"/>
            <a:ext cx="4114800" cy="2131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85760" y="761760"/>
            <a:ext cx="87724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AJOR AND MINOR KEYS HAVE NO SHARPS OR FLAT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693720" y="762120"/>
            <a:ext cx="7756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NSTRUMENT IS USED TO TUNE AN ORCHESTR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143000" y="762120"/>
            <a:ext cx="68580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AJOR DIFFERENCE BETWEEN A TRUMPET AND BUG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80880" y="761760"/>
            <a:ext cx="838224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IS SYMBOL MEAN IN MUSIC SCOR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5" descr=""/>
          <p:cNvPicPr/>
          <p:nvPr/>
        </p:nvPicPr>
        <p:blipFill>
          <a:blip r:embed="rId1"/>
          <a:stretch/>
        </p:blipFill>
        <p:spPr>
          <a:xfrm>
            <a:off x="2349360" y="2792520"/>
            <a:ext cx="4445280" cy="157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81080" y="761760"/>
            <a:ext cx="87818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COMMON TIME SIGNATURE FOR A WALTZ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82680" y="761760"/>
            <a:ext cx="83786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EZZO-SOPRANO IS THE RANGE BETWEEN SOPRANO AND WHAT OTHER RANG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232920" y="761760"/>
            <a:ext cx="8675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USSIAN STRINGED INSTRUMENT WITH A TRIANGULAR BODY WAS FEATURED IN "DR. ZHIVAGO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2T15:54:55Z</dcterms:created>
  <dc:creator>Jennifer Budzinski</dc:creator>
  <dc:description/>
  <dc:language>en-US</dc:language>
  <cp:lastModifiedBy>Erich Friedman</cp:lastModifiedBy>
  <dcterms:modified xsi:type="dcterms:W3CDTF">2021-01-14T12:54:31Z</dcterms:modified>
  <cp:revision>404</cp:revision>
  <dc:subject/>
  <dc:title>Slide 1</dc:title>
</cp:coreProperties>
</file>