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DF7F-6F54-4E45-9CD0-68A608096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871A-3EEF-4E75-BA77-5FC09F660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E1AD-CF48-4439-80EF-7D1AD28B0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4C6-BCF7-400D-8BED-91216349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0689-2379-4657-ADFF-DC814E2B8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BDC8-AD05-4004-9746-59489E01C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00DE-5DF3-491E-AA66-2AAD605E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84DF-1EF3-4C37-8FFD-80410F54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C473-DC9F-49F5-B132-182D80DE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5119-7D49-4310-BEE6-A6A138DEF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D3EC-A67C-4B51-BFE9-EA8AACE1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CAE7-09B7-4CFE-B08E-7B7656E4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3D5C-0CF6-4F09-92BA-45FEE0C8F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E9F5-9CE0-42E9-8E17-15E0EF03D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9BA2-3346-46D0-9918-C8C3D353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A003-079B-45DB-9DA6-0AB9C286B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A981-170F-43FA-B1C5-01FC252CB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EF01-7A43-41A5-8EAA-B668BB4A6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99B9-7E80-4354-84FC-02FC53D2E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1513-D220-4BF2-9F8B-6D5241C7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0DF5-0F5A-4EBE-A4F2-CFED6D6E2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5870-3ACC-4657-827D-7CDB31F12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72F-1AFE-48B4-ACD0-E2701203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            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LAWS OF WALES, THE 3 INDISPENSABLE ITEMS FOR A GENTLEMAN WERE HIS CLOAK, CHESSBOARD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ESE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267440" cy="22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9528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FT,  SOSTENUTO  &amp;  SUS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25560" y="762120"/>
            <a:ext cx="72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PEDALS ON A PIANO FOR?  (HINT: THEY ALL BEGIN WITH "S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  MAJOR  &amp;  A  MI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53880" y="762120"/>
            <a:ext cx="8436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AND MINOR KEYS HAVE NO SHARPS OR FLA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3720" y="762120"/>
            <a:ext cx="77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TUNE AN ORCHES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ET  HAS  FINGER 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9560" y="76212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JOR DIFFERENCE BETWEEN A TRUMPET AND BU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F  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 SCO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349360" y="2792520"/>
            <a:ext cx="4445280" cy="157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/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90520" y="762120"/>
            <a:ext cx="856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IME SIGNATURE FOR A WALT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01760" y="762120"/>
            <a:ext cx="834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ZZO-SOPRANO IS THE RANGE BETWEEN SOPRANO AND WHAT OTHER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PEDALS ON A PIANO FOR?  (HINT: THEY ALL BEGIN WITH "S"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ALA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STRINGED INSTRUMENT WITH A TRIANGULAR BODY WAS FEATURED IN "DR. ZHIVA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64960" y="762120"/>
            <a:ext cx="8612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LAWS OF WALES, THE 3 INDISPENSABLE ITEMS FOR A GENTLEMAN WERE HIS CLOAK, CHESSBOARD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G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14440" y="74628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RESENTED BY THESE NO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514600" y="2743200"/>
            <a:ext cx="4114800" cy="213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AND MINOR KEYS HAVE NO SHARPS OR FLA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93720" y="762120"/>
            <a:ext cx="775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TUNE AN ORCHES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JOR DIFFERENCE BETWEEN A TRUMPET AND BU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 SCO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349360" y="2792520"/>
            <a:ext cx="444528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1080" y="761760"/>
            <a:ext cx="8781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TIME SIGNATURE FOR A WALT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ZZO-SOPRANO IS THE RANGE BETWEEN SOPRANO AND WHAT OTHER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STRINGED INSTRUMENT WITH A TRIANGULAR BODY WAS FEATURED IN "DR. ZHIVA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1-14T12:54:31Z</dcterms:modified>
  <cp:revision>404</cp:revision>
  <dc:subject/>
  <dc:title>Slide 1</dc:title>
</cp:coreProperties>
</file>