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4AF5-0B0D-4AA5-BD02-40420BE9D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1AD6-9BF6-4328-B900-AE39CD67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298E-1756-4785-A30B-B46DB8B7A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A5ED-944F-4508-9EF3-C8F74B8ED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CB0B-2B54-476A-B6BC-B795E4F8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C318-729A-424F-8D33-712D63F8B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C75F-B911-44F2-830C-1955B0329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F69F-2F46-4F01-83B3-602A9A148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3D3E-69CD-477D-9F47-6C3474A71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9651-5693-4BE0-BE7D-988B5F2C1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C407-5F88-4C1F-BA44-81468E900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98E3-635E-49E8-8158-B75A65F81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AD91-6AF7-4EFE-97AE-F9C945CFA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A4F8-BABD-4ECF-BFBD-A217114BE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F8B8-1AF2-4CD9-9F60-6759CFFB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635E-DF88-4D75-B715-A78B11756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9A28-E19D-473B-AEB5-A0DB7EC5B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A984-0987-43E0-BD72-255C47416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6DAA-45FF-4A46-8EE6-CFD397C47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DE52-CAAE-46D5-9219-E25540CB2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A62F-B99C-4492-A605-D1616A26D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5A8C-B385-460D-851D-171E1E59C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710D-38A6-4735-AD55-D7086F992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ROCKIN' ROBIN" IN 195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HRISTOPHER ROBIN'S MOST FAMOUS FICTIONAL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GRA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BATMAN'S ORIGINAL SIDEKICK ROB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I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62120"/>
            <a:ext cx="7277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MANUFACTURER MADE A 3-WHEELED CAR CALLED THE ROBIN FOR 3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D  MA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IRLFRIEND OF ROBIN 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AMES ARE PLAYED IN A ROUND-ROBIN TOURNAMENT BETWEEN     10 DIFFERENT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WAS ROBIN WILLIAMS NOMINATED FOR AN OSCAR?  2, 4, OR 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E  G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6240" y="762120"/>
            <a:ext cx="739152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IN GIBB WAS A MEMBER OF WHAT POP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RRED 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BIN THICKE'S ONLY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BATMAN'S ORIGINAL SIDEKICK ROB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62040" y="426708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,  WISCONSIN,  or  CONNECTI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52600" y="762120"/>
            <a:ext cx="8038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MERICAN ROBIN IS THE STATE BIRD OF 3 U.S. STATES.  NAME ANY ONE OF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ROCKIN' ROBIN" IN 195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NIE–THE–PO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HRISTOPHER ROBIN'S MOST FAMOUS FICTIONAL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MANUFACTURER MADE A 3-WHEELED CAR CALLED THE ROBIN FOR 3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IRLFRIEND OF ROBIN 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AMES ARE PLAYED IN A ROUND-ROBIN TOURNAMENT BETWEEN     10 DIFFERENT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WAS ROBIN WILLIAMS NOMINATED FOR AN OSCAR?  2, 4, OR 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66880" y="761760"/>
            <a:ext cx="74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IN GIBB WAS A MEMBER OF WHAT POP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BIN THICKE'S ONLY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MERICAN ROBIN IS THE STATE BIRD OF 3 U.S. STATES.  NAME ANY ONE OF 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1-03-03T17:04:10Z</dcterms:modified>
  <cp:revision>356</cp:revision>
  <dc:subject/>
  <dc:title>Slide 1</dc:title>
</cp:coreProperties>
</file>