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55D4-B18A-4E24-9AF3-11E0308BF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9056-F913-4D22-A017-D89D8DAAE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8892-11C5-4722-AFC7-DA9AFFA0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F007-1513-4E9F-9A72-344D26CE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7D79-0CE6-430C-A853-AA552B081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B103-2BFF-478D-AB45-500A62A7A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4722-4598-4976-9EA8-69D638AAB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53A1-90DC-4CA0-A712-16120426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C9E6-3DE4-49D2-9C40-973D50A46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490-3A19-4610-A0BA-56F52937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899E-A7DF-45C8-ACAA-6640F35F8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29D8-E5CA-407F-A484-A09550896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C5DC-4908-4477-8865-9C13719B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57C2-9596-4756-8836-C8A1ADB4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A676-0C3C-43D2-BDC4-EADD99FBE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0119-724A-43DB-91D7-149786A87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BC2D-D47A-4961-8471-FA9247A3D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9D69-927E-4AB2-841D-FF2D6981E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FB98-D2E0-4EF1-BAB9-C911BA55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A3C1-B26D-4CBA-B54E-8701A8CEB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975D-C2B1-444C-8572-70BFED36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998-F3A2-4FA2-9340-1F805B2F0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96B9-C39E-425B-B5E0-4329ADA4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B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ROCKIN' ROBIN" IN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HRISTOPHER ROBIN'S MOST FAMOUS FICTIONAL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GRA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BATMAN'S ORIGINAL SIDEKICK ROB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MANUFACTURER MADE A 3-WHEELED CAR CALLED THE ROBIN FOR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D  MA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IRLFRIEND OF ROBIN 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ARE PLAYED IN A ROUND-ROBIN TOURNAMENT BETWEEN     10 DIFFERENT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WAS ROBIN WILLIAMS NOMINATED FOR AN OSCAR?  2, 4, OR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IN GIBB WAS A MEMBER OF WHAT POP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RRED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BATMAN'S ORIGINAL SIDEKICK ROB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62040" y="426708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,  WISCONSIN,  or  CONNECTI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2600" y="762120"/>
            <a:ext cx="8038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N ROBIN IS THE STATE BIRD OF 3 U.S. STATES.  NAME ANY ONE OF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ROCKIN' ROBIN" IN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–THE–P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HRISTOPHER ROBIN'S MOST FAMOUS FICTIONAL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MANUFACTURER MADE A 3-WHEELED CAR CALLED THE ROBIN FOR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IRLFRIEND OF ROBIN 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ARE PLAYED IN A ROUND-ROBIN TOURNAMENT BETWEEN     10 DIFFERENT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S WAS ROBIN WILLIAMS NOMINATED FOR AN OSCAR?  2, 4, OR 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IN GIBB WAS A MEMBER OF WHAT POP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BIN THICKE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N ROBIN IS THE STATE BIRD OF 3 U.S. STATES.  NAME ANY ONE OF 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3-03T17:04:10Z</dcterms:modified>
  <cp:revision>356</cp:revision>
  <dc:subject/>
  <dc:title>Slide 1</dc:title>
</cp:coreProperties>
</file>