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7B6A-BAEF-4A58-9249-1AD63E43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383-9072-4233-9E6C-91C95CCA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E06-CDAF-4E0D-AB5F-FA5D7B9F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5AF-B1FC-4858-A820-82B92728B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7D68-3835-4976-93B4-7E09160F0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6C21-28AA-4EC4-A759-D7F33A74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0C1-ACE5-4FE7-BA25-79492017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73E2-8323-4A99-B588-7F216C46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40BA-6B54-45B3-A5AE-078C944A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7A01-C40B-47C6-8DD9-E3C31D34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612A-D7E5-42B3-BF04-2C10853F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02D-E37A-4E26-A876-CFBC89C8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CD7-EBD4-4641-8FAC-6E2DCB3D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2C3B-8673-4637-AAAB-2939773C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CF27-50C4-4964-AC47-7C781605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4993-9F4E-41E9-AD10-5EB9BB31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A50-757D-49B6-B339-B70C3D16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F403-4AD9-478C-B813-9E7855BE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684F-DB82-42FF-9435-B3A0E8DB3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06E8-62D4-4AEA-856B-F43B7B1A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5BC-0BF6-4D4A-9A38-6BC384B7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07F-B063-4D0B-89C8-3922733E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E3A3-6B31-45B9-B9D1-0BAD55F93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 (THANKS SYLVI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APOCALYPSE NOW", WHAT DOES ROBERT DUVALL'S CHARACTER LIKE TO SMELL IN THE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5440" y="762120"/>
            <a:ext cx="849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9, EL SALVADOR AND HONDURAS FOUGHT A WAR NAMED AFTE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952880"/>
            <a:ext cx="8534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WOLFGANG  VON  GOE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19040" y="762120"/>
            <a:ext cx="8305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3560" y="762120"/>
            <a:ext cx="8156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"FIRST C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N OF WHAT ACTRESS TRIED TO ASSASSINATE PRESIDENT RONALD REAGAN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1120" y="762120"/>
            <a:ext cx="778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HAVE WALKED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N-MADE OBJECT TO BREAK THE SOUND BARR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THING SAID BY CHARLES FOSTER KANE IN THE FILM "CITIZEN K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52480" y="4419720"/>
            <a:ext cx="5639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  AND  THE  SEVEN  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8640" y="762120"/>
            <a:ext cx="714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EATURE-LENGTH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6720" y="762120"/>
            <a:ext cx="835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0040" y="762120"/>
            <a:ext cx="814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STARRED IN SEVERAL EUROPEAN-PRODUCED "SPAGHETTI WESTER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0040" y="762120"/>
            <a:ext cx="814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APOCALYPSE NOW", WHAT DOES ROBERT DUVALL'S CHARACTER LIKE TO SMELL IN THE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9, EL SALVADOR AND HONDURAS FOUGHT A WAR NAMED AFTE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"FIRST C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6440" y="762120"/>
            <a:ext cx="887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N OF WHAT ACTRESS TRIED TO ASSASSINATE PRESIDENT RONALD REAGAN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HAVE WALKED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N-MADE OBJECT TO BREAK THE SOUND BARR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THING SAID BY CHARLES FOSTER KANE IN THE FILM "CITIZEN K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7320" y="761760"/>
            <a:ext cx="756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EATURE-LENGTH ANIMATED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2600" y="761760"/>
            <a:ext cx="857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STARRED IN SEVERAL EUROPEAN-PRODUCED "SPAGHETTI WESTER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19T13:39:17Z</dcterms:modified>
  <cp:revision>407</cp:revision>
  <dc:subject/>
  <dc:title>Slide 1</dc:title>
</cp:coreProperties>
</file>