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01A3-B6C4-43F4-89D1-DB8119BA2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6A92-7A62-4054-9E4D-594094A7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0229-69C3-428B-AF44-DF5663AE6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5F29-E91D-4B7A-833A-65A58BB2B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E306-D838-455D-A9B1-F5434D641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618E-1B24-40A6-8B1E-02143AC09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E2A2-2505-4B3A-9CFA-33C5C8C4E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F73B-5C91-438F-87B7-33C62E592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DD89-5594-4C91-964F-BB0BDD91E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4876-011B-47D1-B742-F4FEAA92D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FFD0-2FE8-497E-BC3A-EF3A7DD90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442E-12CF-4F20-9626-C9783C7D0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DA19-D3E3-480B-9CEF-B2560E872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AB6D-7936-4EF8-ACEA-8F6823E4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C120-07C5-464E-9D0E-373914CBD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FB89-C211-45AD-93B6-E8900F5B0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0E49-F2C5-47A4-86AB-EFAF43C3E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46CF-B952-49B1-9053-37CB918FF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EFE0-87A4-4990-B916-388BA82B9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4B36-91B6-4A5F-85FB-0BF0FD2D6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BB55-A67B-4E44-8BB7-05541DA4A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1C3C-EC89-461D-8190-6535979BF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5023-0FA6-49CE-AB4B-551E283C4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 (THANKS SYLVI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6520" y="761760"/>
            <a:ext cx="8130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APOCALYPSE NOW", WHAT DOES ROBERT DUVALL'S CHARACTER LIKE TO SMELL IN THE MOR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25440" y="762120"/>
            <a:ext cx="849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9, EL SALVADOR AND HONDURAS FOUGHT A WAR NAMED AFTER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04920" y="4952880"/>
            <a:ext cx="85341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  WOLFGANG  VON  GOE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19040" y="762120"/>
            <a:ext cx="8305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U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3560" y="762120"/>
            <a:ext cx="8156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ILL CLINTON'S "FIRST C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DIE  F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8240" y="762120"/>
            <a:ext cx="88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AN OF WHAT ACTRESS TRIED TO ASSASSINATE PRESIDENT RONALD REAGAN IN 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1120" y="762120"/>
            <a:ext cx="778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EN HAVE WALKED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AN-MADE OBJECT TO BREAK THE SOUND BARR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B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THING SAID BY CHARLES FOSTER KANE IN THE FILM "CITIZEN K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752480" y="4419720"/>
            <a:ext cx="5639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  WHITE  AND  THE  SEVEN  DWA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98640" y="762120"/>
            <a:ext cx="714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EATURE-LENGTH ANIMATED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6720" y="762120"/>
            <a:ext cx="8350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U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NT  EAST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0040" y="762120"/>
            <a:ext cx="814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CTOR STARRED IN SEVERAL EUROPEAN-PRODUCED "SPAGHETTI WESTER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P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0040" y="762120"/>
            <a:ext cx="8142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APOCALYPSE NOW", WHAT DOES ROBERT DUVALL'S CHARACTER LIKE TO SMELL IN THE MOR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9, EL SALVADOR AND HONDURAS FOUGHT A WAR NAMED AFTER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6520" y="761760"/>
            <a:ext cx="8130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ILL CLINTON'S "FIRST C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6440" y="762120"/>
            <a:ext cx="887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AN OF WHAT ACTRESS TRIED TO ASSASSINATE PRESIDENT RONALD REAGAN IN 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EN HAVE WALKED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AN-MADE OBJECT TO BREAK THE SOUND BARRI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THING SAID BY CHARLES FOSTER KANE IN THE FILM "CITIZEN K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87320" y="761760"/>
            <a:ext cx="7569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EATURE-LENGTH ANIMATED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82600" y="761760"/>
            <a:ext cx="857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CTOR STARRED IN SEVERAL EUROPEAN-PRODUCED "SPAGHETTI WESTER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9-19T13:39:17Z</dcterms:modified>
  <cp:revision>407</cp:revision>
  <dc:subject/>
  <dc:title>Slide 1</dc:title>
</cp:coreProperties>
</file>