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3176-0118-4E89-9269-DC559FA16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E191-9CB1-450E-8EFD-13AB89C67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8AF9-91C0-4922-A437-D9EC9FF56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334F-D896-4F93-B2C9-6D32AF9B4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B08B-96C8-4AA4-9745-AEB8BFF78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F08E-591D-448E-8F6D-E49709B82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046B-3F5E-4BD8-8E87-B5CEA9808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CC68-067C-4BC2-A21C-232DD4100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2D35-8468-460A-A07A-191E00158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6A09-0724-4538-8EB8-D4F74F8BF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6653-AC43-4E7B-A5B0-0E29A2EA4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8CF3-0B8C-43BA-8BB6-A1EA0003E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F988E-3AE7-4A53-85A7-47D222F86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3FBD-A7F7-4747-B782-37D580F40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6E5D-60CF-4037-89BE-FB11737ED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494C-2CC7-477C-B09D-B18702425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CECC-9CB4-4C9D-8528-C24AEEAB4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2E23-649C-46B8-BD44-190604445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37F5-1EC0-4B76-A6E2-B270A7152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5C99-106B-4184-B3D9-819025839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E819-9430-4A04-A251-F0EAD0FFD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BF21-0D0D-4E70-81A8-2583BF2B1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F81B-6C4C-4BBE-958E-449C6B89E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2193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OMPANIES HAVE THESE TAG LINES?  (THANKS DEBORAH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47800" y="761760"/>
            <a:ext cx="7448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AG LINE "DON'T HATE ME BECAUSE I'M BEAUTIFU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85880" y="762120"/>
            <a:ext cx="757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AG LINE "THINK DIFFERE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Y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03440" y="762120"/>
            <a:ext cx="77371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AG LINE "OH, WHAT A FEEL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R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44520" y="762120"/>
            <a:ext cx="8453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AG LINE "BECAUSE YOU'RE WORTH 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CA  C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38360" y="774720"/>
            <a:ext cx="7665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AG LINE "IT'S THE REAL TH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306440" y="762120"/>
            <a:ext cx="6529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AG LINE "JUST DO 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CO  B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61960" y="762120"/>
            <a:ext cx="8020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AG LINE "THINK OUTSIDE THE B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D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17400" y="762120"/>
            <a:ext cx="7909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AG LINE "IT TAKES A TOUGH MAN TO MAKE A TENDER CHICK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RR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88960" y="762120"/>
            <a:ext cx="796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AG LINE "WE ARE THE COMPETI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42960" y="762120"/>
            <a:ext cx="7856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AG LINE "OH, WHAT A FEEL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S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35120" y="698400"/>
            <a:ext cx="76737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AG LINE "INSPIRE THE WORLD, CREATE THE FUTU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NT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19080" y="762120"/>
            <a:ext cx="7305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AG LINE "DON'T HATE ME BECAUSE I'M BEAUTIFU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38280" y="762120"/>
            <a:ext cx="7867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AG LINE "THINK DIFFERE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18600" y="761760"/>
            <a:ext cx="8504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AG LINE "BECAUSE YOU'RE WORTH I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00200" y="762120"/>
            <a:ext cx="7742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AG LINE "IT'S THE REAL TH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74760" y="762120"/>
            <a:ext cx="6594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AG LINE "JUST DO I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2520" y="761760"/>
            <a:ext cx="8238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AG LINE "THINK OUTSIDE THE B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28480" y="761760"/>
            <a:ext cx="8087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AG LINE "IT TAKES A TOUGH MAN TO MAKE A TENDER CHICK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46040" y="761760"/>
            <a:ext cx="8251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AG LINE "WE ARE THE COMPETI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25040" y="761760"/>
            <a:ext cx="7691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AG LINE "INSPIRE THE WORLD, CREATE THE FUTU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09-19T13:43:36Z</dcterms:modified>
  <cp:revision>371</cp:revision>
  <dc:subject/>
  <dc:title>Slide 1</dc:title>
</cp:coreProperties>
</file>