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8A7A-08C8-45BD-AA19-F6FE82225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C9A3-9217-439E-A229-65AE2AE84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8423-00DD-4099-BCA4-E9E110D33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96A8-4B38-4F80-BB96-AB6CB7AAA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4134-E2F9-44D0-A56A-4C205D3A0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DFEC-DD21-447C-B0E2-7A8902590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2AFA-137F-4E11-9CBD-D4470DF0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0B77-1B51-408E-8F16-D1C7E8D1A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B945-A5EF-4A13-9E62-9A5F2DA87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91FD-CBD1-453D-A754-3948FC93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D240-A0A2-43C0-AEDB-04435FDD2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E7C2-998A-47F5-8C4E-FD3EC3F57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D057-32BB-4726-9D15-42BB50860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430C-B75F-4AA8-99D5-5BF35EB50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206F-1116-46F9-B1A9-D4CD02931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C944-C3DE-4204-92AF-58794C6B7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6EE0-8D8D-43F9-8969-3EC97C933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DDF2-BB68-4AB6-958F-3BC0B7BD2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F7C1-0077-4F09-986D-545DF683C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4E21-0037-45C8-83C7-806A178D4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BFF5-E4E0-48BB-8D50-F491BA585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B1B2-5E7E-48F9-BFB6-1853E1101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B071-B2E7-4E83-B3E1-1DCB2945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MPANIES HAVE THESE TAG LINES?  (THANKS DEBORA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7800" y="761760"/>
            <a:ext cx="7448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DON'T HATE ME BECAUSE I'M BEAUTIF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85880" y="762120"/>
            <a:ext cx="757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THINK DIFFER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03440" y="762120"/>
            <a:ext cx="773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OH, WHAT A FEE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4520" y="762120"/>
            <a:ext cx="8453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BECAUSE YOU'RE WORTH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A 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38360" y="774720"/>
            <a:ext cx="7665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IT'S THE REAL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306440" y="762120"/>
            <a:ext cx="6529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JUST DO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CO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1960" y="762120"/>
            <a:ext cx="802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THINK OUTSIDE THE B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D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17400" y="762120"/>
            <a:ext cx="7909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IT TAKES A TOUGH MAN TO MAKE A TENDER CHICK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R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88960" y="762120"/>
            <a:ext cx="796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WE ARE THE COMPETI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42960" y="762120"/>
            <a:ext cx="7856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OH, WHAT A FEE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35120" y="698400"/>
            <a:ext cx="7673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INSPIRE THE WORLD, CREATE THE FU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T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9080" y="762120"/>
            <a:ext cx="7305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DON'T HATE ME BECAUSE I'M BEAU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THINK DIFFER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8600" y="761760"/>
            <a:ext cx="8504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BECAUSE YOU'RE WORTH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00200" y="762120"/>
            <a:ext cx="774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IT'S THE REAL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74760" y="762120"/>
            <a:ext cx="659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JUST DO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THINK OUTSIDE THE B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IT TAKES A TOUGH MAN TO MAKE A TENDER CHICK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WE ARE THE COMPETI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INSPIRE THE WORLD, CREATE THE FUTU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9-19T13:43:36Z</dcterms:modified>
  <cp:revision>371</cp:revision>
  <dc:subject/>
  <dc:title>Slide 1</dc:title>
</cp:coreProperties>
</file>