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4473-CD7A-4E47-B4A0-46BCC9CCD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59BF-37FF-4076-9902-3B7BF2AA9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DABA-59E1-466C-9238-A866789A8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0501-AC48-45AF-84BD-B410BEDC1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26BE-F757-43FA-8D3C-EE0D0077F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1258-7771-466B-B11D-4E28B8E89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23F0-C2B2-4AD9-80B2-2D0D1F8D5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0AE6-EDD4-407B-B3D4-87D8C1A03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9F77-7035-443D-82CC-71077F22E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D192-358A-4B9D-A48C-BCD6C6AEC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CAFA-7771-4A65-8534-1E6BD4484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17DD-9A28-4507-9C73-D9EFE718B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466E-AE85-41BA-9581-E4D23C781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776D-056E-4B55-A188-EB04A864A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00B8-C79F-4768-811E-14E3A3EFE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CA2C-5271-438F-BF6B-21EAAA988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CB9F-54FD-4427-BFD7-4AD24018A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F872-ECCA-4D18-8139-EABCC02B6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8E39-5D63-4667-801A-6E0B0BF0D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B938-7E23-43A9-BF33-7C3303E5C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E408-D5CB-47FF-B3E8-C4CAC8C7C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0D00-F895-46BB-9C1B-5CFCB9510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E55B-4F18-4CF4-9DC8-877315485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 REC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95160" y="761760"/>
            <a:ext cx="7753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IN MORE INSTAGRAM POSTS THAN ANY OTHER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COLLECTION OF "STAR WARS" MEMORABILIA CONTAINS HOW MANY ITEMS?  25, 50, OR 100 THOUS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828800" y="4876920"/>
            <a:ext cx="5486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19000" y="762120"/>
            <a:ext cx="7506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F FINGERS THAT AN ALIVE PERSON HAS?  12, 14, OR 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F ICE CREAM SCOOPS BALANCED ON A CAKE CONE?  61, 91, OR 12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TERNATIONAL  SPACE  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28880" y="68580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EXPENSIVE MAN-MADE OBJECT, COSTING OVER $100 BILL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54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  M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04840" y="73980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SPEED ACHIEVED ON AN ELECTRIC SKATEBOARD?  60, 80, OR 100 M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  MILLION  M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66720" y="762120"/>
            <a:ext cx="7810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ONGEST DISTANCE ONE CAR WAS EVER DRIVEN WAS A 1966 VOLVO, WHICH HAS BEEN DRIVEN HOW FAR?      1, 2, OR 3 MILLION MI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8 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81200" y="762120"/>
            <a:ext cx="7581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TIME  IN WHICH A TEAM OF 4 GOLFERS HAS COMPLETED A PAR-5 HOLE OF GOLF?  22, 28, OR 34 SECO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COIN MADE OF PURE GOLD WEIGHS HOW MANY POUNDS?     22, 222, OR 222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F FINGERS THAT AN ALIVE PERSON HAS?  12, 14, OR 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.5  H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61920" y="762120"/>
            <a:ext cx="7220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ASTEST     MARATHON RUN BY SOMEONE CARRYING A   100 POUND BACKPACK?            4.5, 6.5, OR 8.5 HOU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IN MORE INSTAGRAM POSTS THAN ANY OTHER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0  THOU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COLLECTION OF "STAR WARS" MEMORABILIA CONTAINS HOW MANY ITEMS?  25, 50, OR 100 THOUS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F ICE CREAM SCOOPS BALANCED ON A CAKE CONE?  61, 91, OR 12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28880" y="68580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EXPENSIVE MAN-MADE OBJECT, COSTING OVER $100 BILL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4040" y="7621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SPEED ACHIEVED ON AN ELECTRIC SKATEBOARD?  60, 80, OR 100 MP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ONGEST DISTANCE ONE CAR WAS EVER DRIVEN WAS A 1966 VOLVO, WHICH HAS BEEN DRIVEN HOW FAR?      1, 2, OR 3 MILLION MI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TIME  IN WHICH A TEAM OF 4 GOLFERS HAS COMPLETED A PAR-5 HOLE OF GOLF?  22, 28, OR 34 SECO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68544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COIN MADE OF PURE GOLD WEIGHS HOW MANY POUNDS?     22, 222, OR 222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76400" y="762120"/>
            <a:ext cx="6991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ASTEST     MARATHON RUN BY SOMEONE CARRYING A 100 POUND BACKPACK?            4.5, 6.5, OR 8.5 HOU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1-06-22T13:22:23Z</dcterms:modified>
  <cp:revision>334</cp:revision>
  <dc:subject/>
  <dc:title>Slide 1</dc:title>
</cp:coreProperties>
</file>