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1BC3-DC5B-487E-BCEB-44CD4DA70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1A97-920A-475F-A854-556CD7742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96D2-8027-4A8B-9241-8743D411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6CF4-A5BD-44A2-B068-18DBD5C2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A167-662E-4E8A-A865-A693001DD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B100-860D-48B2-B0BB-8A0F6B7D9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2597-F635-4E78-8E47-CE5B59931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8A4D-3698-4781-97BD-00B5B6727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654F-16E1-4FB4-91F4-07588B181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EC8F-B324-48AC-A1C3-66541349D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7361-F5BA-4D42-9F29-D87740D17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850A-14AE-4F0E-B0B4-01F669D47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D678-441E-4AC5-AB28-250C18D8A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051A5-2F5F-4812-BF0D-D4A3AA7D3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45F9-4990-4586-B4BD-529451098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5663-5251-42EC-9C04-A678AB680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5BD6-0205-4B55-BA18-6CD8845EF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2A1F-2609-4A5A-959C-221E9BC61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A11C-3BE6-4E8C-AC2A-86DAB4726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909A-81BC-45E9-8020-97BA4985C4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0A18-DDE2-4450-8655-379B8784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7D8C-022F-40E8-A9B7-90E6A1782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96FD-EFA9-4E39-A3E7-5B494ED36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RECOR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IN MORE INSTAGRAM POSTS THAN ANY OTHER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COLLECTION OF "STAR WARS" MEMORABILIA CONTAINS HOW MANY ITEMS?  25, 50, OR 100 THOUS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828800" y="4876920"/>
            <a:ext cx="5486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19000" y="762120"/>
            <a:ext cx="7506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FINGERS THAT AN ALIVE PERSON HAS?  12, 14, OR 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ICE CREAM SCOOPS BALANCED ON A CAKE CONE?  61, 91, OR 12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RNATIONAL  SPACE  S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028880" y="6858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XPENSIVE MAN-MADE OBJECT, COSTING OVER $100 BI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54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0  M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04840" y="73980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SPEED ACHIEVED ON AN ELECTRIC SKATEBOARD?  60, 80, OR 100 M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  MILLION  M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ONGEST DISTANCE ONE CAR WAS EVER DRIVEN WAS A 1966 VOLVO, WHICH HAS BEEN DRIVEN HOW FAR?      1, 2, OR 3 MILLION M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8  SEC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81200" y="762120"/>
            <a:ext cx="7581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TIME  IN WHICH A TEAM OF 4 GOLFERS HAS COMPLETED A PAR-5 HOLE OF GOLF?  22, 28, OR 34 SECO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COIN MADE OF PURE GOLD WEIGHS HOW MANY POUNDS?     22, 222, OR 222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FINGERS THAT AN ALIVE PERSON HAS?  12, 14, OR 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.5 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61920" y="762120"/>
            <a:ext cx="7220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ASTEST     MARATHON RUN BY SOMEONE CARRYING A   100 POUND BACKPACK?            4.5, 6.5, OR 8.5 HOU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S IN MORE INSTAGRAM POSTS THAN ANY OTHER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0  THOUS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COLLECTION OF "STAR WARS" MEMORABILIA CONTAINS HOW MANY ITEMS?  25, 50, OR 100 THOUS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F ICE CREAM SCOOPS BALANCED ON A CAKE CONE?  61, 91, OR 12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28880" y="68580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EXPENSIVE MAN-MADE OBJECT, COSTING OVER $100 BILLI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040" y="7621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SPEED ACHIEVED ON AN ELECTRIC SKATEBOARD?  60, 80, OR 100 MP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39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ONGEST DISTANCE ONE CAR WAS EVER DRIVEN WAS A 1966 VOLVO, WHICH HAS BEEN DRIVEN HOW FAR?      1, 2, OR 3 MILLION M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TIME  IN WHICH A TEAM OF 4 GOLFERS HAS COMPLETED A PAR-5 HOLE OF GOLF?  22, 28, OR 34 SECO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68544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COIN MADE OF PURE GOLD WEIGHS HOW MANY POUNDS?     22, 222, OR 222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076400" y="762120"/>
            <a:ext cx="6991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ASTEST     MARATHON RUN BY SOMEONE CARRYING A 100 POUND BACKPACK?            4.5, 6.5, OR 8.5 HOU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1-06-22T13:22:23Z</dcterms:modified>
  <cp:revision>334</cp:revision>
  <dc:subject/>
  <dc:title>Slide 1</dc:title>
</cp:coreProperties>
</file>