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5F5D-77AA-4288-89D7-8D87854D6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093D-132F-4A2B-8905-9239F71F1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650C-0D40-4F18-B911-5BBD33F18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DB03-2816-4210-9204-062090EEC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6CA8-974C-4BC8-90D0-98687FBF7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7C74-8C2B-4433-BBC7-B29187F48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9C96-C6D7-4D32-8872-8E0BF0B6A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FBD8-4CE7-48BA-8662-ED4B0D18A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4DD2-1E53-4A34-8F06-251D4F2E1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3D5E-83F5-480D-9877-B291FDBA1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725C-2A6F-416A-8817-F50E8FBDC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E895-2B8A-4B77-B78E-2B3AE4F51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E008-37C6-4B8F-9486-5621E3990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44B2-C0E1-4FEE-96E2-9A16326A0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2AE9-9E46-4E91-BB8A-2E047949F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2984-5D6B-4EB8-9B37-2304C6B01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3F62-C4C8-44AB-98DE-D80C129E3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16C2-4517-4FB6-92E7-F0E6C988A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2134-3209-49F6-A345-79869A4A0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57EB-3C98-4DC0-9517-B850C5416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F89B-1360-4E18-B71A-EF019E1CB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6786-E9CF-4943-8ACD-F108E70D7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CE25-11F5-4611-8D44-C7F9AA848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MO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NIVERSARY IS TYPICALLY REFERRED TO AS THE DIAMOND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MONDS ARE MOSTLY MADE OF WHAT EL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66760" y="76212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LBUM "DIAMOND DOGS", CONTAINING THE HIT SONG "REBEL REBEL", WAS RELEASED IN 1974 BY WHAT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X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ES THE KING OF DIAMONDS PLAYING CARD HOLD A SWORD, AXE, OR SCEP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04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MOND IS THE BIRTHSTONE OF WHAT SPRING MON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096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UE DIAMOND GROWERS SPECIALIZES IN PRODUCING WHAT FOOD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IGN CONTAINING WHAT COLOR DIAMOND SIGNIFIES THE HARDEST DIFFICULTY OF SKI SL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  DIAMOND  PHIL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THE FILM     "LA BAMBA" HAS DIAMOND AS HIS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952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'S FIELD IS TYPICALLY REFERRED TO AS A DIAM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LBUM "DIAMOND DOGS", CONTAINING THE HIT SONG "REBEL REBEL", WAS RELEASED IN 1974 BY WHAT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OF THE 10 LARGEST DIAMOND MINES IN THE WORLD ARE LOCATED IN WHAT COUNTRY? SOUTH AFRICA, BOTSWANA, OR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R  75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NIVERSARY IS TYPICALLY REFERRED TO AS THE DIAMOND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76240" y="76212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MONDS ARE MOSTLY MADE OF WHAT EL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ES THE KING OF DIAMONDS PLAYING CARD HOLD A SWORD, AXE, OR SCEP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MOND IS THE BIRTHSTONE OF WHAT SPRING MON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UE DIAMOND GROWERS SPECIALIZES IN PRODUCING WHAT FOOD PRODU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2396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IGN CONTAINING WHAT COLOR DIAMOND SIGNIFIES THE HARDEST DIFFICULTY OF SKI SL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THE FILM     "LA BAMBA" HAS DIAMOND AS HIS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'S FIELD IS TYPICALLY REFERRED TO AS A DIAM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OF THE 10 LARGEST DIAMOND MINES IN THE WORLD ARE LOCATED IN WHAT COUNTRY? SOUTH AFRICA, BOTSWANA, OR RUS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8T02:08:05Z</dcterms:created>
  <dc:creator>Jennifer Budzinski</dc:creator>
  <dc:description/>
  <dc:language>en-US</dc:language>
  <cp:lastModifiedBy>Erich Friedman</cp:lastModifiedBy>
  <dcterms:modified xsi:type="dcterms:W3CDTF">2020-09-04T13:31:37Z</dcterms:modified>
  <cp:revision>305</cp:revision>
  <dc:subject/>
  <dc:title>Slide 1</dc:title>
</cp:coreProperties>
</file>