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2A63-49BB-4A57-921A-786D513F0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6254-AEA5-4C08-9DBB-701E44404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FECE-E3B7-4A27-BE27-04D3D79AF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828F-7F83-4A85-AC77-ED9A2B53C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D005-0FD3-4D2A-A4AA-204ADEEB5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9ED5-3CFD-4DD6-85E7-2C6450911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C6F2-1CC3-41A9-A582-B7AC97362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69B8-1B95-4173-A769-8DBE897B0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B35A-D1D0-475C-923F-E783BAD06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BF8D-AC0E-4982-A8E2-E136A42B8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4F99-9D35-4BE5-817B-A35B12D19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2BB2-AA01-41EB-9EAA-789FFEF95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0E30-8781-4EFF-BE5B-0153F5F0A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23ED-B8A5-4362-A6F7-BDFE510C7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6CB5-3DB0-4A42-BE2F-46F8FE233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B16E-D8CD-4C6D-B3A8-A1F518418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2D00-C90B-4A8A-947A-5A69D2623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476A-4213-4A68-83CA-60D7B94BF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DB53-4644-4BC2-8AD1-0BE20DBBC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7E59-0BAC-4809-A386-2D92F4BAF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39BA-3ED2-471F-A3C8-A0743D8C8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EF9E-C12F-4E67-BD68-F5F97CCF0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67BC-0450-4674-B69D-7AF5CF1FC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MON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NNIVERSARY IS TYPICALLY REFERRED TO AS THE DIAMOND ANNIVER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MONDS ARE MOSTLY MADE OF WHAT EL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66760" y="76212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LBUM "DIAMOND DOGS", CONTAINING THE HIT SONG "REBEL REBEL", WAS RELEASED IN 1974 BY WHAT ART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X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ES THE KING OF DIAMONDS PLAYING CARD HOLD A SWORD, AXE, OR SCEP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04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MOND IS THE BIRTHSTONE OF WHAT SPRING MON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096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M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UE DIAMOND GROWERS SPECIALIZES IN PRODUCING WHAT FOOD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IGN CONTAINING WHAT COLOR DIAMOND SIGNIFIES THE HARDEST DIFFICULTY OF SKI SL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  DIAMOND  PHILL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THE FILM     "LA BAMBA" HAS DIAMOND AS HIS MIDDL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95280" y="7621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'S FIELD IS TYPICALLY REFERRED TO AS A DIAM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LBUM "DIAMOND DOGS", CONTAINING THE HIT SONG "REBEL REBEL", WAS RELEASED IN 1974 BY WHAT ART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 OF THE 10 LARGEST DIAMOND MINES IN THE WORLD ARE LOCATED IN WHAT COUNTRY? SOUTH AFRICA, BOTSWANA, OR RUS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53352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R  75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NNIVERSARY IS TYPICALLY REFERRED TO AS THE DIAMOND ANNIVER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76240" y="762120"/>
            <a:ext cx="739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MONDS ARE MOSTLY MADE OF WHAT EL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ES THE KING OF DIAMONDS PLAYING CARD HOLD A SWORD, AXE, OR SCEP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MOND IS THE BIRTHSTONE OF WHAT SPRING MON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UE DIAMOND GROWERS SPECIALIZES IN PRODUCING WHAT FOOD PRODU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2396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IGN CONTAINING WHAT COLOR DIAMOND SIGNIFIES THE HARDEST DIFFICULTY OF SKI SL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THE FILM     "LA BAMBA" HAS DIAMOND AS HIS MIDDL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'S FIELD IS TYPICALLY REFERRED TO AS A DIAM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 OF THE 10 LARGEST DIAMOND MINES IN THE WORLD ARE LOCATED IN WHAT COUNTRY? SOUTH AFRICA, BOTSWANA, OR RUSS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8T02:08:05Z</dcterms:created>
  <dc:creator>Jennifer Budzinski</dc:creator>
  <dc:description/>
  <dc:language>en-US</dc:language>
  <cp:lastModifiedBy>Erich Friedman</cp:lastModifiedBy>
  <dcterms:modified xsi:type="dcterms:W3CDTF">2020-09-04T13:31:37Z</dcterms:modified>
  <cp:revision>305</cp:revision>
  <dc:subject/>
  <dc:title>Slide 1</dc:title>
</cp:coreProperties>
</file>