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D9C8-CA83-42CC-9C77-3B3796AEF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C9C5-6D2F-45F6-86E8-1EA455819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0035-2981-4358-B3F1-4772D694E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431A-5231-41AB-8C4C-262DC8F16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C220-8964-4770-AB7E-E91D3574B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AFD0-4FA3-495C-931A-0F0507220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9B78-45D0-47A5-80A0-47495F379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BDF4-811E-4017-BE4E-E4CC976A7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C690-49B7-429B-B270-EC30B6531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4FCB-2506-49D7-9BE9-A54F6C4A2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D209-672E-485E-BC6A-F6B8C3EBF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E957-BE8B-4749-99CF-74B8FC791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BF35-AA5F-400B-8250-FA9744E5F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3D8A-C049-410D-B4E7-75A84DD98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3A3E-EB27-4FC2-B490-C70AEE4D1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DD6D-E8F9-4C38-87ED-BAA20BCAA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9092-C447-4C2A-9BD8-3F57C22C6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2B88-7189-45C1-A67A-EE7E7AFE4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6AF3-3A02-4282-ABC8-03F697B73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7C04-AF5A-427A-BC76-BACF51EB6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3AD5-D029-4E01-8ED9-F7873FE32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89AF-26EF-4C2B-A98D-629CC8024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77D0-AC9D-45E5-85D7-1E055FEAF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MON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NNIVERSARY IS TYPICALLY REFERRED TO AS THE DIAMOND ANNIVER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MONDS ARE MOSTLY MADE OF WHAT EL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66760" y="762120"/>
            <a:ext cx="8610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LBUM "DIAMOND DOGS", CONTAINING THE HIT SONG "REBEL REBEL", WAS RELEASED IN 1974 BY WHAT ART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X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ES THE KING OF DIAMONDS PLAYING CARD HOLD A SWORD, AXE, OR SCEP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04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R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MOND IS THE BIRTHSTONE OF WHAT SPRING MON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096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M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UE DIAMOND GROWERS SPECIALIZES IN PRODUCING WHAT FOOD PRODU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IGN CONTAINING WHAT COLOR DIAMOND SIGNIFIES THE HARDEST DIFFICULTY OF SKI SL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  DIAMOND  PHILL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THE FILM     "LA BAMBA" HAS DIAMOND AS HIS MIDDL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95280" y="762120"/>
            <a:ext cx="6629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'S FIELD IS TYPICALLY REFERRED TO AS A DIAMO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LBUM "DIAMOND DOGS", CONTAINING THE HIT SONG "REBEL REBEL", WAS RELEASED IN 1974 BY WHAT ART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 OF THE 10 LARGEST DIAMOND MINES IN THE WORLD ARE LOCATED IN WHAT COUNTRY? SOUTH AFRICA, BOTSWANA, OR RUS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53352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R  75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4920" y="762120"/>
            <a:ext cx="8534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NNIVERSARY IS TYPICALLY REFERRED TO AS THE DIAMOND ANNIVER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B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76240" y="762120"/>
            <a:ext cx="7391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MONDS ARE MOSTLY MADE OF WHAT EL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ES THE KING OF DIAMONDS PLAYING CARD HOLD A SWORD, AXE, OR SCEP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MOND IS THE BIRTHSTONE OF WHAT SPRING MON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UE DIAMOND GROWERS SPECIALIZES IN PRODUCING WHAT FOOD PRODU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2396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IGN CONTAINING WHAT COLOR DIAMOND SIGNIFIES THE HARDEST DIFFICULTY OF SKI SL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THE FILM     "LA BAMBA" HAS DIAMOND AS HIS MIDDL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'S FIELD IS TYPICALLY REFERRED TO AS A DIAMO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 OF THE 10 LARGEST DIAMOND MINES IN THE WORLD ARE LOCATED IN WHAT COUNTRY? SOUTH AFRICA, BOTSWANA, OR RUSS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8T02:08:05Z</dcterms:created>
  <dc:creator>Jennifer Budzinski</dc:creator>
  <dc:description/>
  <dc:language>en-US</dc:language>
  <cp:lastModifiedBy>Erich Friedman</cp:lastModifiedBy>
  <dcterms:modified xsi:type="dcterms:W3CDTF">2020-09-04T13:31:37Z</dcterms:modified>
  <cp:revision>305</cp:revision>
  <dc:subject/>
  <dc:title>Slide 1</dc:title>
</cp:coreProperties>
</file>