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7942-1200-4A42-B252-E09BB4546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CA82-4CBD-4E4A-A68F-2B685DEAA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B0FF-ED18-4DD7-8679-9166E065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88F1-7D8D-4A7B-AA9A-7A3EE5EC7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39CF-6BAD-4021-B709-2F7527C3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F18A-D3CD-49D3-8DAA-D49D57217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8448-5798-44D4-A29B-CB4571688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E639-43B2-406D-B7CF-B144147F3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CA7E-6720-4549-A2DE-B09D8252F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01E8-2BEE-4798-B3E7-37F92C0E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ABA7-2B9F-45CD-98D7-1E1E4821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9B1E-3A62-45FF-9703-E357FB0E0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CF00-429F-4951-AE15-FA91BC624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69FA-AA37-4D82-917F-7E0257B4B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C32E-C0C0-4B8D-95D1-EC62EBD1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CA43-0D08-43A0-946B-FFEAD704D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E09D-0E4E-41A0-9E4F-B22F94A0A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3E1D-8779-4D0A-BB4A-964789C6A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CBB6-2C8D-4FED-B8F5-EDC9A3CCF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D4E4-D597-4EA6-8061-6F848FA6C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B127-0434-4A20-9608-17B3EE7B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F9A5-B3C2-429E-B47D-42916779F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9D36-0ACF-4A69-8C52-C60BB96D6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62040" y="914400"/>
            <a:ext cx="78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(FULL CREDIT IF YOUR GUESS IS BETWEEN HALF AND TWICE THE ANSWER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"ALLOWANCE" OF AMERICAN CHILDREN   (IN DOLLARS PER WEEK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ILLIONAIRES ARE THER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62000" y="762120"/>
            <a:ext cx="7020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62080" y="762120"/>
            <a:ext cx="6819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DI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87692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762120"/>
            <a:ext cx="74678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BUY HALF OF ALL THE LOTTERY TICKET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61960" y="762120"/>
            <a:ext cx="802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 HOUSEHOLDS HAVE NEGATIVE NET WO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  B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0680" y="762120"/>
            <a:ext cx="8701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   OF DRUG KINGPIN PABLO ESCOBAR'S MONEY DID RATS EAT WHILE IT WAS IN STOR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750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DO AIRLINE TRAVELERS LEAVE AT SECURITY CHECKPOINTS IN THE U.S. EACH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92080" y="762120"/>
            <a:ext cx="7359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LL THE $2 BILLS WERE DISTRIBUTED EVENLY TO AMERICAN HOUSEHOLDS, HOW MANY WOULD EACH HOUSEHOLD G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46160" y="762120"/>
            <a:ext cx="705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AVERAG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.6 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63640" y="762120"/>
            <a:ext cx="741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PRODUCE A $1 B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66680" y="762120"/>
            <a:ext cx="7010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VERAGE "ALLOWANCE" OF AMERICAN CHILDREN   (IN DOLLARS PER WEEK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ILLIONAIRES ARE THER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MEDIA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COME IN THE WORLD (IN DOLLARS PER DA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BUY HALF OF ALL THE LOTTERY TICKETS S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6560" y="762120"/>
            <a:ext cx="821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MERICAN HOUSEHOLDS HAVE NEGATIVE NET WO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94760" y="761760"/>
            <a:ext cx="8751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HOW MUCH    OF DRUG KINGPIN PABLO ESCOBAR'S MONEY DID RATS EAT WHILE IT WAS IN STOR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1120" y="761760"/>
            <a:ext cx="7781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MONEY DO AIRLINE TRAVELERS LEAVE AT SECURITY CHECKPOINTS IN THE U.S. EACH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85880" y="762120"/>
            <a:ext cx="757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ALL THE $2 BILLS WERE DISTRIBUTED EVENLY TO AMERICAN HOUSEHOLDS, HOW MANY WOULD EACH HOUSEHOLD G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ES IT COST TO PRODUCE A $1 B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1-10-26T20:44:50Z</dcterms:modified>
  <cp:revision>381</cp:revision>
  <dc:subject/>
  <dc:title>Slide 1</dc:title>
</cp:coreProperties>
</file>