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CA35-5F36-4745-9D6F-24B69DBF3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3C47-E275-460C-A31A-97160D86E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0AA8-9176-48E5-A05D-54879A5FA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05B5-1100-49E9-9306-B61C4F86F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BB22-DA0D-452A-A965-A39BC2790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446F-548C-4386-AEB7-B30D41DA1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A0EB-88E4-473A-BD91-4D67F6B55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DA2A-79F3-486E-9D0B-C781FD0F3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8434-31BE-41C5-BFFB-B8310C7B3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6FFA-8CC0-40FC-8C4D-D91CCB59A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DD2F-0513-47C7-B32A-6CC315F06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4082-4AB9-4F9D-9D00-0082B0AD0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0ADA-93E9-401F-9CBE-2863C5E83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A943-1103-403B-B83A-5CCE75227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E70A-C465-4C8C-8B32-A48CCC582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CFFB-D81A-4B10-9E8C-AC4BD8BED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D104-159C-4236-AD62-99D2910C2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CF5A-49F6-418C-A699-5CF461A4E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0E65-ED97-4065-A233-D69B51466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9C27-7412-42C3-81E7-8067E1B0A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62BE-F6BC-4B29-88B0-A764B2D9B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1315-370E-47E8-A0DD-968B7F38B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9699-5954-40AD-9D7C-FC87F4954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62040" y="914400"/>
            <a:ext cx="7819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FULL CREDIT IF YOUR GUESS IS BETWEEN HALF AND TWICE THE ANSWER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VERAGE "ALLOWANCE" OF AMERICAN CHILDREN   (IN DOLLARS PER WEEK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BILLIONAIRES ARE THERE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$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062000" y="762120"/>
            <a:ext cx="7020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AVERAG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NCOME IN THE WORLD (IN DOLLARS PER DAY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$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162080" y="762120"/>
            <a:ext cx="6819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MEDIA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NCOME IN THE WORLD (IN DOLLARS PER DAY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87692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38080" y="762120"/>
            <a:ext cx="74678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 OF PEOPLE BUY HALF OF ALL THE LOTTERY TICKETS SO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4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61960" y="762120"/>
            <a:ext cx="8020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 OF AMERICAN HOUSEHOLDS HAVE NEGATIVE NET WO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1904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$2  BIL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20680" y="762120"/>
            <a:ext cx="8701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ROXIMATELY HOW MUCH    OF DRUG KINGPIN PABLO ESCOBAR'S MONEY DID RATS EAT WHILE IT WAS IN STOR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$750,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UCH MONEY DO AIRLINE TRAVELERS LEAVE AT SECURITY CHECKPOINTS IN THE U.S. EACH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92080" y="762120"/>
            <a:ext cx="7359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ALL THE $2 BILLS WERE DISTRIBUTED EVENLY TO AMERICAN HOUSEHOLDS, HOW MANY WOULD EACH HOUSEHOLD G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46160" y="762120"/>
            <a:ext cx="705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AVERAG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NCOME IN THE WORLD (IN DOLLARS PER DAY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790640" y="487692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.6 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63640" y="762120"/>
            <a:ext cx="7415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UCH DOES IT COST TO PRODUCE A $1 BI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$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66680" y="762120"/>
            <a:ext cx="70106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VERAGE "ALLOWANCE" OF AMERICAN CHILDREN   (IN DOLLARS PER WEEK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BILLIONAIRES ARE THERE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33640" y="761760"/>
            <a:ext cx="6876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MEDIA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NCOME IN THE WORLD (IN DOLLARS PER DAY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 OF PEOPLE BUY HALF OF ALL THE LOTTERY TICKETS SO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6560" y="762120"/>
            <a:ext cx="8210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 OF AMERICAN HOUSEHOLDS HAVE NEGATIVE NET WOR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94760" y="761760"/>
            <a:ext cx="8751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ROXIMATELY HOW MUCH    OF DRUG KINGPIN PABLO ESCOBAR'S MONEY DID RATS EAT WHILE IT WAS IN STORA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1120" y="761760"/>
            <a:ext cx="7781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UCH MONEY DO AIRLINE TRAVELERS LEAVE AT SECURITY CHECKPOINTS IN THE U.S. EACH Y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85880" y="762120"/>
            <a:ext cx="757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ALL THE $2 BILLS WERE DISTRIBUTED EVENLY TO AMERICAN HOUSEHOLDS, HOW MANY WOULD EACH HOUSEHOLD G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UCH DOES IT COST TO PRODUCE A $1 BI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8T19:29:26Z</dcterms:created>
  <dc:creator>Jennifer Budzinski</dc:creator>
  <dc:description/>
  <dc:language>en-US</dc:language>
  <cp:lastModifiedBy>Erich Friedman</cp:lastModifiedBy>
  <dcterms:modified xsi:type="dcterms:W3CDTF">2021-10-26T20:44:50Z</dcterms:modified>
  <cp:revision>381</cp:revision>
  <dc:subject/>
  <dc:title>Slide 1</dc:title>
</cp:coreProperties>
</file>