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A5B8-4C1F-436B-8AD5-85F679A97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E002-9743-4553-A96B-DFC606142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CCFB-31C4-4470-AC71-76EE647B4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3829-EC32-419F-88DF-41217C51D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4732-6FEC-4026-875A-75091D9B6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3376-93CE-4083-AB8F-971B92731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B665-7436-41D7-AE21-A58DD57B5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838C-6EBF-42A4-B5DE-C97FED8C3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22C3-AD61-4B77-82DD-AC13AD058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3023-DBBB-4689-BD78-2E08828B4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1A66-5634-42B1-95CB-4C39AD149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1477-9DC4-4821-B54A-D101CE3F7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BB98-BE29-481A-96FD-3BA1E8BBA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1CF9-7811-4694-925D-C8E65D5F4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C31D-3051-45F7-A2EB-0B5E169AD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83A2-7433-480D-99C9-140885ED3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BFDB-D4AA-40E0-8400-F5D44885D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9625-B6EF-42E6-8EFF-5834185B8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64B1-0CDC-4570-B5A9-48CD96785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B469-2220-4235-A797-0886BDC7A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C498-6E29-4C17-B22F-FD847722E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DB39-44D9-4213-9E08-37CCC3676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C59F-956F-42BC-A8DD-EFC0FC3EE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28760" y="990720"/>
            <a:ext cx="8286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UNTRY DOMINATES THESE SPORTS AT THE SUMMER OLYMPICS?     (ALL DIFFERENT ANSWE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76160" y="761760"/>
            <a:ext cx="759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WRESTLING AT THE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FENCING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47640" y="762120"/>
            <a:ext cx="7846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TABLE TENNIS AND DIVING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KO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36560" y="762120"/>
            <a:ext cx="7670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ARCHERY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BASKETBALL AND SWIMMING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666720" y="4876920"/>
            <a:ext cx="7810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6720" y="762120"/>
            <a:ext cx="781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VOLLEYBALL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479600" y="4876920"/>
            <a:ext cx="618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87560" y="762120"/>
            <a:ext cx="696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JUDO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47880" y="762120"/>
            <a:ext cx="724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BOXING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9880" y="762120"/>
            <a:ext cx="7462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SAILING AND CYCLING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2560" y="762120"/>
            <a:ext cx="777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TABLE TENNIS AND DIVING AT THE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2280" y="4876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71560" y="762120"/>
            <a:ext cx="7399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EQUESTRIAN EVENTS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11360" y="762120"/>
            <a:ext cx="7721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WRESTLING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1360" y="4876920"/>
            <a:ext cx="8801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66680" y="762120"/>
            <a:ext cx="7010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FENCING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89120" y="761760"/>
            <a:ext cx="756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ARCHERY AT THE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43120" y="762120"/>
            <a:ext cx="7456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BASKETBALL AND SWIMMING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42960" y="762120"/>
            <a:ext cx="7858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VOLLEYBALL AT THE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65240" y="762120"/>
            <a:ext cx="7012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JUDO AT THE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90640" y="761760"/>
            <a:ext cx="736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BOXING AT THE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SAILING AND CYCLING AT THE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08200" y="762120"/>
            <a:ext cx="7526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EQUESTRIAN EVENTS AT THE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7-12T12:38:09Z</dcterms:modified>
  <cp:revision>546</cp:revision>
  <dc:subject/>
  <dc:title>Slide 1</dc:title>
</cp:coreProperties>
</file>