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6718D-E4A4-4B94-921F-0DDC1BECD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6BCDC-A33A-4A53-877A-096FC109C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A4058-31F7-4432-92CB-2D8C2C93FC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1C7F7-C20F-433B-BBB6-4C2D7F941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A6EC1-74A3-47FB-8E47-CA3E33AF2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9F005-A5B4-40ED-B72F-6CA57F296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CD1DD-84AF-4F73-A5C0-777B8BA39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89938-C5CE-4E03-AEF9-47A55F3B36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8977C-0E94-4633-967B-73C027305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45DC6-62FB-4F72-919D-205C9C61A9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48255-5C71-4C6C-ADF5-9E64B7C251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63D98-8B93-4B72-9567-260D27844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72D16-F487-453C-9582-3C971369C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83D04-56A0-4759-8973-480039619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AA814-4FA0-42F5-BE35-ABC4DF569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A3456-4D09-44C7-90ED-6FD9A76904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E7B05-CC58-4F92-9F21-2599BB4AE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98852-E693-4F2B-BCB5-2AA8892E3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01542-CE17-45C8-874A-0FF52AD6F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BCB1D-02A1-49CB-8972-72C575DA8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B25D0-0797-47A5-B1B8-96E767186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44141-3331-4BFC-9187-95511DC48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56A53-9135-482E-ABA8-911667715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28760" y="990720"/>
            <a:ext cx="82864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COUNTRY DOMINATES THESE SPORTS AT THE SUMMER OLYMPICS?     (ALL DIFFERENT ANSWERS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76160" y="761760"/>
            <a:ext cx="7591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DOMINATES WRESTLING AT THE SUMMER OLYMPIC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1028880" y="762120"/>
            <a:ext cx="7086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DOMINATES FENCING AT THE SUMMER OLYMPIC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800280" y="4876920"/>
            <a:ext cx="7543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47640" y="762120"/>
            <a:ext cx="7846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DOMINATES TABLE TENNIS AND DIVING AT THE SUMMER OLYMPIC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228600" y="487692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UTH  KOR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736560" y="762120"/>
            <a:ext cx="76708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DOMINATES ARCHERY AT THE SUMMER OLYMPIC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.S.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DOMINATES BASKETBALL AND SWIMMING AT THE SUMMER OLYMPIC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666720" y="4876920"/>
            <a:ext cx="7810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AZ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666720" y="762120"/>
            <a:ext cx="7810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DOMINATES VOLLEYBALL AT THE SUMMER OLYMPIC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479600" y="4876920"/>
            <a:ext cx="6184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P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087560" y="762120"/>
            <a:ext cx="69688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DOMINATES JUDO AT THE SUMMER OLYMPIC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14480" y="4876920"/>
            <a:ext cx="8915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U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947880" y="762120"/>
            <a:ext cx="7246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DOMINATES BOXING AT THE SUMMER OLYMPIC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210960" y="4876920"/>
            <a:ext cx="8722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.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839880" y="762120"/>
            <a:ext cx="7462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DOMINATES SAILING AND CYCLING AT THE SUMMER OLYMPIC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2560" y="762120"/>
            <a:ext cx="7778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DOMINATES TABLE TENNIS AND DIVING AT THE SUMMER OLYMPIC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52280" y="4876920"/>
            <a:ext cx="8839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RMA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871560" y="762120"/>
            <a:ext cx="73994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DOMINATES EQUESTRIAN EVENTS AT THE SUMMER OLYMPIC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SS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711360" y="762120"/>
            <a:ext cx="77212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DOMINATES WRESTLING AT THE SUMMER OLYMPIC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71360" y="4876920"/>
            <a:ext cx="8801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TA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1066680" y="762120"/>
            <a:ext cx="70106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DOMINATES FENCING AT THE SUMMER OLYMPIC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89120" y="761760"/>
            <a:ext cx="7564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DOMINATES ARCHERY AT THE SUMMER OLYMPIC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43120" y="762120"/>
            <a:ext cx="7456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DOMINATES BASKETBALL AND SWIMMING AT THE SUMMER OLYMPIC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42960" y="762120"/>
            <a:ext cx="7858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DOMINATES VOLLEYBALL AT THE SUMMER OLYMPIC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065240" y="762120"/>
            <a:ext cx="7012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DOMINATES JUDO AT THE SUMMER OLYMPIC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890640" y="761760"/>
            <a:ext cx="7361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DOMINATES BOXING AT THE SUMMER OLYMPIC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819000" y="761760"/>
            <a:ext cx="7506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DOMINATES SAILING AND CYCLING AT THE SUMMER OLYMPIC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08200" y="762120"/>
            <a:ext cx="75261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DOMINATES EQUESTRIAN EVENTS AT THE SUMMER OLYMPIC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1-07-12T12:38:09Z</dcterms:modified>
  <cp:revision>546</cp:revision>
  <dc:subject/>
  <dc:title>Slide 1</dc:title>
</cp:coreProperties>
</file>