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F850-9F6C-4811-9513-D724D1EF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CAB4-05FC-4B55-9E7C-C50F1DF4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65D0-F8DD-4070-B4F5-EA6E04AA2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FF91-3F76-4D6B-ADF9-C4BB95A3C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6D92-E713-46B5-9113-E30FD2833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2A25-2646-4921-A69C-2FF15639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31DC-FC52-44B8-81CA-D1A69437B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F323-8AC4-4018-BAB8-FD1EE74A1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D43B-B724-4FEA-AEC2-ABA0863EB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DC4E-9607-427A-9ADD-B0F592F63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A9BD-B7F4-4935-A1F7-C1983FF58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01A8-5FAF-47CE-8FF6-A24176636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34ED-B3BD-40D8-BE84-1C089361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52D8-3E16-41F4-9DD4-C7BA7CF72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51B2-C699-47A3-878B-99958AE5A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4168-A58E-4E5B-8696-758E2A684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1D2C-53D8-4C18-915A-403AE182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2F4A-FB5E-4598-9984-273478D9F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227E-D235-4FD1-893D-213DD09F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0473-1469-48F3-AF7F-B80390241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7930-67CE-4289-A538-8A52CFED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D847-05D9-49DD-BF5A-66A4927CE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ADCA-C83E-47C5-8D0A-F6CE3DA3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AYS DO THESE GOOGLE DOODLES CELEBR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863640" y="1295280"/>
            <a:ext cx="74167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NTINE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PATRICK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984240" y="1295280"/>
            <a:ext cx="7175520" cy="31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OR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66720" y="1295280"/>
            <a:ext cx="78105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74640" y="1295280"/>
            <a:ext cx="5994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P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879480" y="1371600"/>
            <a:ext cx="7385040" cy="30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TERAN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666720" y="1295280"/>
            <a:ext cx="78105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684360" y="1295280"/>
            <a:ext cx="77752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BOR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704880" y="1311120"/>
            <a:ext cx="773424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  JR.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PENDENC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863640" y="1295280"/>
            <a:ext cx="74167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4240" y="1295280"/>
            <a:ext cx="7175520" cy="31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66720" y="1295280"/>
            <a:ext cx="78105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74640" y="1295280"/>
            <a:ext cx="5994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879480" y="1371600"/>
            <a:ext cx="73850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666720" y="1295280"/>
            <a:ext cx="78105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84360" y="1295280"/>
            <a:ext cx="7775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04880" y="1311120"/>
            <a:ext cx="7734240" cy="339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10-14T12:42:58Z</dcterms:modified>
  <cp:revision>289</cp:revision>
  <dc:subject/>
  <dc:title>Slide 1</dc:title>
</cp:coreProperties>
</file>