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BD20-B058-45BD-A251-D3E1A7925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629D-613A-40BF-B2A9-1FEF8914E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234C-2DDE-442D-B6AB-030694FDE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3104-3DD1-4461-90E1-FD20D9EC7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7E64-7F58-4256-BA00-96155556F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AEB4-E7E5-478F-B186-656CE34FB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17F1-CD2C-42C5-8CBA-05769F477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C391-D9D1-4EF9-A4CF-4400738C0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F896-154B-41D5-9FC9-397F59C6E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E2B6-4400-45EC-A281-992B3D82C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58FD-7094-478D-9316-279258D88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4267-B0A4-4714-B6F1-F881657A3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A95D-882B-4075-AF5A-5B55C2AC3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EF2D-2A50-464A-86ED-AA87554EA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060A-B313-4389-ABCF-0B7839D14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F4E3-8B8A-4EA6-89AA-CD18DEFD8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AE1C-10E3-4EA7-ADA5-AEC1E3681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3FDF-6E76-4629-9559-ED0E6B9DC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5D60-8C16-455B-BF35-AF8D27DC3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8749-9423-4148-960B-C5B7BAEF5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B16A-82CF-4F37-89E6-7E10E4311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B025-901C-46D7-9A67-AB50612E8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F354-D63F-4B24-B0A1-D10FD1181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37160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DAYS DO THESE GOOGLE DOODLES CELEBRAT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1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863640" y="1295280"/>
            <a:ext cx="741672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LENTINE'S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382240" cy="30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.  PATRICK'S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984240" y="1295280"/>
            <a:ext cx="7175520" cy="31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BOR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666720" y="1295280"/>
            <a:ext cx="781056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LOW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574640" y="1295280"/>
            <a:ext cx="599472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AP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879480" y="1371600"/>
            <a:ext cx="7385040" cy="300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TERAN'S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666720" y="1295280"/>
            <a:ext cx="781056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684360" y="1295280"/>
            <a:ext cx="777528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38224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BOR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704880" y="1311120"/>
            <a:ext cx="7734240" cy="339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TIN  LUTHER  KING  JR.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17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EPENDENCE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863640" y="1295280"/>
            <a:ext cx="741672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984240" y="1295280"/>
            <a:ext cx="7175520" cy="31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66720" y="1295280"/>
            <a:ext cx="781056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574640" y="1295280"/>
            <a:ext cx="59947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879480" y="1371600"/>
            <a:ext cx="7385040" cy="30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66720" y="1295280"/>
            <a:ext cx="781056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684360" y="1295280"/>
            <a:ext cx="77752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704880" y="1311120"/>
            <a:ext cx="7734240" cy="3397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1-10-14T12:42:58Z</dcterms:modified>
  <cp:revision>289</cp:revision>
  <dc:subject/>
  <dc:title>Slide 1</dc:title>
</cp:coreProperties>
</file>