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832F-4EDD-4872-B08A-4845C95A3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BC7-2ACB-48AA-A3F3-70A46B523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6F8C-0553-43A5-995B-8344F012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CB65-0482-4382-AD33-DB77F19DF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4BB4-BC83-45EC-8CD3-B2317B7F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D106-2E04-4B71-88FF-FCC8941B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2E3D-C5A8-4186-AEAA-1A9D4C86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BEAE-CD09-4D98-A239-27826190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FBF6-A77C-4260-A249-194A74225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365-CCD1-46BC-B162-BDC050260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5ACD-71AE-4CD9-9C64-5D65A24B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2B66-648B-4154-A1F8-D9BCE9618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C52F-71AD-49E2-B014-CBCE9466E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BFF3-2D43-41AD-BD93-BEF509316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762F-FCC9-449B-8964-B49EE6B15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07A1-2E3B-465B-91A2-8C4D0082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9687-996E-4C80-8EE3-BC5DCF20A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AE68-55A8-4E6B-9859-D3B301968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8354-C614-4FA8-A12D-380297422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61A9-DE65-4139-BE17-997EE42F8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153-FA4E-4C1E-BFC2-D890AC57A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9047-B28E-4644-ABFC-470934F2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ECFF-CDFD-414F-9115-791930562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ROTE "AN ESSAY ON MAN", WHICH VOLTAIRE CALLED "THE MOST BEAUTIFUL, THE MOST USEFUL, THE MOST SUBLIME DIDACTIC POEM EVER WRITTE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66560" y="762120"/>
            <a:ext cx="8210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AIN CHARACTER IN ERNEST HEMMINGWAY'S NOVEL "THE OLD MAN AND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9880" y="762120"/>
            <a:ext cx="7462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SHOULD YOU FLY FROM THE ISLE OF MAN TO GET TO LAND THE QUICKEST?  NORTH, SOUTH, EAST, OR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WAH  DIDDY  DI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7840" y="762120"/>
            <a:ext cx="6988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#1 SONG BY MANFRED MANN HAS A TITLE CONSISTING OF NONSENSE SYLLA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ANNUAL "BURNING MAN" EVENT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1284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'TIL 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PRIMARILY KNOWN FOR THEIR HIT SINGLE "VOICES CARRY", WAS AIMEE MANN THE LEAD SINGER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CHESTER, 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HAS THE INTERNATIONAL AIRPORT CODE "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POWER 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STAFFING FIRM IN THE U.S., AND HAS STICKER SYMBOL "MAN" ON THE NY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THAT'S ONE SMALL STEP FOR MAN, ONE GIANT LEAP FOR MAN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5960" y="762120"/>
            <a:ext cx="7729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SHOULD YOU FLY FROM THE ISLE OF MAN TO GET TO LAND THE QUICKEST?  NORTH, SOUTH, EAST, OR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F  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0280" y="762120"/>
            <a:ext cx="808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, WHOSE TITLE BEGINS WITH THE WORD "MAN", MADE MORE THAN    2/3 OF A BILLION DOLL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P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WROTE "AN ESSAY ON MAN", WHICH VOLTAIRE CALLED "THE MOST BEAUTIFUL, THE MOST USEFUL, THE MOST SUBLIME DIDACTIC POEM EVER WRITTE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85640" y="762120"/>
            <a:ext cx="8172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AIN CHARACTER IN ERNEST HEMMINGWAY'S NOVEL "THE OLD MAN AND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39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#1 SONG BY MANFRED MANN HAS A TITLE CONSISTING OF NONSENSE SYLLA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3640" y="762120"/>
            <a:ext cx="741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OES THE ANNUAL "BURNING MAN" EVENT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PRIMARILY KNOWN FOR THEIR HIT SINGLE "VOICES CARRY", WAS AIMEE MANN THE LEAD SINGER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HAS THE INTERNATIONAL AIRPORT CODE "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LARGEST STAFFING FIRM IN THE U.S., AND HAS STICKER SYMBOL "MAN" ON THE NY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THAT'S ONE SMALL STEP FOR MAN, ONE GIANT LEAP FOR MANK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5880" y="761760"/>
            <a:ext cx="811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FILM, WHOSE TITLE BEGINS WITH THE WORD "MAN", MADE MORE THAN    2/3 OF A BILLION DOLL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8T12:53:18Z</dcterms:modified>
  <cp:revision>376</cp:revision>
  <dc:subject/>
  <dc:title>Slide 1</dc:title>
</cp:coreProperties>
</file>