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FBF6E-6B20-47C1-8887-027028F42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C0F62-0754-4233-B9F4-C71588E2D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A7D5B-A895-46E1-AE25-329D9650A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68E09-B796-47CB-A81F-3118DF50F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319B1-A7B8-4875-97A4-CE581CA8B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23890-1C86-47A9-A805-CD4B0B41F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8C2E7-1D32-4660-9793-DABCCDFD2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EDC5B-08F6-4646-ADE4-E3ABF4964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38050-A8EA-4581-A330-38C8DCFA7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593FB-D71C-4ABE-BEE9-5C1EBE141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E9B9C-9948-4CF2-B6F8-F96765C16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0253B-9DDF-41B0-B60D-F7AABE757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D07BB-71B5-4E0B-824E-43FE80BE6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791BD-DA03-428C-B340-F93CD7F92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2A431-FD6B-42A5-946B-6E2E1D36A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B09DD-04AF-4700-86E0-7806B4B35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8F709-957E-401E-9E39-0E50C5C62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B9094-E9FB-44A0-BDF9-5F942D4DC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5DB8F-AE78-4B85-A38F-FFA6B1070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E988B-24DA-4344-A74E-C6FF5BC07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68CB3-0AE9-4CDF-BA61-E5608FC38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D7E7C-DF5C-4C93-A8BE-F971A13FA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7A31B-06AC-4C60-960E-E1EAD0A06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190600" y="1523880"/>
            <a:ext cx="4762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52440" y="761760"/>
            <a:ext cx="8439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SE WROTE "AN ESSAY ON MAN", WHICH VOLTAIRE CALLED "THE MOST BEAUTIFUL, THE MOST USEFUL, THE MOST SUBLIME DIDACTIC POEM EVER WRITTEN"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66560" y="762120"/>
            <a:ext cx="8210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MAIN CHARACTER IN ERNEST HEMMINGWAY'S NOVEL "THE OLD MAN AND THE SE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R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839880" y="762120"/>
            <a:ext cx="7462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RECTION SHOULD YOU FLY FROM THE ISLE OF MAN TO GET TO LAND THE QUICKEST?  NORTH, SOUTH, EAST, OR WE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  WAH  DIDDY  DID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077840" y="762120"/>
            <a:ext cx="69883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3 #1 SONG BY MANFRED MANN HAS A TITLE CONSISTING OF NONSENSE SYLLAB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V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331920" y="762120"/>
            <a:ext cx="8480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TATE DOES THE ANNUAL "BURNING MAN" EVENT TAKE PLA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1284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'TIL  TUE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34308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, PRIMARILY KNOWN FOR THEIR HIT SINGLE "VOICES CARRY", WAS AIMEE MANN THE LEAD SINGER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NCHESTER,  ENG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'S AIRPORT HAS THE INTERNATIONAL AIRPORT CODE "M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NPOWER 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57200" y="762120"/>
            <a:ext cx="822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IS THE LARGEST STAFFING FIRM IN THE U.S., AND HAS STICKER SYMBOL "MAN" ON THE NY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IL  ARMSTR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290520" y="762120"/>
            <a:ext cx="8562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ID "THAT'S ONE SMALL STEP FOR MAN, ONE GIANT LEAP FOR MANKI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05960" y="762120"/>
            <a:ext cx="7729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RECTION SHOULD YOU FLY FROM THE ISLE OF MAN TO GET TO LAND THE QUICKEST?  NORTH, SOUTH, EAST, OR WE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N  OF  STE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30280" y="762120"/>
            <a:ext cx="80834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3 FILM, WHOSE TITLE BEGINS WITH THE WORD "MAN", MADE MORE THAN    2/3 OF A BILLION DOLL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EXANDER  P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380880" y="762120"/>
            <a:ext cx="83822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SE WROTE "AN ESSAY ON MAN", WHICH VOLTAIRE CALLED "THE MOST BEAUTIFUL, THE MOST USEFUL, THE MOST SUBLIME DIDACTIC POEM EVER WRITTEN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NTIA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485640" y="762120"/>
            <a:ext cx="8172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MAIN CHARACTER IN ERNEST HEMMINGWAY'S NOVEL "THE OLD MAN AND THE SE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71560" y="761760"/>
            <a:ext cx="7399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3 #1 SONG BY MANFRED MANN HAS A TITLE CONSISTING OF NONSENSE SYLLAB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63640" y="762120"/>
            <a:ext cx="7416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TATE DOES THE ANNUAL "BURNING MAN" EVENT TAKE PLA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38040" y="762120"/>
            <a:ext cx="8467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, PRIMARILY KNOWN FOR THEIR HIT SINGLE "VOICES CARRY", WAS AIMEE MANN THE LEAD SINGER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036800" y="761760"/>
            <a:ext cx="7070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'S AIRPORT HAS THE INTERNATIONAL AIRPORT CODE "M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61880" y="761760"/>
            <a:ext cx="8220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IS THE LARGEST STAFFING FIRM IN THE U.S., AND HAS STICKER SYMBOL "MAN" ON THE NY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33360" y="761760"/>
            <a:ext cx="8477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ID "THAT'S ONE SMALL STEP FOR MAN, ONE GIANT LEAP FOR MANKI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15880" y="761760"/>
            <a:ext cx="811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3 FILM, WHOSE TITLE BEGINS WITH THE WORD "MAN", MADE MORE THAN    2/3 OF A BILLION DOLL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1-12-18T12:53:18Z</dcterms:modified>
  <cp:revision>376</cp:revision>
  <dc:subject/>
  <dc:title>Slide 1</dc:title>
</cp:coreProperties>
</file>